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593-D8F8-4C82-B0E1-46B52965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CD8-87F3-49C1-AC7E-F7696D70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70E-1027-4221-90B5-52B14149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87A-A766-4EBB-83E0-8071949B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F90-79C7-4FF7-8B72-C28153BF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E9A-F5C1-4B72-9719-6DF696A3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44F-FC5D-4AE5-9532-0B19BCB4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218-C237-456C-A74E-6033FA4D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E3B-F8F9-4759-97F8-07C5B4B1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93F-211C-44C1-98E8-E5896EF8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4B7-B317-4A4D-BB1F-A6DE00C1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3EA-63D2-4495-B2D5-CA9EDD1C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13A5-373B-4FB5-8799-B907A8A3C5D0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Benign prostatic hyperpla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12 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.s  IX:iv:11, IX:iv: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6" descr="IMG_0007_3.jpg"/>
          <p:cNvPicPr/>
          <p:nvPr/>
        </p:nvPicPr>
        <p:blipFill>
          <a:blip r:embed="rId1"/>
          <a:srcRect l="0" t="0" r="0" b="23563"/>
          <a:stretch/>
        </p:blipFill>
        <p:spPr>
          <a:xfrm>
            <a:off x="3203640" y="2205000"/>
            <a:ext cx="2703600" cy="200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2"/>
          <a:stretch/>
        </p:blipFill>
        <p:spPr>
          <a:xfrm>
            <a:off x="4356000" y="4221000"/>
            <a:ext cx="62244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6840" y="1600200"/>
            <a:ext cx="35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s a transverse section through the prost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this case it is predominantly the two lateral lobes that are hyperplas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5" descr="IMG_0006_3.jpg"/>
          <p:cNvPicPr/>
          <p:nvPr/>
        </p:nvPicPr>
        <p:blipFill>
          <a:blip r:embed="rId1"/>
          <a:srcRect l="0" t="0" r="0" b="17749"/>
          <a:stretch/>
        </p:blipFill>
        <p:spPr>
          <a:xfrm>
            <a:off x="4379760" y="1643040"/>
            <a:ext cx="4307040" cy="3500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22"/>
          <p:cNvGrpSpPr/>
          <p:nvPr/>
        </p:nvGrpSpPr>
        <p:grpSpPr>
          <a:xfrm>
            <a:off x="6179040" y="3354120"/>
            <a:ext cx="1657440" cy="798480"/>
            <a:chOff x="6179040" y="3354120"/>
            <a:chExt cx="1657440" cy="798480"/>
          </a:xfrm>
        </p:grpSpPr>
        <p:sp>
          <p:nvSpPr>
            <p:cNvPr id="114" name="TextBox 7"/>
            <p:cNvSpPr/>
            <p:nvPr/>
          </p:nvSpPr>
          <p:spPr>
            <a:xfrm>
              <a:off x="6930360" y="3643200"/>
              <a:ext cx="9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95b3d7"/>
                  </a:solidFill>
                  <a:latin typeface="Calibri"/>
                </a:rPr>
                <a:t>Ureth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Isosceles Triangle 16"/>
            <p:cNvSpPr/>
            <p:nvPr/>
          </p:nvSpPr>
          <p:spPr>
            <a:xfrm rot="20611200">
              <a:off x="6264360" y="3414240"/>
              <a:ext cx="522360" cy="677880"/>
            </a:xfrm>
            <a:prstGeom prst="triangle">
              <a:avLst>
                <a:gd name="adj" fmla="val 56394"/>
              </a:avLst>
            </a:prstGeom>
            <a:noFill/>
            <a:ln w="255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4432320" y="1741320"/>
            <a:ext cx="4021200" cy="3003840"/>
            <a:chOff x="4432320" y="1741320"/>
            <a:chExt cx="4021200" cy="3003840"/>
          </a:xfrm>
        </p:grpSpPr>
        <p:sp>
          <p:nvSpPr>
            <p:cNvPr id="117" name="TextBox 15"/>
            <p:cNvSpPr/>
            <p:nvPr/>
          </p:nvSpPr>
          <p:spPr>
            <a:xfrm>
              <a:off x="4432320" y="1928520"/>
              <a:ext cx="110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4a452a"/>
                  </a:solidFill>
                  <a:latin typeface="Calibri"/>
                </a:rPr>
                <a:t>“</a:t>
              </a:r>
              <a:r>
                <a:rPr b="0" lang="en-ZA" sz="1800" spc="-1" strike="noStrike">
                  <a:solidFill>
                    <a:srgbClr val="4a452a"/>
                  </a:solidFill>
                  <a:latin typeface="Calibri"/>
                </a:rPr>
                <a:t>Capsul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7"/>
            <p:cNvSpPr/>
            <p:nvPr/>
          </p:nvSpPr>
          <p:spPr>
            <a:xfrm>
              <a:off x="4703400" y="1741320"/>
              <a:ext cx="3750120" cy="3003840"/>
            </a:xfrm>
            <a:custGeom>
              <a:avLst/>
              <a:gdLst/>
              <a:ahLst/>
              <a:rect l="l" t="t" r="r" b="b"/>
              <a:pathLst>
                <a:path w="3749964" h="3004127">
                  <a:moveTo>
                    <a:pt x="2445327" y="157019"/>
                  </a:moveTo>
                  <a:cubicBezTo>
                    <a:pt x="2313709" y="129310"/>
                    <a:pt x="2147455" y="0"/>
                    <a:pt x="1946564" y="18473"/>
                  </a:cubicBezTo>
                  <a:cubicBezTo>
                    <a:pt x="1745673" y="36946"/>
                    <a:pt x="1473200" y="150091"/>
                    <a:pt x="1239982" y="267855"/>
                  </a:cubicBezTo>
                  <a:cubicBezTo>
                    <a:pt x="1006764" y="385619"/>
                    <a:pt x="736600" y="538019"/>
                    <a:pt x="547255" y="725055"/>
                  </a:cubicBezTo>
                  <a:cubicBezTo>
                    <a:pt x="357910" y="912091"/>
                    <a:pt x="187036" y="1193800"/>
                    <a:pt x="103909" y="1390073"/>
                  </a:cubicBezTo>
                  <a:cubicBezTo>
                    <a:pt x="20782" y="1586346"/>
                    <a:pt x="0" y="1713346"/>
                    <a:pt x="48491" y="1902691"/>
                  </a:cubicBezTo>
                  <a:cubicBezTo>
                    <a:pt x="96982" y="2092036"/>
                    <a:pt x="237837" y="2359891"/>
                    <a:pt x="394855" y="2526146"/>
                  </a:cubicBezTo>
                  <a:cubicBezTo>
                    <a:pt x="551873" y="2692401"/>
                    <a:pt x="796636" y="2826328"/>
                    <a:pt x="990600" y="2900219"/>
                  </a:cubicBezTo>
                  <a:cubicBezTo>
                    <a:pt x="1184564" y="2974110"/>
                    <a:pt x="1346201" y="2957946"/>
                    <a:pt x="1558637" y="2969491"/>
                  </a:cubicBezTo>
                  <a:cubicBezTo>
                    <a:pt x="1771073" y="2981036"/>
                    <a:pt x="2078182" y="3004127"/>
                    <a:pt x="2265218" y="2969491"/>
                  </a:cubicBezTo>
                  <a:cubicBezTo>
                    <a:pt x="2452254" y="2934855"/>
                    <a:pt x="2579255" y="2784764"/>
                    <a:pt x="2680855" y="2761673"/>
                  </a:cubicBezTo>
                  <a:cubicBezTo>
                    <a:pt x="2782455" y="2738582"/>
                    <a:pt x="2752436" y="2888673"/>
                    <a:pt x="2874818" y="2830946"/>
                  </a:cubicBezTo>
                  <a:cubicBezTo>
                    <a:pt x="2997200" y="2773219"/>
                    <a:pt x="3269673" y="2616201"/>
                    <a:pt x="3415146" y="2415310"/>
                  </a:cubicBezTo>
                  <a:cubicBezTo>
                    <a:pt x="3560619" y="2214419"/>
                    <a:pt x="3745346" y="1911928"/>
                    <a:pt x="3747655" y="1625601"/>
                  </a:cubicBezTo>
                  <a:cubicBezTo>
                    <a:pt x="3749964" y="1339274"/>
                    <a:pt x="3597564" y="937491"/>
                    <a:pt x="3429000" y="697346"/>
                  </a:cubicBezTo>
                  <a:cubicBezTo>
                    <a:pt x="3260436" y="457201"/>
                    <a:pt x="2902527" y="274782"/>
                    <a:pt x="2736273" y="184728"/>
                  </a:cubicBezTo>
                  <a:cubicBezTo>
                    <a:pt x="2570019" y="94674"/>
                    <a:pt x="2576945" y="184728"/>
                    <a:pt x="2445327" y="157019"/>
                  </a:cubicBezTo>
                  <a:close/>
                </a:path>
              </a:pathLst>
            </a:custGeom>
            <a:noFill/>
            <a:ln w="255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5000760" y="2928960"/>
            <a:ext cx="2814120" cy="1654560"/>
            <a:chOff x="5000760" y="2928960"/>
            <a:chExt cx="2814120" cy="1654560"/>
          </a:xfrm>
        </p:grpSpPr>
        <p:sp>
          <p:nvSpPr>
            <p:cNvPr id="120" name="TextBox 5"/>
            <p:cNvSpPr/>
            <p:nvPr/>
          </p:nvSpPr>
          <p:spPr>
            <a:xfrm>
              <a:off x="6434640" y="2928960"/>
              <a:ext cx="138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Calibri"/>
                </a:rPr>
                <a:t>L lateral lo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6"/>
            <p:cNvSpPr/>
            <p:nvPr/>
          </p:nvSpPr>
          <p:spPr>
            <a:xfrm>
              <a:off x="5000760" y="3143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Calibri"/>
                </a:rPr>
                <a:t>R lateral lo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9"/>
            <p:cNvSpPr/>
            <p:nvPr/>
          </p:nvSpPr>
          <p:spPr>
            <a:xfrm>
              <a:off x="5934240" y="421524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Calibri"/>
                </a:rPr>
                <a:t>Posterior lo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13" descr=""/>
          <p:cNvPicPr/>
          <p:nvPr/>
        </p:nvPicPr>
        <p:blipFill>
          <a:blip r:embed="rId2"/>
          <a:stretch/>
        </p:blipFill>
        <p:spPr>
          <a:xfrm>
            <a:off x="7819920" y="1628640"/>
            <a:ext cx="89388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e bladder shows </a:t>
            </a:r>
            <a:r>
              <a:rPr b="1" lang="en-ZA" sz="2200" spc="-1" strike="noStrike">
                <a:solidFill>
                  <a:srgbClr val="376092"/>
                </a:solidFill>
                <a:latin typeface="Calibri"/>
              </a:rPr>
              <a:t>hyper</a:t>
            </a:r>
            <a:r>
              <a:rPr b="1" i="1" lang="en-ZA" sz="2200" spc="-1" strike="noStrike">
                <a:solidFill>
                  <a:srgbClr val="376092"/>
                </a:solidFill>
                <a:latin typeface="Calibri"/>
              </a:rPr>
              <a:t>troph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he prostate shows </a:t>
            </a:r>
            <a:r>
              <a:rPr b="1" lang="en-ZA" sz="2200" spc="-1" strike="noStrike">
                <a:solidFill>
                  <a:srgbClr val="376092"/>
                </a:solidFill>
                <a:latin typeface="Calibri"/>
              </a:rPr>
              <a:t>hyper</a:t>
            </a:r>
            <a:r>
              <a:rPr b="1" i="1" lang="en-ZA" sz="2200" spc="-1" strike="noStrike">
                <a:solidFill>
                  <a:srgbClr val="376092"/>
                </a:solidFill>
                <a:latin typeface="Calibri"/>
              </a:rPr>
              <a:t>plas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What sort of organs tend to hypertroph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What sort of organs lean to hyperplasi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Can you define </a:t>
            </a:r>
            <a:r>
              <a:rPr b="0" i="1" lang="en-ZA" sz="2200" spc="-1" strike="noStrike">
                <a:solidFill>
                  <a:srgbClr val="000000"/>
                </a:solidFill>
                <a:latin typeface="Calibri"/>
              </a:rPr>
              <a:t>hypo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plasia or </a:t>
            </a:r>
            <a:r>
              <a:rPr b="0" i="1" lang="en-ZA" sz="2200" spc="-1" strike="noStrike">
                <a:solidFill>
                  <a:srgbClr val="000000"/>
                </a:solidFill>
                <a:latin typeface="Calibri"/>
              </a:rPr>
              <a:t>dys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plasia or </a:t>
            </a:r>
            <a:r>
              <a:rPr b="0" i="1" lang="en-ZA" sz="2200" spc="-1" strike="noStrike">
                <a:solidFill>
                  <a:srgbClr val="000000"/>
                </a:solidFill>
                <a:latin typeface="Calibri"/>
              </a:rPr>
              <a:t>meta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plasia, even </a:t>
            </a:r>
            <a:r>
              <a:rPr b="0" i="1" lang="en-ZA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plasi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Similarly, dystrophy or atrophy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How would you explain to your patient with benign prostatic hyperplasia (BPH) what is happening in his prostat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Case 2  Hist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naked-eye appearance of benign prostatic hyperplasia was confirmed by microscop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addition, small foci of adenocarcinoma were se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Comment on this ca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BPH is very common in men over 50 y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finding of microscopic or latent prostatic carcinoma is very common in men over 70 yea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two conditions are independent i.e. BPH does not predispose to carcino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376092"/>
                </a:solidFill>
                <a:latin typeface="Calibri"/>
              </a:rPr>
              <a:t>Benign hyperplasia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volves both the glandular tissue and fibromuscular stroma of the prostate. It tends to occur in the </a:t>
            </a:r>
            <a:r>
              <a:rPr b="1" lang="en-ZA" sz="2400" spc="-1" strike="noStrike">
                <a:solidFill>
                  <a:srgbClr val="376092"/>
                </a:solidFill>
                <a:latin typeface="Calibri"/>
              </a:rPr>
              <a:t>central, peri-urethral region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f the prost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rostate cancer is usually </a:t>
            </a:r>
            <a:r>
              <a:rPr b="1" lang="en-ZA" sz="2400" spc="-1" strike="noStrike">
                <a:solidFill>
                  <a:srgbClr val="376092"/>
                </a:solidFill>
                <a:latin typeface="Calibri"/>
              </a:rPr>
              <a:t>adenocarcinoma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, deriving from glandular tissue. Most  arise in the </a:t>
            </a:r>
            <a:r>
              <a:rPr b="1" lang="en-ZA" sz="2400" spc="-1" strike="noStrike">
                <a:solidFill>
                  <a:srgbClr val="376092"/>
                </a:solidFill>
                <a:latin typeface="Calibri"/>
              </a:rPr>
              <a:t>peripheral subcapsular region</a:t>
            </a: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f the prostate, where the main glands are locate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References and 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For a review of the diseases of the prostate and prostate histology, go to this excellent on-line tutorial </a:t>
            </a:r>
            <a:r>
              <a:rPr b="0" lang="en-ZA" sz="1800" spc="-1" strike="noStrike">
                <a:solidFill>
                  <a:srgbClr val="000000"/>
                </a:solidFill>
                <a:latin typeface="Calibri"/>
              </a:rPr>
              <a:t>http://library.med.utah.edu/WebPath/TUTORIAL/PROSTATE/PROSTATE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Case 1 Clinic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patient was a 68 year old man who was admitted to hospital for cardiac fail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developed acute urinary retention and had to be catheteri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died of complications of vascular insuffici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3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   </a:t>
            </a: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Pat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340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bladder and prostate gland have been opened anterior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4354560" y="476280"/>
            <a:ext cx="3960720" cy="5978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5429520" y="1285920"/>
            <a:ext cx="19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Calibri"/>
              </a:rPr>
              <a:t>Vertex of bl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214880" y="4572000"/>
            <a:ext cx="2786040" cy="1785960"/>
            <a:chOff x="4214880" y="4572000"/>
            <a:chExt cx="2786040" cy="1785960"/>
          </a:xfrm>
        </p:grpSpPr>
        <p:sp>
          <p:nvSpPr>
            <p:cNvPr id="55" name="Oval 12"/>
            <p:cNvSpPr/>
            <p:nvPr/>
          </p:nvSpPr>
          <p:spPr>
            <a:xfrm>
              <a:off x="5500800" y="4572000"/>
              <a:ext cx="1500120" cy="17859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3"/>
            <p:cNvSpPr/>
            <p:nvPr/>
          </p:nvSpPr>
          <p:spPr>
            <a:xfrm>
              <a:off x="4214880" y="5643720"/>
              <a:ext cx="117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2000" spc="-1" strike="noStrike">
                  <a:solidFill>
                    <a:srgbClr val="ffffff"/>
                  </a:solidFill>
                  <a:latin typeface="Calibri"/>
                </a:rPr>
                <a:t>Pros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0"/>
          <p:cNvSpPr/>
          <p:nvPr/>
        </p:nvSpPr>
        <p:spPr>
          <a:xfrm>
            <a:off x="7310880" y="5445000"/>
            <a:ext cx="11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76092"/>
                </a:solidFill>
                <a:latin typeface="Calibri"/>
              </a:rPr>
              <a:t>Prost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76092"/>
                </a:solidFill>
                <a:latin typeface="Calibri"/>
              </a:rPr>
              <a:t>uret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11"/>
          <p:cNvCxnSpPr/>
          <p:nvPr/>
        </p:nvCxnSpPr>
        <p:spPr>
          <a:xfrm flipH="1" flipV="1">
            <a:off x="6357600" y="5857560"/>
            <a:ext cx="92952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median lobe of prostate is enlarged and nodular, and intrudes into the bladder flo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t obstructs the internal urethral opening, possibly with a ball-valve eff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500120" y="2359080"/>
            <a:ext cx="6072120" cy="41101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5"/>
          <p:cNvGrpSpPr/>
          <p:nvPr/>
        </p:nvGrpSpPr>
        <p:grpSpPr>
          <a:xfrm>
            <a:off x="3652560" y="3786120"/>
            <a:ext cx="1491120" cy="1643040"/>
            <a:chOff x="3652560" y="3786120"/>
            <a:chExt cx="1491120" cy="1643040"/>
          </a:xfrm>
        </p:grpSpPr>
        <p:sp>
          <p:nvSpPr>
            <p:cNvPr id="62" name="Freeform 16"/>
            <p:cNvSpPr/>
            <p:nvPr/>
          </p:nvSpPr>
          <p:spPr>
            <a:xfrm>
              <a:off x="3714480" y="4071600"/>
              <a:ext cx="1429200" cy="1357560"/>
            </a:xfrm>
            <a:custGeom>
              <a:avLst/>
              <a:gdLst/>
              <a:ahLst/>
              <a:rect l="l" t="t" r="r" b="b"/>
              <a:pathLst>
                <a:path w="1193800" h="1173019">
                  <a:moveTo>
                    <a:pt x="540327" y="25400"/>
                  </a:moveTo>
                  <a:cubicBezTo>
                    <a:pt x="387927" y="0"/>
                    <a:pt x="267854" y="182418"/>
                    <a:pt x="180109" y="247073"/>
                  </a:cubicBezTo>
                  <a:cubicBezTo>
                    <a:pt x="92364" y="311728"/>
                    <a:pt x="27709" y="318655"/>
                    <a:pt x="13854" y="413328"/>
                  </a:cubicBezTo>
                  <a:cubicBezTo>
                    <a:pt x="0" y="508001"/>
                    <a:pt x="76200" y="725055"/>
                    <a:pt x="96982" y="815109"/>
                  </a:cubicBezTo>
                  <a:cubicBezTo>
                    <a:pt x="117764" y="905164"/>
                    <a:pt x="87745" y="900546"/>
                    <a:pt x="138545" y="953655"/>
                  </a:cubicBezTo>
                  <a:cubicBezTo>
                    <a:pt x="189345" y="1006764"/>
                    <a:pt x="300182" y="1103746"/>
                    <a:pt x="401782" y="1133764"/>
                  </a:cubicBezTo>
                  <a:cubicBezTo>
                    <a:pt x="503382" y="1163782"/>
                    <a:pt x="648854" y="1173019"/>
                    <a:pt x="748145" y="1133764"/>
                  </a:cubicBezTo>
                  <a:cubicBezTo>
                    <a:pt x="847436" y="1094510"/>
                    <a:pt x="930563" y="988291"/>
                    <a:pt x="997527" y="898237"/>
                  </a:cubicBezTo>
                  <a:cubicBezTo>
                    <a:pt x="1064491" y="808183"/>
                    <a:pt x="1133763" y="676564"/>
                    <a:pt x="1149927" y="593437"/>
                  </a:cubicBezTo>
                  <a:cubicBezTo>
                    <a:pt x="1166091" y="510310"/>
                    <a:pt x="1193800" y="494146"/>
                    <a:pt x="1094509" y="399473"/>
                  </a:cubicBezTo>
                  <a:cubicBezTo>
                    <a:pt x="995218" y="304800"/>
                    <a:pt x="692727" y="50800"/>
                    <a:pt x="540327" y="25400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20"/>
            <p:cNvSpPr/>
            <p:nvPr/>
          </p:nvSpPr>
          <p:spPr>
            <a:xfrm>
              <a:off x="3652560" y="3786120"/>
              <a:ext cx="13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Calibri"/>
                </a:rPr>
                <a:t>Median lo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3"/>
          <p:cNvGrpSpPr/>
          <p:nvPr/>
        </p:nvGrpSpPr>
        <p:grpSpPr>
          <a:xfrm>
            <a:off x="1932840" y="5072040"/>
            <a:ext cx="3353400" cy="1071720"/>
            <a:chOff x="1932840" y="5072040"/>
            <a:chExt cx="3353400" cy="1071720"/>
          </a:xfrm>
        </p:grpSpPr>
        <p:sp>
          <p:nvSpPr>
            <p:cNvPr id="65" name="Freeform 13"/>
            <p:cNvSpPr/>
            <p:nvPr/>
          </p:nvSpPr>
          <p:spPr>
            <a:xfrm>
              <a:off x="3571920" y="5143320"/>
              <a:ext cx="714240" cy="1000440"/>
            </a:xfrm>
            <a:custGeom>
              <a:avLst/>
              <a:gdLst/>
              <a:ahLst/>
              <a:rect l="l" t="t" r="r" b="b"/>
              <a:pathLst>
                <a:path w="648854" h="946728">
                  <a:moveTo>
                    <a:pt x="145472" y="80818"/>
                  </a:moveTo>
                  <a:cubicBezTo>
                    <a:pt x="198581" y="0"/>
                    <a:pt x="256308" y="87746"/>
                    <a:pt x="325581" y="122382"/>
                  </a:cubicBezTo>
                  <a:cubicBezTo>
                    <a:pt x="394854" y="157018"/>
                    <a:pt x="508000" y="247073"/>
                    <a:pt x="561109" y="288637"/>
                  </a:cubicBezTo>
                  <a:cubicBezTo>
                    <a:pt x="614218" y="330201"/>
                    <a:pt x="639618" y="300182"/>
                    <a:pt x="644236" y="371764"/>
                  </a:cubicBezTo>
                  <a:cubicBezTo>
                    <a:pt x="648854" y="443346"/>
                    <a:pt x="625764" y="625764"/>
                    <a:pt x="588818" y="718128"/>
                  </a:cubicBezTo>
                  <a:cubicBezTo>
                    <a:pt x="551873" y="810492"/>
                    <a:pt x="501072" y="905164"/>
                    <a:pt x="422563" y="925946"/>
                  </a:cubicBezTo>
                  <a:cubicBezTo>
                    <a:pt x="344054" y="946728"/>
                    <a:pt x="187036" y="895927"/>
                    <a:pt x="117763" y="842818"/>
                  </a:cubicBezTo>
                  <a:cubicBezTo>
                    <a:pt x="48490" y="789709"/>
                    <a:pt x="0" y="729673"/>
                    <a:pt x="6927" y="607291"/>
                  </a:cubicBezTo>
                  <a:cubicBezTo>
                    <a:pt x="13854" y="484909"/>
                    <a:pt x="92363" y="161636"/>
                    <a:pt x="145472" y="80818"/>
                  </a:cubicBezTo>
                  <a:close/>
                </a:path>
              </a:pathLst>
            </a:custGeom>
            <a:noFill/>
            <a:ln w="255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"/>
            <p:cNvSpPr/>
            <p:nvPr/>
          </p:nvSpPr>
          <p:spPr>
            <a:xfrm>
              <a:off x="4500720" y="5072040"/>
              <a:ext cx="785520" cy="1071720"/>
            </a:xfrm>
            <a:custGeom>
              <a:avLst/>
              <a:gdLst/>
              <a:ahLst/>
              <a:rect l="l" t="t" r="r" b="b"/>
              <a:pathLst>
                <a:path w="690417" h="958272">
                  <a:moveTo>
                    <a:pt x="688108" y="73891"/>
                  </a:moveTo>
                  <a:cubicBezTo>
                    <a:pt x="690417" y="6927"/>
                    <a:pt x="498762" y="0"/>
                    <a:pt x="411017" y="32327"/>
                  </a:cubicBezTo>
                  <a:cubicBezTo>
                    <a:pt x="323272" y="64654"/>
                    <a:pt x="223981" y="200891"/>
                    <a:pt x="161636" y="267855"/>
                  </a:cubicBezTo>
                  <a:cubicBezTo>
                    <a:pt x="99291" y="334819"/>
                    <a:pt x="57727" y="348673"/>
                    <a:pt x="36945" y="434109"/>
                  </a:cubicBezTo>
                  <a:cubicBezTo>
                    <a:pt x="16163" y="519545"/>
                    <a:pt x="0" y="695037"/>
                    <a:pt x="36945" y="780473"/>
                  </a:cubicBezTo>
                  <a:cubicBezTo>
                    <a:pt x="73890" y="865909"/>
                    <a:pt x="193963" y="935182"/>
                    <a:pt x="258617" y="946727"/>
                  </a:cubicBezTo>
                  <a:cubicBezTo>
                    <a:pt x="323271" y="958272"/>
                    <a:pt x="387927" y="898236"/>
                    <a:pt x="424872" y="849745"/>
                  </a:cubicBezTo>
                  <a:cubicBezTo>
                    <a:pt x="461817" y="801254"/>
                    <a:pt x="484908" y="725055"/>
                    <a:pt x="480290" y="655782"/>
                  </a:cubicBezTo>
                  <a:cubicBezTo>
                    <a:pt x="475672" y="586509"/>
                    <a:pt x="362527" y="528782"/>
                    <a:pt x="397163" y="434109"/>
                  </a:cubicBezTo>
                  <a:cubicBezTo>
                    <a:pt x="431799" y="339436"/>
                    <a:pt x="685799" y="140855"/>
                    <a:pt x="688108" y="73891"/>
                  </a:cubicBezTo>
                  <a:close/>
                </a:path>
              </a:pathLst>
            </a:custGeom>
            <a:noFill/>
            <a:ln w="255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2"/>
            <p:cNvSpPr/>
            <p:nvPr/>
          </p:nvSpPr>
          <p:spPr>
            <a:xfrm>
              <a:off x="1932840" y="557208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4a452a"/>
                  </a:solidFill>
                  <a:latin typeface="Calibri"/>
                </a:rPr>
                <a:t>Lateral lob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1"/>
          <p:cNvGrpSpPr/>
          <p:nvPr/>
        </p:nvGrpSpPr>
        <p:grpSpPr>
          <a:xfrm>
            <a:off x="4214880" y="5286240"/>
            <a:ext cx="2688840" cy="1008720"/>
            <a:chOff x="4214880" y="5286240"/>
            <a:chExt cx="2688840" cy="1008720"/>
          </a:xfrm>
        </p:grpSpPr>
        <p:sp>
          <p:nvSpPr>
            <p:cNvPr id="69" name="TextBox 12"/>
            <p:cNvSpPr/>
            <p:nvPr/>
          </p:nvSpPr>
          <p:spPr>
            <a:xfrm>
              <a:off x="5679000" y="5286240"/>
              <a:ext cx="122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2000" spc="-1" strike="noStrike">
                  <a:solidFill>
                    <a:srgbClr val="376092"/>
                  </a:solidFill>
                  <a:latin typeface="Calibri"/>
                </a:rPr>
                <a:t>  </a:t>
              </a:r>
              <a:r>
                <a:rPr b="0" lang="en-ZA" sz="2000" spc="-1" strike="noStrike">
                  <a:solidFill>
                    <a:srgbClr val="376092"/>
                  </a:solidFill>
                  <a:latin typeface="Calibri"/>
                </a:rPr>
                <a:t>Internal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2000" spc="-1" strike="noStrike">
                  <a:solidFill>
                    <a:srgbClr val="376092"/>
                  </a:solidFill>
                  <a:latin typeface="Calibri"/>
                </a:rPr>
                <a:t>ureth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2000" spc="-1" strike="noStrike">
                  <a:solidFill>
                    <a:srgbClr val="376092"/>
                  </a:solidFill>
                  <a:latin typeface="Calibri"/>
                </a:rPr>
                <a:t>orif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8"/>
            <p:cNvSpPr/>
            <p:nvPr/>
          </p:nvSpPr>
          <p:spPr>
            <a:xfrm>
              <a:off x="4214880" y="5429160"/>
              <a:ext cx="428400" cy="14292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357520" y="428760"/>
            <a:ext cx="332892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1" lang="en-ZA" sz="2200" spc="-1" strike="noStrike">
                <a:solidFill>
                  <a:srgbClr val="376092"/>
                </a:solidFill>
                <a:latin typeface="Calibri"/>
              </a:rPr>
              <a:t>This patient’s bladder shows some of the secondary effects of urinary outflow obstr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Trabeculations (ridging) are due to hypertrophy of  the detrusor muscle.     The inner surface of a normal bladder is  quite smoot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Permanent distension.            The normal adult bladder is elastic with a capacity of 300 – 500m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4" descr=""/>
          <p:cNvPicPr/>
          <p:nvPr/>
        </p:nvPicPr>
        <p:blipFill>
          <a:blip r:embed="rId1"/>
          <a:stretch/>
        </p:blipFill>
        <p:spPr>
          <a:xfrm>
            <a:off x="1028880" y="571680"/>
            <a:ext cx="3833640" cy="5786280"/>
          </a:xfrm>
          <a:prstGeom prst="rect">
            <a:avLst/>
          </a:prstGeom>
          <a:ln w="0">
            <a:noFill/>
          </a:ln>
        </p:spPr>
      </p:pic>
      <p:sp>
        <p:nvSpPr>
          <p:cNvPr id="73" name="Oval 9"/>
          <p:cNvSpPr/>
          <p:nvPr/>
        </p:nvSpPr>
        <p:spPr>
          <a:xfrm>
            <a:off x="1714680" y="2000160"/>
            <a:ext cx="2643120" cy="235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1"/>
          <p:cNvGrpSpPr/>
          <p:nvPr/>
        </p:nvGrpSpPr>
        <p:grpSpPr>
          <a:xfrm>
            <a:off x="4320" y="642600"/>
            <a:ext cx="709920" cy="5644080"/>
            <a:chOff x="4320" y="642600"/>
            <a:chExt cx="709920" cy="5644080"/>
          </a:xfrm>
        </p:grpSpPr>
        <p:cxnSp>
          <p:nvCxnSpPr>
            <p:cNvPr id="75" name="Straight Arrow Connector 5"/>
            <p:cNvCxnSpPr/>
            <p:nvPr/>
          </p:nvCxnSpPr>
          <p:spPr>
            <a:xfrm flipH="1">
              <a:off x="713520" y="642600"/>
              <a:ext cx="1080" cy="564444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76" name="TextBox 7"/>
            <p:cNvSpPr/>
            <p:nvPr/>
          </p:nvSpPr>
          <p:spPr>
            <a:xfrm>
              <a:off x="4320" y="3500640"/>
              <a:ext cx="6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376092"/>
                  </a:solidFill>
                  <a:latin typeface="Calibri"/>
                </a:rPr>
                <a:t>1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357520" y="785880"/>
            <a:ext cx="35002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iverticuli are outpouchings of the bladder w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t autopsy the patient was also found to have bilateral hydroureter and hydronephrosis  (not shown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4" descr=""/>
          <p:cNvPicPr/>
          <p:nvPr/>
        </p:nvPicPr>
        <p:blipFill>
          <a:blip r:embed="rId1"/>
          <a:stretch/>
        </p:blipFill>
        <p:spPr>
          <a:xfrm>
            <a:off x="826920" y="473040"/>
            <a:ext cx="4061160" cy="6126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1571760" y="3786120"/>
            <a:ext cx="29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Calibri"/>
              </a:rPr>
              <a:t>Slit-like</a:t>
            </a:r>
            <a:r>
              <a:rPr b="0" lang="en-ZA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ZA" sz="2000" spc="-1" strike="noStrike">
                <a:solidFill>
                  <a:srgbClr val="ffffff"/>
                </a:solidFill>
                <a:latin typeface="Calibri"/>
              </a:rPr>
              <a:t>ureteral ori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17"/>
          <p:cNvCxnSpPr/>
          <p:nvPr/>
        </p:nvCxnSpPr>
        <p:spPr>
          <a:xfrm>
            <a:off x="2857680" y="4214880"/>
            <a:ext cx="42912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1" name="Straight Arrow Connector 19"/>
          <p:cNvCxnSpPr/>
          <p:nvPr/>
        </p:nvCxnSpPr>
        <p:spPr>
          <a:xfrm flipH="1">
            <a:off x="2571480" y="4143240"/>
            <a:ext cx="7200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82" name="Group 10"/>
          <p:cNvGrpSpPr/>
          <p:nvPr/>
        </p:nvGrpSpPr>
        <p:grpSpPr>
          <a:xfrm>
            <a:off x="1357200" y="2786040"/>
            <a:ext cx="3286080" cy="1071720"/>
            <a:chOff x="1357200" y="2786040"/>
            <a:chExt cx="3286080" cy="1071720"/>
          </a:xfrm>
        </p:grpSpPr>
        <p:sp>
          <p:nvSpPr>
            <p:cNvPr id="83" name="TextBox 7"/>
            <p:cNvSpPr/>
            <p:nvPr/>
          </p:nvSpPr>
          <p:spPr>
            <a:xfrm>
              <a:off x="1357200" y="2786040"/>
              <a:ext cx="32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2000" spc="-1" strike="noStrike">
                  <a:solidFill>
                    <a:srgbClr val="ffffff"/>
                  </a:solidFill>
                  <a:latin typeface="Calibri"/>
                </a:rPr>
                <a:t>Mouths of bladder diverticu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Straight Arrow Connector 12"/>
            <p:cNvCxnSpPr/>
            <p:nvPr/>
          </p:nvCxnSpPr>
          <p:spPr>
            <a:xfrm>
              <a:off x="3570840" y="3286080"/>
              <a:ext cx="286200" cy="286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85" name="Straight Arrow Connector 14"/>
            <p:cNvCxnSpPr/>
            <p:nvPr/>
          </p:nvCxnSpPr>
          <p:spPr>
            <a:xfrm>
              <a:off x="2928600" y="3214800"/>
              <a:ext cx="1143720" cy="6433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86" name="Straight Arrow Connector 20"/>
            <p:cNvCxnSpPr/>
            <p:nvPr/>
          </p:nvCxnSpPr>
          <p:spPr>
            <a:xfrm flipH="1">
              <a:off x="1999440" y="3213720"/>
              <a:ext cx="572040" cy="214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Anatomical n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trigone of the bladder is a triangular region of the inner bladder defined by the ureteral orifices and the internal urethral orifi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3421080" y="3133800"/>
            <a:ext cx="2095560" cy="612720"/>
          </a:xfrm>
          <a:custGeom>
            <a:avLst/>
            <a:gdLst/>
            <a:ahLst/>
            <a:rect l="l" t="t" r="r" b="b"/>
            <a:pathLst>
              <a:path w="2094271" h="612058">
                <a:moveTo>
                  <a:pt x="0" y="567813"/>
                </a:moveTo>
                <a:cubicBezTo>
                  <a:pt x="371167" y="283906"/>
                  <a:pt x="742335" y="0"/>
                  <a:pt x="1091380" y="7374"/>
                </a:cubicBezTo>
                <a:cubicBezTo>
                  <a:pt x="1440425" y="14748"/>
                  <a:pt x="2094271" y="612058"/>
                  <a:pt x="2094271" y="612058"/>
                </a:cubicBezTo>
                <a:lnTo>
                  <a:pt x="2094271" y="612058"/>
                </a:lnTo>
              </a:path>
            </a:pathLst>
          </a:custGeom>
          <a:noFill/>
          <a:ln w="25560">
            <a:solidFill>
              <a:srgbClr val="948a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"/>
          <p:cNvSpPr/>
          <p:nvPr/>
        </p:nvSpPr>
        <p:spPr>
          <a:xfrm>
            <a:off x="2832120" y="4025880"/>
            <a:ext cx="1614600" cy="1976400"/>
          </a:xfrm>
          <a:custGeom>
            <a:avLst/>
            <a:gdLst/>
            <a:ahLst/>
            <a:rect l="l" t="t" r="r" b="b"/>
            <a:pathLst>
              <a:path w="1614948" h="1976284">
                <a:moveTo>
                  <a:pt x="1563329" y="1976284"/>
                </a:moveTo>
                <a:cubicBezTo>
                  <a:pt x="1589138" y="1732935"/>
                  <a:pt x="1614948" y="1489587"/>
                  <a:pt x="1563329" y="1386348"/>
                </a:cubicBezTo>
                <a:cubicBezTo>
                  <a:pt x="1511710" y="1283109"/>
                  <a:pt x="1437968" y="1447799"/>
                  <a:pt x="1253613" y="1356851"/>
                </a:cubicBezTo>
                <a:cubicBezTo>
                  <a:pt x="1069258" y="1265903"/>
                  <a:pt x="666135" y="1066800"/>
                  <a:pt x="457200" y="840658"/>
                </a:cubicBezTo>
                <a:cubicBezTo>
                  <a:pt x="248265" y="614516"/>
                  <a:pt x="0" y="0"/>
                  <a:pt x="0" y="0"/>
                </a:cubicBezTo>
                <a:lnTo>
                  <a:pt x="0" y="0"/>
                </a:lnTo>
              </a:path>
            </a:pathLst>
          </a:custGeom>
          <a:noFill/>
          <a:ln w="25560">
            <a:solidFill>
              <a:srgbClr val="948a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8"/>
          <p:cNvSpPr/>
          <p:nvPr/>
        </p:nvSpPr>
        <p:spPr>
          <a:xfrm flipH="1">
            <a:off x="4572000" y="4071960"/>
            <a:ext cx="1571760" cy="1976400"/>
          </a:xfrm>
          <a:custGeom>
            <a:avLst/>
            <a:gdLst/>
            <a:ahLst/>
            <a:rect l="l" t="t" r="r" b="b"/>
            <a:pathLst>
              <a:path w="1614948" h="1976284">
                <a:moveTo>
                  <a:pt x="1563329" y="1976284"/>
                </a:moveTo>
                <a:cubicBezTo>
                  <a:pt x="1589138" y="1732935"/>
                  <a:pt x="1614948" y="1489587"/>
                  <a:pt x="1563329" y="1386348"/>
                </a:cubicBezTo>
                <a:cubicBezTo>
                  <a:pt x="1511710" y="1283109"/>
                  <a:pt x="1437968" y="1447799"/>
                  <a:pt x="1253613" y="1356851"/>
                </a:cubicBezTo>
                <a:cubicBezTo>
                  <a:pt x="1069258" y="1265903"/>
                  <a:pt x="666135" y="1066800"/>
                  <a:pt x="457200" y="840658"/>
                </a:cubicBezTo>
                <a:cubicBezTo>
                  <a:pt x="248265" y="614516"/>
                  <a:pt x="0" y="0"/>
                  <a:pt x="0" y="0"/>
                </a:cubicBezTo>
                <a:lnTo>
                  <a:pt x="0" y="0"/>
                </a:lnTo>
              </a:path>
            </a:pathLst>
          </a:custGeom>
          <a:noFill/>
          <a:ln w="25560">
            <a:solidFill>
              <a:srgbClr val="948a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9"/>
          <p:cNvSpPr/>
          <p:nvPr/>
        </p:nvSpPr>
        <p:spPr>
          <a:xfrm>
            <a:off x="3249720" y="3730680"/>
            <a:ext cx="1184040" cy="2212920"/>
          </a:xfrm>
          <a:custGeom>
            <a:avLst/>
            <a:gdLst/>
            <a:ahLst/>
            <a:rect l="l" t="t" r="r" b="b"/>
            <a:pathLst>
              <a:path w="1184787" h="2212258">
                <a:moveTo>
                  <a:pt x="216310" y="0"/>
                </a:moveTo>
                <a:cubicBezTo>
                  <a:pt x="108155" y="117987"/>
                  <a:pt x="0" y="235974"/>
                  <a:pt x="39329" y="427703"/>
                </a:cubicBezTo>
                <a:cubicBezTo>
                  <a:pt x="78658" y="619432"/>
                  <a:pt x="297426" y="973393"/>
                  <a:pt x="452284" y="1150374"/>
                </a:cubicBezTo>
                <a:cubicBezTo>
                  <a:pt x="607142" y="1327355"/>
                  <a:pt x="857865" y="1420761"/>
                  <a:pt x="968478" y="1489587"/>
                </a:cubicBezTo>
                <a:cubicBezTo>
                  <a:pt x="1079091" y="1558413"/>
                  <a:pt x="1081549" y="1526458"/>
                  <a:pt x="1115962" y="1563329"/>
                </a:cubicBezTo>
                <a:cubicBezTo>
                  <a:pt x="1150375" y="1600200"/>
                  <a:pt x="1165123" y="1602658"/>
                  <a:pt x="1174955" y="1710813"/>
                </a:cubicBezTo>
                <a:cubicBezTo>
                  <a:pt x="1184787" y="1818968"/>
                  <a:pt x="1174955" y="2212258"/>
                  <a:pt x="1174955" y="2212258"/>
                </a:cubicBezTo>
                <a:lnTo>
                  <a:pt x="1174955" y="2212258"/>
                </a:lnTo>
              </a:path>
            </a:pathLst>
          </a:custGeom>
          <a:noFill/>
          <a:ln w="22320">
            <a:solidFill>
              <a:srgbClr val="c4bd97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0"/>
          <p:cNvSpPr/>
          <p:nvPr/>
        </p:nvSpPr>
        <p:spPr>
          <a:xfrm flipH="1">
            <a:off x="4571280" y="3714840"/>
            <a:ext cx="1057320" cy="2212920"/>
          </a:xfrm>
          <a:custGeom>
            <a:avLst/>
            <a:gdLst/>
            <a:ahLst/>
            <a:rect l="l" t="t" r="r" b="b"/>
            <a:pathLst>
              <a:path w="1184787" h="2212258">
                <a:moveTo>
                  <a:pt x="216310" y="0"/>
                </a:moveTo>
                <a:cubicBezTo>
                  <a:pt x="108155" y="117987"/>
                  <a:pt x="0" y="235974"/>
                  <a:pt x="39329" y="427703"/>
                </a:cubicBezTo>
                <a:cubicBezTo>
                  <a:pt x="78658" y="619432"/>
                  <a:pt x="297426" y="973393"/>
                  <a:pt x="452284" y="1150374"/>
                </a:cubicBezTo>
                <a:cubicBezTo>
                  <a:pt x="607142" y="1327355"/>
                  <a:pt x="857865" y="1420761"/>
                  <a:pt x="968478" y="1489587"/>
                </a:cubicBezTo>
                <a:cubicBezTo>
                  <a:pt x="1079091" y="1558413"/>
                  <a:pt x="1081549" y="1526458"/>
                  <a:pt x="1115962" y="1563329"/>
                </a:cubicBezTo>
                <a:cubicBezTo>
                  <a:pt x="1150375" y="1600200"/>
                  <a:pt x="1165123" y="1602658"/>
                  <a:pt x="1174955" y="1710813"/>
                </a:cubicBezTo>
                <a:cubicBezTo>
                  <a:pt x="1184787" y="1818968"/>
                  <a:pt x="1174955" y="2212258"/>
                  <a:pt x="1174955" y="2212258"/>
                </a:cubicBezTo>
                <a:lnTo>
                  <a:pt x="1174955" y="2212258"/>
                </a:lnTo>
              </a:path>
            </a:pathLst>
          </a:custGeom>
          <a:noFill/>
          <a:ln w="22320">
            <a:solidFill>
              <a:srgbClr val="c4bd97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hord 12"/>
          <p:cNvSpPr/>
          <p:nvPr/>
        </p:nvSpPr>
        <p:spPr>
          <a:xfrm flipH="1" flipV="1" rot="1224600">
            <a:off x="4448880" y="5347080"/>
            <a:ext cx="470160" cy="615960"/>
          </a:xfrm>
          <a:custGeom>
            <a:avLst/>
            <a:gdLst/>
            <a:ahLst/>
            <a:rect l="l" t="t" r="r" b="b"/>
            <a:pathLst>
              <a:path w="469900" h="615950">
                <a:moveTo>
                  <a:pt x="421748" y="494773"/>
                </a:moveTo>
                <a:cubicBezTo>
                  <a:pt x="343259" y="629635"/>
                  <a:pt x="196353" y="655914"/>
                  <a:pt x="93166" y="553551"/>
                </a:cubicBezTo>
                <a:cubicBezTo>
                  <a:pt x="21025" y="481986"/>
                  <a:pt x="-13359" y="362483"/>
                  <a:pt x="4760" y="246295"/>
                </a:cubicBezTo>
                <a:cubicBezTo>
                  <a:pt x="27115" y="102944"/>
                  <a:pt x="123328" y="-1"/>
                  <a:pt x="234950" y="-1"/>
                </a:cubicBezTo>
                <a:lnTo>
                  <a:pt x="421748" y="494773"/>
                </a:lnTo>
                <a:close/>
              </a:path>
            </a:pathLst>
          </a:custGeom>
          <a:solidFill>
            <a:srgbClr val="c4bd97"/>
          </a:solidFill>
          <a:ln w="25560">
            <a:solidFill>
              <a:srgbClr val="948a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3"/>
          <p:cNvSpPr/>
          <p:nvPr/>
        </p:nvSpPr>
        <p:spPr>
          <a:xfrm>
            <a:off x="2846520" y="3433680"/>
            <a:ext cx="3289320" cy="622440"/>
          </a:xfrm>
          <a:custGeom>
            <a:avLst/>
            <a:gdLst/>
            <a:ahLst/>
            <a:rect l="l" t="t" r="r" b="b"/>
            <a:pathLst>
              <a:path w="3288890" h="621890">
                <a:moveTo>
                  <a:pt x="0" y="607142"/>
                </a:moveTo>
                <a:cubicBezTo>
                  <a:pt x="537087" y="303571"/>
                  <a:pt x="1074174" y="0"/>
                  <a:pt x="1622322" y="2458"/>
                </a:cubicBezTo>
                <a:cubicBezTo>
                  <a:pt x="2170470" y="4916"/>
                  <a:pt x="2729680" y="313403"/>
                  <a:pt x="3288890" y="621890"/>
                </a:cubicBezTo>
              </a:path>
            </a:pathLst>
          </a:custGeom>
          <a:noFill/>
          <a:ln w="25560">
            <a:solidFill>
              <a:srgbClr val="948a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4357800" y="5214960"/>
            <a:ext cx="285480" cy="71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786200" y="4786200"/>
            <a:ext cx="142920" cy="716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hord 19"/>
          <p:cNvSpPr/>
          <p:nvPr/>
        </p:nvSpPr>
        <p:spPr>
          <a:xfrm flipH="1" flipV="1" rot="11856000">
            <a:off x="4082040" y="5342760"/>
            <a:ext cx="469800" cy="614520"/>
          </a:xfrm>
          <a:custGeom>
            <a:avLst/>
            <a:gdLst/>
            <a:ahLst/>
            <a:rect l="l" t="t" r="r" b="b"/>
            <a:pathLst>
              <a:path w="469900" h="614363">
                <a:moveTo>
                  <a:pt x="421571" y="493802"/>
                </a:moveTo>
                <a:cubicBezTo>
                  <a:pt x="343092" y="627952"/>
                  <a:pt x="196501" y="654108"/>
                  <a:pt x="93399" y="552355"/>
                </a:cubicBezTo>
                <a:cubicBezTo>
                  <a:pt x="21072" y="480975"/>
                  <a:pt x="-13409" y="361575"/>
                  <a:pt x="4784" y="245508"/>
                </a:cubicBezTo>
                <a:cubicBezTo>
                  <a:pt x="27185" y="102599"/>
                  <a:pt x="123373" y="-1"/>
                  <a:pt x="234950" y="-1"/>
                </a:cubicBezTo>
                <a:lnTo>
                  <a:pt x="421571" y="493802"/>
                </a:lnTo>
                <a:close/>
              </a:path>
            </a:pathLst>
          </a:custGeom>
          <a:solidFill>
            <a:srgbClr val="c4bd97"/>
          </a:solidFill>
          <a:ln w="25560">
            <a:solidFill>
              <a:srgbClr val="948a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0"/>
          <p:cNvSpPr/>
          <p:nvPr/>
        </p:nvSpPr>
        <p:spPr>
          <a:xfrm>
            <a:off x="4143240" y="4786200"/>
            <a:ext cx="142920" cy="716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sosceles Triangle 21"/>
          <p:cNvSpPr/>
          <p:nvPr/>
        </p:nvSpPr>
        <p:spPr>
          <a:xfrm rot="10800000">
            <a:off x="3928680" y="4714920"/>
            <a:ext cx="1143000" cy="714240"/>
          </a:xfrm>
          <a:prstGeom prst="triangle">
            <a:avLst>
              <a:gd name="adj" fmla="val 50000"/>
            </a:avLst>
          </a:prstGeom>
          <a:solidFill>
            <a:srgbClr val="c6d9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5" descr=""/>
          <p:cNvPicPr/>
          <p:nvPr/>
        </p:nvPicPr>
        <p:blipFill>
          <a:blip r:embed="rId1"/>
          <a:stretch/>
        </p:blipFill>
        <p:spPr>
          <a:xfrm>
            <a:off x="4714920" y="3009960"/>
            <a:ext cx="3228840" cy="311292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6" descr=""/>
          <p:cNvPicPr/>
          <p:nvPr/>
        </p:nvPicPr>
        <p:blipFill>
          <a:blip r:embed="rId2"/>
          <a:stretch/>
        </p:blipFill>
        <p:spPr>
          <a:xfrm>
            <a:off x="900000" y="3005280"/>
            <a:ext cx="3214800" cy="3100320"/>
          </a:xfrm>
          <a:prstGeom prst="rect">
            <a:avLst/>
          </a:prstGeom>
          <a:ln w="0">
            <a:noFill/>
          </a:ln>
        </p:spPr>
      </p:pic>
      <p:sp>
        <p:nvSpPr>
          <p:cNvPr id="104" name="Content Placeholder 2"/>
          <p:cNvSpPr/>
          <p:nvPr/>
        </p:nvSpPr>
        <p:spPr>
          <a:xfrm>
            <a:off x="571680" y="1500120"/>
            <a:ext cx="8229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s the prostate of a 79 year old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He died of a ruptured aortic aneurysm and the abnormal prostate was an incidental finding at autop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4f81bd"/>
                </a:solidFill>
                <a:latin typeface="Calibri"/>
              </a:rPr>
              <a:t>Case 2 Clinical da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286240" y="1600200"/>
            <a:ext cx="340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prostate is enlarged and coarsely nodular. (The normal prostate is the size of a walnut and weighs about 20g.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6" descr="IMG_0007_3.jpg"/>
          <p:cNvPicPr/>
          <p:nvPr/>
        </p:nvPicPr>
        <p:blipFill>
          <a:blip r:embed="rId1"/>
          <a:srcRect l="0" t="0" r="0" b="23563"/>
          <a:stretch/>
        </p:blipFill>
        <p:spPr>
          <a:xfrm>
            <a:off x="428760" y="1428840"/>
            <a:ext cx="4819680" cy="3571920"/>
          </a:xfrm>
          <a:prstGeom prst="rect">
            <a:avLst/>
          </a:prstGeom>
          <a:ln w="0">
            <a:noFill/>
          </a:ln>
        </p:spPr>
      </p:pic>
      <p:cxnSp>
        <p:nvCxnSpPr>
          <p:cNvPr id="108" name="Straight Arrow Connector 6"/>
          <p:cNvCxnSpPr/>
          <p:nvPr/>
        </p:nvCxnSpPr>
        <p:spPr>
          <a:xfrm>
            <a:off x="571680" y="5214960"/>
            <a:ext cx="457272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9" name="TextBox 7"/>
          <p:cNvSpPr/>
          <p:nvPr/>
        </p:nvSpPr>
        <p:spPr>
          <a:xfrm>
            <a:off x="2361960" y="528624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376092"/>
                </a:solidFill>
                <a:latin typeface="Calibri"/>
              </a:rPr>
              <a:t>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111744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6:43:13Z</dcterms:created>
  <dc:creator>New Win User</dc:creator>
  <dc:description/>
  <dc:language>en-US</dc:language>
  <cp:lastModifiedBy>Sam</cp:lastModifiedBy>
  <dcterms:modified xsi:type="dcterms:W3CDTF">2011-09-10T22:58:37Z</dcterms:modified>
  <cp:revision>206</cp:revision>
  <dc:subject/>
  <dc:title>Slide 1</dc:title>
</cp:coreProperties>
</file>