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wmf" ContentType="image/x-wmf"/>
  <Override PartName="/ppt/media/image12.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1BA92-2195-478C-96C2-BE79F1440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8FF04-FB37-462E-B0C4-8AD1DC8A4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91237-A561-40D5-866F-357E3E748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BD0E2-1194-446D-BF2C-F91D83152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046F-C4B7-4476-B34B-A927992C7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1F6C3-2D4B-49FF-8441-B0CF344C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451BA-2E09-436F-AAA5-892F31BD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05EA-DB3E-4174-A834-AD8D7B29B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7F5E-476B-45E1-88EC-FFD88EE3C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E28A-66E2-46AC-B108-30D761DB5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B5B9-EB13-4A9F-93D4-0F4A875D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C13D-1335-499A-8DEB-ED72BD1FA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5F78-CC56-411D-9BFB-BB3E450D1DB4}"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
          <p:cNvPicPr/>
          <p:nvPr/>
        </p:nvPicPr>
        <p:blipFill>
          <a:blip r:embed="rId2"/>
          <a:stretch/>
        </p:blipFill>
        <p:spPr>
          <a:xfrm>
            <a:off x="7740720" y="6130800"/>
            <a:ext cx="1117440" cy="393840"/>
          </a:xfrm>
          <a:prstGeom prst="rect">
            <a:avLst/>
          </a:prstGeom>
          <a:ln w="0">
            <a:noFill/>
          </a:ln>
        </p:spPr>
      </p:pic>
      <p:sp>
        <p:nvSpPr>
          <p:cNvPr id="6" name="TextBox 2"/>
          <p:cNvSpPr/>
          <p:nvPr/>
        </p:nvSpPr>
        <p:spPr>
          <a:xfrm>
            <a:off x="7192080" y="6524640"/>
            <a:ext cx="1845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iversity of Cape Tow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lickr.com/photos/cindy47452/3577240802/" TargetMode="External"/><Relationship Id="rId3" Type="http://schemas.openxmlformats.org/officeDocument/2006/relationships/hyperlink" Target="http://creativecommons.org/licenses/by-nc-sa/2.0/deed.en"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Rheumatic heart disease</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32000" y="414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898989"/>
                </a:solidFill>
                <a:latin typeface="Calibri"/>
              </a:rPr>
              <a:t>Digital Pathology Collec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898989"/>
                </a:solidFill>
                <a:latin typeface="Calibri"/>
              </a:rPr>
              <a:t>Case 14  201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898989"/>
                </a:solidFill>
                <a:latin typeface="Calibri"/>
              </a:rPr>
              <a:t>Ref.  II:iv:2 &amp; II:iv:5</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5" name="Group 7"/>
          <p:cNvGrpSpPr/>
          <p:nvPr/>
        </p:nvGrpSpPr>
        <p:grpSpPr>
          <a:xfrm>
            <a:off x="3059280" y="2276640"/>
            <a:ext cx="2533320" cy="1657080"/>
            <a:chOff x="3059280" y="2276640"/>
            <a:chExt cx="2533320" cy="1657080"/>
          </a:xfrm>
        </p:grpSpPr>
        <p:pic>
          <p:nvPicPr>
            <p:cNvPr id="46" name="Picture 2" descr=""/>
            <p:cNvPicPr/>
            <p:nvPr/>
          </p:nvPicPr>
          <p:blipFill>
            <a:blip r:embed="rId1"/>
            <a:stretch/>
          </p:blipFill>
          <p:spPr>
            <a:xfrm>
              <a:off x="3118680" y="2276640"/>
              <a:ext cx="2473920" cy="1657080"/>
            </a:xfrm>
            <a:prstGeom prst="rect">
              <a:avLst/>
            </a:prstGeom>
            <a:ln w="0">
              <a:noFill/>
            </a:ln>
          </p:spPr>
        </p:pic>
        <p:pic>
          <p:nvPicPr>
            <p:cNvPr id="47" name="Picture 2" descr=""/>
            <p:cNvPicPr/>
            <p:nvPr/>
          </p:nvPicPr>
          <p:blipFill>
            <a:blip r:embed="rId2">
              <a:lum bright="10000"/>
            </a:blip>
            <a:srcRect l="0" t="59973" r="79914" b="27287"/>
            <a:stretch/>
          </p:blipFill>
          <p:spPr>
            <a:xfrm>
              <a:off x="3059280" y="3697200"/>
              <a:ext cx="520920" cy="236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Chronic rheumatic heart disease</a:t>
            </a:r>
            <a:endParaRPr b="0" lang="en-US" sz="4400" spc="-1" strike="noStrike">
              <a:solidFill>
                <a:srgbClr val="000000"/>
              </a:solidFill>
              <a:latin typeface="Calibri"/>
            </a:endParaRPr>
          </a:p>
        </p:txBody>
      </p:sp>
      <p:sp>
        <p:nvSpPr>
          <p:cNvPr id="123" name=""/>
          <p:cNvSpPr txBox="1"/>
          <p:nvPr/>
        </p:nvSpPr>
        <p:spPr>
          <a:xfrm>
            <a:off x="500040" y="1499760"/>
            <a:ext cx="8229600" cy="48294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n chronic rheumatic heart disease (RHD) the inflammatory lesions in the heart undergo organisation and fibrosis.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ecurrent episodes of rheumatic fever cause cumulative damag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n particular, the valves become scarred and distorted, affecting their function.</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Clinical signs of the valvular and other cardiac damage may take years or decades to appear.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mitral valve is almost always affected by RHD, with or without aortic valve abnormality. More rarely there are right sided valve abnormalities. </a:t>
            </a:r>
            <a:endParaRPr b="0" lang="en-US" sz="24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	</a:t>
            </a:r>
            <a:r>
              <a:rPr b="0" lang="en-ZA" sz="2000" spc="-1" strike="noStrike">
                <a:solidFill>
                  <a:srgbClr val="000000"/>
                </a:solidFill>
                <a:latin typeface="Calibri"/>
              </a:rPr>
              <a:t>(Think about why the left sided valves are </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	</a:t>
            </a:r>
            <a:r>
              <a:rPr b="0" lang="en-ZA" sz="2000" spc="-1" strike="noStrike">
                <a:solidFill>
                  <a:srgbClr val="000000"/>
                </a:solidFill>
                <a:latin typeface="Calibri"/>
              </a:rPr>
              <a:t>more susceptible to damag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5580000" y="5157720"/>
            <a:ext cx="3529080" cy="16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 descr=""/>
          <p:cNvPicPr/>
          <p:nvPr/>
        </p:nvPicPr>
        <p:blipFill>
          <a:blip r:embed="rId1"/>
          <a:stretch/>
        </p:blipFill>
        <p:spPr>
          <a:xfrm>
            <a:off x="855720" y="406440"/>
            <a:ext cx="7372440" cy="612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Mitral stenosi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99% of cases of mitral stenosis are attributable to RH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n a significant number of cases the acute phase of rheumatic fever goes unnotic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is patient was a white man aged 38 years. He had no previous history of rheumatic fev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Clinical finding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He presented with swelling of the abdomen for one mont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He had also noticed breathlessness and palpitations. On examination he was orthopnoei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re was oedema of the legs and scrotu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His pulse was very rapid and totally irregula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heart was enlarged with an early diastolic murmur in mitral are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liver was greatly enlar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Signs of cardiac failure worsened and the patient died as a conseque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Pathology</a:t>
            </a:r>
            <a:endParaRPr b="0" lang="en-US" sz="4400" spc="-1" strike="noStrike">
              <a:solidFill>
                <a:srgbClr val="000000"/>
              </a:solidFill>
              <a:latin typeface="Calibri"/>
            </a:endParaRPr>
          </a:p>
        </p:txBody>
      </p:sp>
      <p:sp>
        <p:nvSpPr>
          <p:cNvPr id="131"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A cross-section of the left side of the heart, viewing the left atrium from abo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 descr=""/>
          <p:cNvPicPr/>
          <p:nvPr/>
        </p:nvPicPr>
        <p:blipFill>
          <a:blip r:embed="rId1"/>
          <a:stretch/>
        </p:blipFill>
        <p:spPr>
          <a:xfrm>
            <a:off x="2354400" y="2554200"/>
            <a:ext cx="4506840" cy="3743280"/>
          </a:xfrm>
          <a:prstGeom prst="rect">
            <a:avLst/>
          </a:prstGeom>
          <a:ln w="0">
            <a:noFill/>
          </a:ln>
        </p:spPr>
      </p:pic>
      <p:grpSp>
        <p:nvGrpSpPr>
          <p:cNvPr id="133" name="Group 8"/>
          <p:cNvGrpSpPr/>
          <p:nvPr/>
        </p:nvGrpSpPr>
        <p:grpSpPr>
          <a:xfrm>
            <a:off x="3429000" y="3643200"/>
            <a:ext cx="2214720" cy="1857600"/>
            <a:chOff x="3429000" y="3643200"/>
            <a:chExt cx="2214720" cy="1857600"/>
          </a:xfrm>
        </p:grpSpPr>
        <p:sp>
          <p:nvSpPr>
            <p:cNvPr id="134" name="Oval 4"/>
            <p:cNvSpPr/>
            <p:nvPr/>
          </p:nvSpPr>
          <p:spPr>
            <a:xfrm>
              <a:off x="3429000" y="3643200"/>
              <a:ext cx="2214720" cy="18576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3860640" y="4000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A</a:t>
              </a:r>
              <a:endParaRPr b="0" lang="en-US" sz="1800" spc="-1" strike="noStrike">
                <a:solidFill>
                  <a:srgbClr val="000000"/>
                </a:solidFill>
                <a:latin typeface="Arial"/>
              </a:endParaRPr>
            </a:p>
          </p:txBody>
        </p:sp>
      </p:grpSp>
      <p:grpSp>
        <p:nvGrpSpPr>
          <p:cNvPr id="136" name="Group 9"/>
          <p:cNvGrpSpPr/>
          <p:nvPr/>
        </p:nvGrpSpPr>
        <p:grpSpPr>
          <a:xfrm>
            <a:off x="3071880" y="2357280"/>
            <a:ext cx="1285920" cy="857520"/>
            <a:chOff x="3071880" y="2357280"/>
            <a:chExt cx="1285920" cy="857520"/>
          </a:xfrm>
        </p:grpSpPr>
        <p:sp>
          <p:nvSpPr>
            <p:cNvPr id="137" name="Oval 6"/>
            <p:cNvSpPr/>
            <p:nvPr/>
          </p:nvSpPr>
          <p:spPr>
            <a:xfrm>
              <a:off x="3071880" y="2357280"/>
              <a:ext cx="1285920" cy="8575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7"/>
            <p:cNvSpPr/>
            <p:nvPr/>
          </p:nvSpPr>
          <p:spPr>
            <a:xfrm>
              <a:off x="3362040" y="264312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Aor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 </a:t>
            </a:r>
            <a:endParaRPr b="0" lang="en-US" sz="2400" spc="-1" strike="noStrike">
              <a:solidFill>
                <a:srgbClr val="000000"/>
              </a:solidFill>
              <a:latin typeface="Calibri"/>
            </a:endParaRPr>
          </a:p>
        </p:txBody>
      </p:sp>
      <p:sp>
        <p:nvSpPr>
          <p:cNvPr id="140" name=""/>
          <p:cNvSpPr txBox="1"/>
          <p:nvPr/>
        </p:nvSpPr>
        <p:spPr>
          <a:xfrm>
            <a:off x="5785920" y="1071720"/>
            <a:ext cx="2900520" cy="505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mitral valve curtains are adhesed, thickened, distorted and calcified, resulting in </a:t>
            </a:r>
            <a:r>
              <a:rPr b="1" lang="en-ZA" sz="2400" spc="-1" strike="noStrike">
                <a:solidFill>
                  <a:srgbClr val="000000"/>
                </a:solidFill>
                <a:latin typeface="Calibri"/>
              </a:rPr>
              <a:t>funnel stenosis</a:t>
            </a:r>
            <a:r>
              <a:rPr b="0" lang="en-ZA"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orifice is narrowed to a typical “fishmouth” or "buttonhole”.</a:t>
            </a:r>
            <a:endParaRPr b="0" lang="en-US" sz="2400" spc="-1" strike="noStrike">
              <a:solidFill>
                <a:srgbClr val="000000"/>
              </a:solidFill>
              <a:latin typeface="Calibri"/>
            </a:endParaRPr>
          </a:p>
        </p:txBody>
      </p:sp>
      <p:pic>
        <p:nvPicPr>
          <p:cNvPr id="141" name="Picture 1" descr=""/>
          <p:cNvPicPr/>
          <p:nvPr/>
        </p:nvPicPr>
        <p:blipFill>
          <a:blip r:embed="rId1"/>
          <a:stretch/>
        </p:blipFill>
        <p:spPr>
          <a:xfrm>
            <a:off x="714240" y="1643040"/>
            <a:ext cx="4557960" cy="3786120"/>
          </a:xfrm>
          <a:prstGeom prst="rect">
            <a:avLst/>
          </a:prstGeom>
          <a:ln w="0">
            <a:noFill/>
          </a:ln>
        </p:spPr>
      </p:pic>
      <p:pic>
        <p:nvPicPr>
          <p:cNvPr id="142" name="Picture 15" descr="C:\Documents and Settings\Administrator\Local Settings\Temporary Internet Files\Content.IE5\PE06M94Q\MCj03302270000[1].wmf"/>
          <p:cNvPicPr/>
          <p:nvPr/>
        </p:nvPicPr>
        <p:blipFill>
          <a:blip r:embed="rId2"/>
          <a:stretch/>
        </p:blipFill>
        <p:spPr>
          <a:xfrm rot="20059800">
            <a:off x="2643120" y="2857320"/>
            <a:ext cx="1335240" cy="1780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4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42"/>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pic.jpg"/>
          <p:cNvPicPr/>
          <p:nvPr/>
        </p:nvPicPr>
        <p:blipFill>
          <a:blip r:embed="rId1"/>
          <a:stretch/>
        </p:blipFill>
        <p:spPr>
          <a:xfrm>
            <a:off x="0" y="-179280"/>
            <a:ext cx="9144000" cy="7037280"/>
          </a:xfrm>
          <a:prstGeom prst="rect">
            <a:avLst/>
          </a:prstGeom>
          <a:ln w="0">
            <a:noFill/>
          </a:ln>
        </p:spPr>
      </p:pic>
      <p:sp>
        <p:nvSpPr>
          <p:cNvPr id="144" name="TextBox 4"/>
          <p:cNvSpPr/>
          <p:nvPr/>
        </p:nvSpPr>
        <p:spPr>
          <a:xfrm>
            <a:off x="14760" y="6670800"/>
            <a:ext cx="2634480" cy="21564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oto by </a:t>
            </a:r>
            <a:r>
              <a:rPr b="0" lang="en-US" sz="800" spc="-1" strike="noStrike" u="sng">
                <a:solidFill>
                  <a:srgbClr val="0000ff"/>
                </a:solidFill>
                <a:uFillTx/>
                <a:latin typeface="Arial"/>
                <a:hlinkClick r:id="rId2"/>
              </a:rPr>
              <a:t>Cindy Seigle</a:t>
            </a:r>
            <a:r>
              <a:rPr b="0" lang="en-US" sz="800" spc="-1" strike="noStrike">
                <a:solidFill>
                  <a:srgbClr val="000000"/>
                </a:solidFill>
                <a:latin typeface="Arial"/>
              </a:rPr>
              <a:t>, Creative Commons </a:t>
            </a:r>
            <a:r>
              <a:rPr b="0" lang="en-US" sz="800" spc="-1" strike="noStrike" u="sng">
                <a:solidFill>
                  <a:srgbClr val="0000ff"/>
                </a:solidFill>
                <a:uFillTx/>
                <a:latin typeface="Arial"/>
                <a:hlinkClick r:id="rId3"/>
              </a:rPr>
              <a:t>BY-NC-S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857160"/>
            <a:ext cx="31860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Here is the transected left ventricle,  viewing the abnormal mitral valve from bel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chordae tendineae are also thickened and retracted (shortened) by fibro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6" name="Picture 1" descr=""/>
          <p:cNvPicPr/>
          <p:nvPr/>
        </p:nvPicPr>
        <p:blipFill>
          <a:blip r:embed="rId1"/>
          <a:stretch/>
        </p:blipFill>
        <p:spPr>
          <a:xfrm>
            <a:off x="3857760" y="1508040"/>
            <a:ext cx="4929120" cy="39038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The results of chronic RHD</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consequences of valve damage are heart murmurs, cardiac hypertrophy and/or dilatation and cardiac failu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Other complications are arrhythmias, thromboembolic events (such as stroke) and infective endocardit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Comment</a:t>
            </a:r>
            <a:endParaRPr b="0" lang="en-US" sz="4400" spc="-1" strike="noStrike">
              <a:solidFill>
                <a:srgbClr val="000000"/>
              </a:solidFill>
              <a:latin typeface="Calibri"/>
            </a:endParaRPr>
          </a:p>
        </p:txBody>
      </p:sp>
      <p:sp>
        <p:nvSpPr>
          <p:cNvPr id="150"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Note that our 2 cases date from the 1920’s and 1930’s.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At this time the link between streptococcal  sore throat and rheumatic fever was recognised but not fully understood.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Penicillin prophylaxis to prevent (recurrent) attacks of rheumatic fever only came into use after World War II. </a:t>
            </a:r>
            <a:endParaRPr b="0" lang="en-US" sz="2400" spc="-1" strike="noStrike">
              <a:solidFill>
                <a:srgbClr val="000000"/>
              </a:solidFill>
              <a:latin typeface="Calibri"/>
            </a:endParaRPr>
          </a:p>
        </p:txBody>
      </p:sp>
      <p:pic>
        <p:nvPicPr>
          <p:cNvPr id="151" name="Picture 3" descr="C:\Documents and Settings\Administrator\Desktop\betacol vs alphacol.jpg"/>
          <p:cNvPicPr/>
          <p:nvPr/>
        </p:nvPicPr>
        <p:blipFill>
          <a:blip r:embed="rId1"/>
          <a:srcRect l="5190" t="0" r="11673" b="0"/>
          <a:stretch/>
        </p:blipFill>
        <p:spPr>
          <a:xfrm>
            <a:off x="4857840" y="1643040"/>
            <a:ext cx="3692520" cy="3284640"/>
          </a:xfrm>
          <a:prstGeom prst="rect">
            <a:avLst/>
          </a:prstGeom>
          <a:ln w="0">
            <a:noFill/>
          </a:ln>
        </p:spPr>
      </p:pic>
      <p:sp>
        <p:nvSpPr>
          <p:cNvPr id="152" name="Rectangle 5"/>
          <p:cNvSpPr/>
          <p:nvPr/>
        </p:nvSpPr>
        <p:spPr>
          <a:xfrm>
            <a:off x="5580000" y="5157720"/>
            <a:ext cx="3529080" cy="16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4"/>
          <p:cNvSpPr/>
          <p:nvPr/>
        </p:nvSpPr>
        <p:spPr>
          <a:xfrm>
            <a:off x="5778360" y="5157720"/>
            <a:ext cx="185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ge used with permission from th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artment of Microbiology, UC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a:off x="5580000" y="5157720"/>
            <a:ext cx="3529080" cy="16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Case 1</a:t>
            </a:r>
            <a:endParaRPr b="0" lang="en-US" sz="4400" spc="-1" strike="noStrike">
              <a:solidFill>
                <a:srgbClr val="000000"/>
              </a:solidFill>
              <a:latin typeface="Calibri"/>
            </a:endParaRPr>
          </a:p>
        </p:txBody>
      </p:sp>
      <p:grpSp>
        <p:nvGrpSpPr>
          <p:cNvPr id="50" name="Group 7"/>
          <p:cNvGrpSpPr/>
          <p:nvPr/>
        </p:nvGrpSpPr>
        <p:grpSpPr>
          <a:xfrm>
            <a:off x="785880" y="1214280"/>
            <a:ext cx="7464240" cy="5000760"/>
            <a:chOff x="785880" y="1214280"/>
            <a:chExt cx="7464240" cy="5000760"/>
          </a:xfrm>
        </p:grpSpPr>
        <p:pic>
          <p:nvPicPr>
            <p:cNvPr id="51" name="Picture 2" descr=""/>
            <p:cNvPicPr/>
            <p:nvPr/>
          </p:nvPicPr>
          <p:blipFill>
            <a:blip r:embed="rId1"/>
            <a:stretch/>
          </p:blipFill>
          <p:spPr>
            <a:xfrm>
              <a:off x="786960" y="1214280"/>
              <a:ext cx="7463160" cy="5000760"/>
            </a:xfrm>
            <a:prstGeom prst="rect">
              <a:avLst/>
            </a:prstGeom>
            <a:ln w="0">
              <a:noFill/>
            </a:ln>
          </p:spPr>
        </p:pic>
        <p:pic>
          <p:nvPicPr>
            <p:cNvPr id="52" name="Picture 2" descr=""/>
            <p:cNvPicPr/>
            <p:nvPr/>
          </p:nvPicPr>
          <p:blipFill>
            <a:blip r:embed="rId2">
              <a:lum bright="10000"/>
            </a:blip>
            <a:srcRect l="0" t="59966" r="79910" b="27283"/>
            <a:stretch/>
          </p:blipFill>
          <p:spPr>
            <a:xfrm>
              <a:off x="785880" y="5500800"/>
              <a:ext cx="1500120" cy="714240"/>
            </a:xfrm>
            <a:prstGeom prst="rect">
              <a:avLst/>
            </a:prstGeom>
            <a:ln w="0">
              <a:noFill/>
            </a:ln>
          </p:spPr>
        </p:pic>
      </p:grpSp>
      <p:grpSp>
        <p:nvGrpSpPr>
          <p:cNvPr id="53" name="Group 20"/>
          <p:cNvGrpSpPr/>
          <p:nvPr/>
        </p:nvGrpSpPr>
        <p:grpSpPr>
          <a:xfrm>
            <a:off x="3667320" y="2214720"/>
            <a:ext cx="4034880" cy="643320"/>
            <a:chOff x="3667320" y="2214720"/>
            <a:chExt cx="4034880" cy="643320"/>
          </a:xfrm>
        </p:grpSpPr>
        <p:sp>
          <p:nvSpPr>
            <p:cNvPr id="54" name="TextBox 8"/>
            <p:cNvSpPr/>
            <p:nvPr/>
          </p:nvSpPr>
          <p:spPr>
            <a:xfrm>
              <a:off x="3667320" y="2214720"/>
              <a:ext cx="40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Rheumatic vegetations on mitral valve</a:t>
              </a:r>
              <a:endParaRPr b="0" lang="en-US" sz="1800" spc="-1" strike="noStrike">
                <a:solidFill>
                  <a:srgbClr val="000000"/>
                </a:solidFill>
                <a:latin typeface="Arial"/>
              </a:endParaRPr>
            </a:p>
          </p:txBody>
        </p:sp>
        <p:cxnSp>
          <p:nvCxnSpPr>
            <p:cNvPr id="55" name="Straight Arrow Connector 10"/>
            <p:cNvCxnSpPr/>
            <p:nvPr/>
          </p:nvCxnSpPr>
          <p:spPr>
            <a:xfrm flipH="1">
              <a:off x="4641480" y="2571840"/>
              <a:ext cx="2160" cy="286560"/>
            </a:xfrm>
            <a:prstGeom prst="straightConnector1">
              <a:avLst/>
            </a:prstGeom>
            <a:ln w="28440">
              <a:solidFill>
                <a:srgbClr val="ffffff"/>
              </a:solidFill>
              <a:miter/>
              <a:tailEnd len="med" type="arrow" w="med"/>
            </a:ln>
          </p:spPr>
        </p:cxnSp>
        <p:cxnSp>
          <p:nvCxnSpPr>
            <p:cNvPr id="56" name="Straight Arrow Connector 11"/>
            <p:cNvCxnSpPr/>
            <p:nvPr/>
          </p:nvCxnSpPr>
          <p:spPr>
            <a:xfrm flipH="1">
              <a:off x="5500080" y="2571480"/>
              <a:ext cx="2160" cy="214920"/>
            </a:xfrm>
            <a:prstGeom prst="straightConnector1">
              <a:avLst/>
            </a:prstGeom>
            <a:ln w="28440">
              <a:solidFill>
                <a:srgbClr val="ffffff"/>
              </a:solidFill>
              <a:miter/>
              <a:tailEnd len="med" type="arrow" w="med"/>
            </a:ln>
          </p:spPr>
        </p:cxnSp>
        <p:cxnSp>
          <p:nvCxnSpPr>
            <p:cNvPr id="57" name="Straight Arrow Connector 12"/>
            <p:cNvCxnSpPr/>
            <p:nvPr/>
          </p:nvCxnSpPr>
          <p:spPr>
            <a:xfrm flipH="1">
              <a:off x="6000480" y="2571480"/>
              <a:ext cx="2160" cy="214920"/>
            </a:xfrm>
            <a:prstGeom prst="straightConnector1">
              <a:avLst/>
            </a:prstGeom>
            <a:ln w="28440">
              <a:solidFill>
                <a:srgbClr val="ffffff"/>
              </a:solidFill>
              <a:miter/>
              <a:tailEnd len="med" type="arrow" w="med"/>
            </a:ln>
          </p:spPr>
        </p:cxnSp>
        <p:cxnSp>
          <p:nvCxnSpPr>
            <p:cNvPr id="58" name="Straight Arrow Connector 13"/>
            <p:cNvCxnSpPr/>
            <p:nvPr/>
          </p:nvCxnSpPr>
          <p:spPr>
            <a:xfrm flipH="1">
              <a:off x="6500520" y="2571480"/>
              <a:ext cx="2160" cy="214920"/>
            </a:xfrm>
            <a:prstGeom prst="straightConnector1">
              <a:avLst/>
            </a:prstGeom>
            <a:ln w="28440">
              <a:solidFill>
                <a:srgbClr val="ffffff"/>
              </a:solidFill>
              <a:miter/>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C:\Documents and Settings\Administrator\Desktop\betacol vs alphacol.jpg"/>
          <p:cNvPicPr/>
          <p:nvPr/>
        </p:nvPicPr>
        <p:blipFill>
          <a:blip r:embed="rId1"/>
          <a:srcRect l="5190" t="0" r="11673" b="0"/>
          <a:stretch/>
        </p:blipFill>
        <p:spPr>
          <a:xfrm>
            <a:off x="2725560" y="1285920"/>
            <a:ext cx="3692880" cy="328464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Streptococci</a:t>
            </a:r>
            <a:endParaRPr b="0" lang="en-US" sz="4400" spc="-1" strike="noStrike">
              <a:solidFill>
                <a:srgbClr val="000000"/>
              </a:solidFill>
              <a:latin typeface="Calibri"/>
            </a:endParaRPr>
          </a:p>
        </p:txBody>
      </p:sp>
      <p:sp>
        <p:nvSpPr>
          <p:cNvPr id="156" name="TextBox 3"/>
          <p:cNvSpPr/>
          <p:nvPr/>
        </p:nvSpPr>
        <p:spPr>
          <a:xfrm>
            <a:off x="1866960" y="4643280"/>
            <a:ext cx="15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4a452a"/>
                </a:solidFill>
                <a:latin typeface="Arial"/>
              </a:rPr>
              <a:t>α</a:t>
            </a:r>
            <a:r>
              <a:rPr b="1" lang="en-ZA" sz="1800" spc="-1" strike="noStrike">
                <a:solidFill>
                  <a:srgbClr val="4a452a"/>
                </a:solidFill>
                <a:latin typeface="Arial"/>
              </a:rPr>
              <a:t>-haemolytic</a:t>
            </a:r>
            <a:endParaRPr b="0" lang="en-US" sz="1800" spc="-1" strike="noStrike">
              <a:solidFill>
                <a:srgbClr val="000000"/>
              </a:solidFill>
              <a:latin typeface="Arial"/>
            </a:endParaRPr>
          </a:p>
        </p:txBody>
      </p:sp>
      <p:sp>
        <p:nvSpPr>
          <p:cNvPr id="157" name="TextBox 4"/>
          <p:cNvSpPr/>
          <p:nvPr/>
        </p:nvSpPr>
        <p:spPr>
          <a:xfrm>
            <a:off x="5509800" y="4365720"/>
            <a:ext cx="15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632523"/>
                </a:solidFill>
                <a:latin typeface="Arial"/>
              </a:rPr>
              <a:t>β</a:t>
            </a:r>
            <a:r>
              <a:rPr b="1" lang="en-ZA" sz="1800" spc="-1" strike="noStrike">
                <a:solidFill>
                  <a:srgbClr val="632523"/>
                </a:solidFill>
                <a:latin typeface="Arial"/>
              </a:rPr>
              <a:t>-haemolytic</a:t>
            </a:r>
            <a:endParaRPr b="0" lang="en-US" sz="1800" spc="-1" strike="noStrike">
              <a:solidFill>
                <a:srgbClr val="000000"/>
              </a:solidFill>
              <a:latin typeface="Arial"/>
            </a:endParaRPr>
          </a:p>
        </p:txBody>
      </p:sp>
      <p:sp>
        <p:nvSpPr>
          <p:cNvPr id="158" name="Rectangle 12"/>
          <p:cNvSpPr/>
          <p:nvPr/>
        </p:nvSpPr>
        <p:spPr>
          <a:xfrm>
            <a:off x="5580000" y="5157720"/>
            <a:ext cx="3529080" cy="16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1"/>
          <p:cNvGrpSpPr/>
          <p:nvPr/>
        </p:nvGrpSpPr>
        <p:grpSpPr>
          <a:xfrm>
            <a:off x="4580280" y="4795560"/>
            <a:ext cx="3656880" cy="582120"/>
            <a:chOff x="4580280" y="4795560"/>
            <a:chExt cx="3656880" cy="582120"/>
          </a:xfrm>
        </p:grpSpPr>
        <p:cxnSp>
          <p:nvCxnSpPr>
            <p:cNvPr id="160" name="Straight Arrow Connector 6"/>
            <p:cNvCxnSpPr/>
            <p:nvPr/>
          </p:nvCxnSpPr>
          <p:spPr>
            <a:xfrm flipH="1">
              <a:off x="6143400" y="4795560"/>
              <a:ext cx="2160" cy="214920"/>
            </a:xfrm>
            <a:prstGeom prst="straightConnector1">
              <a:avLst/>
            </a:prstGeom>
            <a:ln w="28440">
              <a:solidFill>
                <a:srgbClr val="632523"/>
              </a:solidFill>
              <a:miter/>
              <a:tailEnd len="med" type="arrow" w="med"/>
            </a:ln>
          </p:spPr>
        </p:cxnSp>
        <p:sp>
          <p:nvSpPr>
            <p:cNvPr id="161" name="TextBox 7"/>
            <p:cNvSpPr/>
            <p:nvPr/>
          </p:nvSpPr>
          <p:spPr>
            <a:xfrm>
              <a:off x="4580280" y="5009400"/>
              <a:ext cx="365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roup A  Streptococcus pyogenes</a:t>
              </a:r>
              <a:endParaRPr b="0" lang="en-US" sz="1800" spc="-1" strike="noStrike">
                <a:solidFill>
                  <a:srgbClr val="000000"/>
                </a:solidFill>
                <a:latin typeface="Arial"/>
              </a:endParaRPr>
            </a:p>
          </p:txBody>
        </p:sp>
      </p:grpSp>
      <p:grpSp>
        <p:nvGrpSpPr>
          <p:cNvPr id="162" name="Group 12"/>
          <p:cNvGrpSpPr/>
          <p:nvPr/>
        </p:nvGrpSpPr>
        <p:grpSpPr>
          <a:xfrm>
            <a:off x="3633480" y="5436720"/>
            <a:ext cx="5113800" cy="583200"/>
            <a:chOff x="3633480" y="5436720"/>
            <a:chExt cx="5113800" cy="583200"/>
          </a:xfrm>
        </p:grpSpPr>
        <p:cxnSp>
          <p:nvCxnSpPr>
            <p:cNvPr id="163" name="Straight Arrow Connector 9"/>
            <p:cNvCxnSpPr/>
            <p:nvPr/>
          </p:nvCxnSpPr>
          <p:spPr>
            <a:xfrm flipH="1">
              <a:off x="6143400" y="5436720"/>
              <a:ext cx="2160" cy="214920"/>
            </a:xfrm>
            <a:prstGeom prst="straightConnector1">
              <a:avLst/>
            </a:prstGeom>
            <a:ln w="28440">
              <a:solidFill>
                <a:srgbClr val="632523"/>
              </a:solidFill>
              <a:miter/>
              <a:tailEnd len="med" type="arrow" w="med"/>
            </a:ln>
          </p:spPr>
        </p:cxnSp>
        <p:sp>
          <p:nvSpPr>
            <p:cNvPr id="164" name="TextBox 10"/>
            <p:cNvSpPr/>
            <p:nvPr/>
          </p:nvSpPr>
          <p:spPr>
            <a:xfrm>
              <a:off x="3633480" y="5651640"/>
              <a:ext cx="51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heumatic fever, scarlet fever, glomerulonephritis</a:t>
              </a:r>
              <a:endParaRPr b="0" lang="en-US" sz="1800" spc="-1" strike="noStrike">
                <a:solidFill>
                  <a:srgbClr val="000000"/>
                </a:solidFill>
                <a:latin typeface="Arial"/>
              </a:endParaRPr>
            </a:p>
          </p:txBody>
        </p:sp>
      </p:grpSp>
      <p:sp>
        <p:nvSpPr>
          <p:cNvPr id="165" name="TextBox 11"/>
          <p:cNvSpPr/>
          <p:nvPr/>
        </p:nvSpPr>
        <p:spPr>
          <a:xfrm>
            <a:off x="2556000" y="6524640"/>
            <a:ext cx="4032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ge used with permission from the Department of Microbiology, UC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59"/>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714240" y="857160"/>
            <a:ext cx="7786800" cy="5572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Life-saving valve replacement surgery was only developed in the 1960’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Currently, approximately 150 rheumatic valves are replaced each year by the cardiothoracic surgery unit at Groote Schuur Hos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7" name="Picture 5" descr=""/>
          <p:cNvPicPr/>
          <p:nvPr/>
        </p:nvPicPr>
        <p:blipFill>
          <a:blip r:embed="rId1"/>
          <a:stretch/>
        </p:blipFill>
        <p:spPr>
          <a:xfrm>
            <a:off x="785880" y="2000160"/>
            <a:ext cx="3894120" cy="2071800"/>
          </a:xfrm>
          <a:prstGeom prst="rect">
            <a:avLst/>
          </a:prstGeom>
          <a:ln w="0">
            <a:noFill/>
          </a:ln>
        </p:spPr>
      </p:pic>
      <p:pic>
        <p:nvPicPr>
          <p:cNvPr id="168" name="Picture 6" descr=""/>
          <p:cNvPicPr/>
          <p:nvPr/>
        </p:nvPicPr>
        <p:blipFill>
          <a:blip r:embed="rId2"/>
          <a:stretch/>
        </p:blipFill>
        <p:spPr>
          <a:xfrm>
            <a:off x="4859280" y="2000160"/>
            <a:ext cx="3502080" cy="2071800"/>
          </a:xfrm>
          <a:prstGeom prst="rect">
            <a:avLst/>
          </a:prstGeom>
          <a:ln w="0">
            <a:noFill/>
          </a:ln>
        </p:spPr>
      </p:pic>
      <p:sp>
        <p:nvSpPr>
          <p:cNvPr id="169" name="TextBox 6"/>
          <p:cNvSpPr/>
          <p:nvPr/>
        </p:nvSpPr>
        <p:spPr>
          <a:xfrm>
            <a:off x="1157760" y="4214880"/>
            <a:ext cx="2984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UCT prosthetic mitral val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M239/1968</a:t>
            </a:r>
            <a:endParaRPr b="0" lang="en-US" sz="1600" spc="-1" strike="noStrike">
              <a:solidFill>
                <a:srgbClr val="000000"/>
              </a:solidFill>
              <a:latin typeface="Arial"/>
            </a:endParaRPr>
          </a:p>
        </p:txBody>
      </p:sp>
      <p:sp>
        <p:nvSpPr>
          <p:cNvPr id="170" name="TextBox 7"/>
          <p:cNvSpPr/>
          <p:nvPr/>
        </p:nvSpPr>
        <p:spPr>
          <a:xfrm>
            <a:off x="5088960" y="4143240"/>
            <a:ext cx="28569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rr-Edwards mitral val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sth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M239/19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6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Links &amp; referenc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Rheumatic heart disease is still very important in developing countries such as South Africa, and even in crowded, economically depressed urban areas in the Western world. See this WHO map summarising the epidemiology </a:t>
            </a:r>
            <a:r>
              <a:rPr b="0" lang="en-ZA" sz="1800" spc="-1" strike="noStrike">
                <a:solidFill>
                  <a:srgbClr val="000000"/>
                </a:solidFill>
                <a:latin typeface="Calibri"/>
              </a:rPr>
              <a:t>http://www.who.int/cardiovascular_diseases/en/cvd_atlas_02_rheumaticHD.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89000" y="189000"/>
            <a:ext cx="8847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2"/>
          <p:cNvSpPr/>
          <p:nvPr/>
        </p:nvSpPr>
        <p:spPr>
          <a:xfrm>
            <a:off x="363600" y="558720"/>
            <a:ext cx="8497800" cy="5175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A selection of cases from the Digital Pathology Collection by the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Department of Clinical Laboratory Sciences</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University of Cape Town</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 </a:t>
            </a:r>
            <a:r>
              <a:rPr b="0" lang="en-ZA" sz="1600" spc="-1" strike="noStrike">
                <a:solidFill>
                  <a:srgbClr val="000000"/>
                </a:solidFill>
                <a:latin typeface="Arial"/>
              </a:rPr>
              <a:t>is licensed under 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 </a:t>
            </a:r>
            <a:r>
              <a:rPr b="0" lang="en-ZA" sz="1600" spc="-1" strike="noStrike">
                <a:solidFill>
                  <a:srgbClr val="000000"/>
                </a:solidFill>
                <a:latin typeface="Arial"/>
              </a:rPr>
              <a:t>Creative Commons Attribution-NonCommercial-ShareAlike 2.5 South Africa Licence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he full Digital Pathology Collection is accessible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www.digitalpathology.uct.ac.za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ZA" sz="1600" spc="-1" strike="noStrike">
                <a:solidFill>
                  <a:srgbClr val="000000"/>
                </a:solidFill>
                <a:latin typeface="Arial"/>
              </a:rPr>
              <a:t>If you would like to use an image or other item from our site that is not labelled with the Creative Commons Licence Logo, please contact the curator for permission.</a:t>
            </a:r>
            <a:endParaRPr b="0" lang="en-US" sz="1600" spc="-1" strike="noStrike">
              <a:solidFill>
                <a:srgbClr val="000000"/>
              </a:solidFill>
              <a:latin typeface="Arial"/>
            </a:endParaRPr>
          </a:p>
        </p:txBody>
      </p:sp>
      <p:pic>
        <p:nvPicPr>
          <p:cNvPr id="175" name="Picture 4" descr=""/>
          <p:cNvPicPr/>
          <p:nvPr/>
        </p:nvPicPr>
        <p:blipFill>
          <a:blip r:embed="rId1"/>
          <a:stretch/>
        </p:blipFill>
        <p:spPr>
          <a:xfrm>
            <a:off x="3529080" y="804960"/>
            <a:ext cx="1941480" cy="67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ZA" sz="4400" spc="-1" strike="noStrike">
                <a:solidFill>
                  <a:srgbClr val="376092"/>
                </a:solidFill>
                <a:latin typeface="Calibri"/>
              </a:rPr>
              <a:t>Pathology:</a:t>
            </a:r>
            <a:br>
              <a:rPr sz="4400"/>
            </a:br>
            <a:r>
              <a:rPr b="0" lang="en-ZA" sz="4400" spc="-1" strike="noStrike">
                <a:solidFill>
                  <a:srgbClr val="376092"/>
                </a:solidFill>
                <a:latin typeface="Calibri"/>
              </a:rPr>
              <a:t>Acute rheumatic endocarditis</a:t>
            </a:r>
            <a:br>
              <a:rPr sz="4400"/>
            </a:br>
            <a:endParaRPr b="0" lang="en-US" sz="44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is heart lesion was an autopsy finding in a girl of 16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re is a row of small, firm, greyish vegetations along the </a:t>
            </a:r>
            <a:r>
              <a:rPr b="1" lang="en-ZA" sz="2400" spc="-1" strike="noStrike">
                <a:solidFill>
                  <a:srgbClr val="000000"/>
                </a:solidFill>
                <a:latin typeface="Calibri"/>
              </a:rPr>
              <a:t>contact line </a:t>
            </a:r>
            <a:r>
              <a:rPr b="0" lang="en-ZA" sz="2400" spc="-1" strike="noStrike">
                <a:solidFill>
                  <a:srgbClr val="000000"/>
                </a:solidFill>
                <a:latin typeface="Calibri"/>
              </a:rPr>
              <a:t>of the mitral valve cusps. In places the vegetations have fused to form a continuous rid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1"/>
          <a:stretch/>
        </p:blipFill>
        <p:spPr>
          <a:xfrm>
            <a:off x="457200" y="2347920"/>
            <a:ext cx="4038480" cy="3029040"/>
          </a:xfrm>
          <a:prstGeom prst="rect">
            <a:avLst/>
          </a:prstGeom>
          <a:ln w="0">
            <a:noFill/>
          </a:ln>
        </p:spPr>
      </p:pic>
      <p:pic>
        <p:nvPicPr>
          <p:cNvPr id="62" name="Picture 4" descr=""/>
          <p:cNvPicPr/>
          <p:nvPr/>
        </p:nvPicPr>
        <p:blipFill>
          <a:blip r:embed="rId2"/>
          <a:stretch/>
        </p:blipFill>
        <p:spPr>
          <a:xfrm>
            <a:off x="501480" y="4941720"/>
            <a:ext cx="1117800" cy="393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vegetations have occurred at a site of minor  trauma, where the valve cusps come into contact each time the valve closes i.e. on the contact line (not the free edge of the valve).</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00040" y="1785960"/>
            <a:ext cx="4038480" cy="3029040"/>
          </a:xfrm>
          <a:prstGeom prst="rect">
            <a:avLst/>
          </a:prstGeom>
          <a:ln w="0">
            <a:noFill/>
          </a:ln>
        </p:spPr>
      </p:pic>
      <p:pic>
        <p:nvPicPr>
          <p:cNvPr id="65" name="Picture 3" descr=""/>
          <p:cNvPicPr/>
          <p:nvPr/>
        </p:nvPicPr>
        <p:blipFill>
          <a:blip r:embed="rId2"/>
          <a:stretch/>
        </p:blipFill>
        <p:spPr>
          <a:xfrm>
            <a:off x="574560" y="4403880"/>
            <a:ext cx="1117800" cy="39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785880"/>
            <a:ext cx="8229600" cy="534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rheumatic vegetations or verrucae arise due to inflammatory erosion of the valve surface, followed by platelet and fibrin precipi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y are the cardinal feature of rheumatic endocardit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ut endocarditis is just one component of the </a:t>
            </a:r>
            <a:r>
              <a:rPr b="1" lang="en-ZA" sz="2400" spc="-1" strike="noStrike">
                <a:solidFill>
                  <a:srgbClr val="000000"/>
                </a:solidFill>
                <a:latin typeface="Calibri"/>
              </a:rPr>
              <a:t>pancarditis </a:t>
            </a:r>
            <a:r>
              <a:rPr b="0" lang="en-ZA" sz="2400" spc="-1" strike="noStrike">
                <a:solidFill>
                  <a:srgbClr val="000000"/>
                </a:solidFill>
                <a:latin typeface="Calibri"/>
              </a:rPr>
              <a:t>that occurs in acute rheumatic fever, i.e. there are inflammatory changes in all three layers of the heart, </a:t>
            </a:r>
            <a:r>
              <a:rPr b="1" lang="en-ZA" sz="2400" spc="-1" strike="noStrike">
                <a:solidFill>
                  <a:srgbClr val="000000"/>
                </a:solidFill>
                <a:latin typeface="Calibri"/>
              </a:rPr>
              <a:t>endocarditis</a:t>
            </a:r>
            <a:r>
              <a:rPr b="0" lang="en-ZA" sz="2400" spc="-1" strike="noStrike">
                <a:solidFill>
                  <a:srgbClr val="000000"/>
                </a:solidFill>
                <a:latin typeface="Calibri"/>
              </a:rPr>
              <a:t>, </a:t>
            </a:r>
            <a:r>
              <a:rPr b="1" lang="en-ZA" sz="2400" spc="-1" strike="noStrike">
                <a:solidFill>
                  <a:srgbClr val="000000"/>
                </a:solidFill>
                <a:latin typeface="Calibri"/>
              </a:rPr>
              <a:t>myocarditis</a:t>
            </a:r>
            <a:r>
              <a:rPr b="0" lang="en-ZA" sz="2400" spc="-1" strike="noStrike">
                <a:solidFill>
                  <a:srgbClr val="000000"/>
                </a:solidFill>
                <a:latin typeface="Calibri"/>
              </a:rPr>
              <a:t> and </a:t>
            </a:r>
            <a:r>
              <a:rPr b="1" lang="en-ZA" sz="2400" spc="-1" strike="noStrike">
                <a:solidFill>
                  <a:srgbClr val="000000"/>
                </a:solidFill>
                <a:latin typeface="Calibri"/>
              </a:rPr>
              <a:t>pericarditis</a:t>
            </a:r>
            <a:r>
              <a:rPr b="0" lang="en-ZA"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400" spc="-1" strike="noStrike">
                <a:solidFill>
                  <a:srgbClr val="376092"/>
                </a:solidFill>
                <a:latin typeface="Calibri"/>
              </a:rPr>
              <a:t>Anatom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Aside from the visible rheumatic vegetations, the anatomy of the heart and the mitral valve is normal at this st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heart has been opened in a vertical plane through the left atrium and ventric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The mitral valve ring has been opened and flattened out horizontal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7"/>
          <p:cNvSpPr/>
          <p:nvPr/>
        </p:nvSpPr>
        <p:spPr>
          <a:xfrm>
            <a:off x="5580000" y="5157720"/>
            <a:ext cx="3529080" cy="16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8"/>
          <p:cNvGrpSpPr/>
          <p:nvPr/>
        </p:nvGrpSpPr>
        <p:grpSpPr>
          <a:xfrm>
            <a:off x="428760" y="608040"/>
            <a:ext cx="8286480" cy="5597640"/>
            <a:chOff x="428760" y="608040"/>
            <a:chExt cx="8286480" cy="5597640"/>
          </a:xfrm>
        </p:grpSpPr>
        <p:pic>
          <p:nvPicPr>
            <p:cNvPr id="71" name="Picture 2" descr=""/>
            <p:cNvPicPr/>
            <p:nvPr/>
          </p:nvPicPr>
          <p:blipFill>
            <a:blip r:embed="rId1"/>
            <a:stretch/>
          </p:blipFill>
          <p:spPr>
            <a:xfrm>
              <a:off x="428760" y="608040"/>
              <a:ext cx="8286480" cy="5552280"/>
            </a:xfrm>
            <a:prstGeom prst="rect">
              <a:avLst/>
            </a:prstGeom>
            <a:ln w="0">
              <a:noFill/>
            </a:ln>
          </p:spPr>
        </p:pic>
        <p:pic>
          <p:nvPicPr>
            <p:cNvPr id="72" name="Picture 2" descr=""/>
            <p:cNvPicPr/>
            <p:nvPr/>
          </p:nvPicPr>
          <p:blipFill>
            <a:blip r:embed="rId2">
              <a:lum bright="10000"/>
            </a:blip>
            <a:srcRect l="0" t="59966" r="79910" b="27283"/>
            <a:stretch/>
          </p:blipFill>
          <p:spPr>
            <a:xfrm>
              <a:off x="428760" y="5399640"/>
              <a:ext cx="1665000" cy="806040"/>
            </a:xfrm>
            <a:prstGeom prst="rect">
              <a:avLst/>
            </a:prstGeom>
            <a:ln w="0">
              <a:noFill/>
            </a:ln>
          </p:spPr>
        </p:pic>
      </p:grpSp>
      <p:sp>
        <p:nvSpPr>
          <p:cNvPr id="73" name="TextBox 3"/>
          <p:cNvSpPr/>
          <p:nvPr/>
        </p:nvSpPr>
        <p:spPr>
          <a:xfrm>
            <a:off x="5008320" y="1357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eft atrium</a:t>
            </a:r>
            <a:endParaRPr b="0" lang="en-US" sz="1800" spc="-1" strike="noStrike">
              <a:solidFill>
                <a:srgbClr val="000000"/>
              </a:solidFill>
              <a:latin typeface="Arial"/>
            </a:endParaRPr>
          </a:p>
        </p:txBody>
      </p:sp>
      <p:grpSp>
        <p:nvGrpSpPr>
          <p:cNvPr id="74" name="Group 18"/>
          <p:cNvGrpSpPr/>
          <p:nvPr/>
        </p:nvGrpSpPr>
        <p:grpSpPr>
          <a:xfrm>
            <a:off x="3000240" y="3857760"/>
            <a:ext cx="4643640" cy="1787400"/>
            <a:chOff x="3000240" y="3857760"/>
            <a:chExt cx="4643640" cy="1787400"/>
          </a:xfrm>
        </p:grpSpPr>
        <p:sp>
          <p:nvSpPr>
            <p:cNvPr id="75" name="TextBox 11"/>
            <p:cNvSpPr/>
            <p:nvPr/>
          </p:nvSpPr>
          <p:spPr>
            <a:xfrm>
              <a:off x="3638160" y="39290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V</a:t>
              </a:r>
              <a:endParaRPr b="0" lang="en-US" sz="1800" spc="-1" strike="noStrike">
                <a:solidFill>
                  <a:srgbClr val="000000"/>
                </a:solidFill>
                <a:latin typeface="Arial"/>
              </a:endParaRPr>
            </a:p>
          </p:txBody>
        </p:sp>
        <p:sp>
          <p:nvSpPr>
            <p:cNvPr id="76" name="TextBox 12"/>
            <p:cNvSpPr/>
            <p:nvPr/>
          </p:nvSpPr>
          <p:spPr>
            <a:xfrm>
              <a:off x="6424560" y="3857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LV</a:t>
              </a:r>
              <a:endParaRPr b="0" lang="en-US" sz="1800" spc="-1" strike="noStrike">
                <a:solidFill>
                  <a:srgbClr val="000000"/>
                </a:solidFill>
                <a:latin typeface="Arial"/>
              </a:endParaRPr>
            </a:p>
          </p:txBody>
        </p:sp>
        <p:grpSp>
          <p:nvGrpSpPr>
            <p:cNvPr id="77" name="Group 17"/>
            <p:cNvGrpSpPr/>
            <p:nvPr/>
          </p:nvGrpSpPr>
          <p:grpSpPr>
            <a:xfrm>
              <a:off x="3000240" y="4357800"/>
              <a:ext cx="4643640" cy="1287360"/>
              <a:chOff x="3000240" y="4357800"/>
              <a:chExt cx="4643640" cy="1287360"/>
            </a:xfrm>
          </p:grpSpPr>
          <p:sp>
            <p:nvSpPr>
              <p:cNvPr id="78" name="Curved Right Arrow 13"/>
              <p:cNvSpPr/>
              <p:nvPr/>
            </p:nvSpPr>
            <p:spPr>
              <a:xfrm>
                <a:off x="3000240" y="4429080"/>
                <a:ext cx="1660680" cy="1216080"/>
              </a:xfrm>
              <a:custGeom>
                <a:avLst/>
                <a:gdLst>
                  <a:gd name="textAreaLeft" fmla="*/ 222480 w 1660680"/>
                  <a:gd name="textAreaRight" fmla="*/ 1438200 w 1660680"/>
                  <a:gd name="textAreaTop" fmla="*/ 189720 h 1216080"/>
                  <a:gd name="textAreaBottom" fmla="*/ 874080 h 1216080"/>
                </a:gdLst>
                <a:ahLst/>
                <a:rect l="textAreaLeft" t="textAreaTop" r="textAreaRight" b="textAreaBottom"/>
                <a:pathLst>
                  <a:path w="21600" h="21600">
                    <a:moveTo>
                      <a:pt x="21600" y="0"/>
                    </a:moveTo>
                    <a:arcTo wR="21600" hR="6750" stAng="-5400000" swAng="-5400000"/>
                    <a:lnTo>
                      <a:pt x="0" y="12150"/>
                    </a:lnTo>
                    <a:arcTo wR="21600" hR="6750" stAng="10800000" swAng="-3552694"/>
                    <a:lnTo>
                      <a:pt x="17646" y="21486"/>
                    </a:lnTo>
                    <a:lnTo>
                      <a:pt x="21600" y="16200"/>
                    </a:lnTo>
                    <a:lnTo>
                      <a:pt x="17646" y="10686"/>
                    </a:lnTo>
                    <a:lnTo>
                      <a:pt x="17646" y="13386"/>
                    </a:lnTo>
                    <a:arcTo wR="21600" hR="6750" stAng="7247306" swAng="3086708"/>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ffff">
                  <a:alpha val="25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Curved Left Arrow 14"/>
              <p:cNvSpPr/>
              <p:nvPr/>
            </p:nvSpPr>
            <p:spPr>
              <a:xfrm>
                <a:off x="5929200" y="4357800"/>
                <a:ext cx="1714680" cy="1216080"/>
              </a:xfrm>
              <a:custGeom>
                <a:avLst/>
                <a:gdLst>
                  <a:gd name="textAreaLeft" fmla="*/ 229680 w 1714680"/>
                  <a:gd name="textAreaRight" fmla="*/ 1485000 w 1714680"/>
                  <a:gd name="textAreaTop" fmla="*/ 189720 h 1216080"/>
                  <a:gd name="textAreaBottom" fmla="*/ 874080 h 1216080"/>
                </a:gdLst>
                <a:ahLst/>
                <a:rect l="textAreaLeft" t="textAreaTop" r="textAreaRight" b="textAreaBottom"/>
                <a:pathLst>
                  <a:path w="21600" h="21600">
                    <a:moveTo>
                      <a:pt x="0" y="0"/>
                    </a:moveTo>
                    <a:arcTo wR="21600" hR="6750" stAng="-5400000" swAng="5400000"/>
                    <a:lnTo>
                      <a:pt x="21600" y="12150"/>
                    </a:lnTo>
                    <a:arcTo wR="21600" hR="6750" stAng="0" swAng="3602082"/>
                    <a:lnTo>
                      <a:pt x="3830" y="21493"/>
                    </a:lnTo>
                    <a:lnTo>
                      <a:pt x="0" y="16200"/>
                    </a:lnTo>
                    <a:lnTo>
                      <a:pt x="3830" y="10693"/>
                    </a:lnTo>
                    <a:lnTo>
                      <a:pt x="3830" y="13393"/>
                    </a:lnTo>
                    <a:arcTo wR="21600" hR="6750" stAng="3602082" swAng="-313609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ffff">
                  <a:alpha val="25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 name="Group 12"/>
          <p:cNvGrpSpPr/>
          <p:nvPr/>
        </p:nvGrpSpPr>
        <p:grpSpPr>
          <a:xfrm>
            <a:off x="3786120" y="1928880"/>
            <a:ext cx="4286160" cy="1216080"/>
            <a:chOff x="3786120" y="1928880"/>
            <a:chExt cx="4286160" cy="1216080"/>
          </a:xfrm>
        </p:grpSpPr>
        <p:sp>
          <p:nvSpPr>
            <p:cNvPr id="81" name="Curved Right Arrow 15"/>
            <p:cNvSpPr/>
            <p:nvPr/>
          </p:nvSpPr>
          <p:spPr>
            <a:xfrm>
              <a:off x="3786120" y="1928880"/>
              <a:ext cx="2089080" cy="1216080"/>
            </a:xfrm>
            <a:custGeom>
              <a:avLst/>
              <a:gdLst>
                <a:gd name="textAreaLeft" fmla="*/ 279720 w 2089080"/>
                <a:gd name="textAreaRight" fmla="*/ 1809360 w 2089080"/>
                <a:gd name="textAreaTop" fmla="*/ 224280 h 1216080"/>
                <a:gd name="textAreaBottom" fmla="*/ 784800 h 1216080"/>
              </a:gdLst>
              <a:ahLst/>
              <a:rect l="textAreaLeft" t="textAreaTop" r="textAreaRight" b="textAreaBottom"/>
              <a:pathLst>
                <a:path w="21600" h="21600">
                  <a:moveTo>
                    <a:pt x="21600" y="0"/>
                  </a:moveTo>
                  <a:arcTo wR="21600" hR="7968" stAng="-5400000" swAng="-5400000"/>
                  <a:lnTo>
                    <a:pt x="0" y="9956"/>
                  </a:lnTo>
                  <a:arcTo wR="21600" hR="7968" stAng="10800000" swAng="-4095707"/>
                  <a:lnTo>
                    <a:pt x="18457" y="21515"/>
                  </a:lnTo>
                  <a:lnTo>
                    <a:pt x="21600" y="16929"/>
                  </a:lnTo>
                  <a:lnTo>
                    <a:pt x="18457" y="12173"/>
                  </a:lnTo>
                  <a:lnTo>
                    <a:pt x="18457" y="15850"/>
                  </a:lnTo>
                  <a:arcTo wR="21600" hR="7968" stAng="6704293" swAng="3936375"/>
                  <a:lnTo>
                    <a:pt x="169" y="8962"/>
                  </a:lnTo>
                  <a:arcTo wR="21600" hR="7968" stAng="-10640668" swAng="5240668"/>
                  <a:close/>
                </a:path>
                <a:path fill="darkenLess" w="21600" h="21600">
                  <a:moveTo>
                    <a:pt x="21600" y="0"/>
                  </a:moveTo>
                  <a:arcTo wR="21600" hR="7968" stAng="-5400000" swAng="-5400000"/>
                  <a:lnTo>
                    <a:pt x="0" y="7968"/>
                  </a:lnTo>
                  <a:arcTo wR="21600" hR="7968" stAng="10800000" swAng="-159332"/>
                  <a:lnTo>
                    <a:pt x="169" y="8962"/>
                  </a:lnTo>
                  <a:arcTo wR="21600" hR="7968" stAng="-10640668" swAng="5240668"/>
                  <a:close/>
                </a:path>
              </a:pathLst>
            </a:custGeom>
            <a:solidFill>
              <a:srgbClr val="ffffff">
                <a:alpha val="25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Curved Left Arrow 16"/>
            <p:cNvSpPr/>
            <p:nvPr/>
          </p:nvSpPr>
          <p:spPr>
            <a:xfrm>
              <a:off x="6215040" y="1928880"/>
              <a:ext cx="1857240" cy="1216080"/>
            </a:xfrm>
            <a:custGeom>
              <a:avLst/>
              <a:gdLst>
                <a:gd name="textAreaLeft" fmla="*/ 248760 w 1857240"/>
                <a:gd name="textAreaRight" fmla="*/ 1608480 w 1857240"/>
                <a:gd name="textAreaTop" fmla="*/ 213840 h 1216080"/>
                <a:gd name="textAreaBottom" fmla="*/ 753840 h 1216080"/>
              </a:gdLst>
              <a:ahLst/>
              <a:rect l="textAreaLeft" t="textAreaTop" r="textAreaRight" b="textAreaBottom"/>
              <a:pathLst>
                <a:path w="21600" h="21600">
                  <a:moveTo>
                    <a:pt x="0" y="0"/>
                  </a:moveTo>
                  <a:arcTo wR="21600" hR="7606" stAng="-5400000" swAng="5400000"/>
                  <a:lnTo>
                    <a:pt x="21600" y="9584"/>
                  </a:lnTo>
                  <a:arcTo wR="21600" hR="7606" stAng="0" swAng="3765460"/>
                  <a:lnTo>
                    <a:pt x="3853" y="21478"/>
                  </a:lnTo>
                  <a:lnTo>
                    <a:pt x="0" y="16200"/>
                  </a:lnTo>
                  <a:lnTo>
                    <a:pt x="3853" y="10678"/>
                  </a:lnTo>
                  <a:lnTo>
                    <a:pt x="3853" y="15089"/>
                  </a:lnTo>
                  <a:arcTo wR="21600" hR="7606" stAng="3765460" swAng="-3606820"/>
                  <a:lnTo>
                    <a:pt x="21417" y="8595"/>
                  </a:lnTo>
                  <a:arcTo wR="21600" hR="7606" stAng="-158639" swAng="-5241361"/>
                  <a:close/>
                </a:path>
                <a:path fill="darkenLess" w="21600" h="21600">
                  <a:moveTo>
                    <a:pt x="0" y="0"/>
                  </a:moveTo>
                  <a:arcTo wR="21600" hR="7606" stAng="-5400000" swAng="5400000"/>
                  <a:lnTo>
                    <a:pt x="21600" y="9584"/>
                  </a:lnTo>
                  <a:arcTo wR="21600" hR="7606" stAng="0" swAng="-158639"/>
                  <a:lnTo>
                    <a:pt x="21417" y="8595"/>
                  </a:lnTo>
                  <a:arcTo wR="21600" hR="7606" stAng="-158639" swAng="-5241361"/>
                  <a:close/>
                </a:path>
              </a:pathLst>
            </a:custGeom>
            <a:solidFill>
              <a:srgbClr val="ffffff">
                <a:alpha val="25000"/>
              </a:srgbClr>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TextBox 17"/>
          <p:cNvSpPr/>
          <p:nvPr/>
        </p:nvSpPr>
        <p:spPr>
          <a:xfrm>
            <a:off x="5143680" y="2071800"/>
            <a:ext cx="135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ffff"/>
                </a:solidFill>
                <a:latin typeface="Arial"/>
              </a:rPr>
              <a:t>Mitral val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n the next slide, note in particular the normal delicate chordae tendineae and the papillary musc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9"/>
          <p:cNvSpPr/>
          <p:nvPr/>
        </p:nvSpPr>
        <p:spPr>
          <a:xfrm>
            <a:off x="5580000" y="5157720"/>
            <a:ext cx="3529080" cy="16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Group 1" descr=""/>
          <p:cNvPicPr/>
          <p:nvPr/>
        </p:nvPicPr>
        <p:blipFill>
          <a:blip r:embed="rId1"/>
          <a:stretch/>
        </p:blipFill>
        <p:spPr>
          <a:xfrm>
            <a:off x="420840" y="609480"/>
            <a:ext cx="8302320" cy="5615280"/>
          </a:xfrm>
          <a:prstGeom prst="rect">
            <a:avLst/>
          </a:prstGeom>
          <a:ln w="0">
            <a:noFill/>
          </a:ln>
        </p:spPr>
      </p:pic>
      <p:grpSp>
        <p:nvGrpSpPr>
          <p:cNvPr id="87" name="Group 76"/>
          <p:cNvGrpSpPr/>
          <p:nvPr/>
        </p:nvGrpSpPr>
        <p:grpSpPr>
          <a:xfrm>
            <a:off x="2512440" y="2649600"/>
            <a:ext cx="5112360" cy="2603520"/>
            <a:chOff x="2512440" y="2649600"/>
            <a:chExt cx="5112360" cy="2603520"/>
          </a:xfrm>
        </p:grpSpPr>
        <p:sp>
          <p:nvSpPr>
            <p:cNvPr id="88" name="Freeform 44"/>
            <p:cNvSpPr/>
            <p:nvPr/>
          </p:nvSpPr>
          <p:spPr>
            <a:xfrm>
              <a:off x="6737400" y="3021120"/>
              <a:ext cx="590400" cy="1816200"/>
            </a:xfrm>
            <a:custGeom>
              <a:avLst/>
              <a:gdLst/>
              <a:ahLst/>
              <a:rect l="l" t="t" r="r" b="b"/>
              <a:pathLst>
                <a:path w="589935" h="1816510">
                  <a:moveTo>
                    <a:pt x="400664" y="2458"/>
                  </a:moveTo>
                  <a:cubicBezTo>
                    <a:pt x="334296" y="0"/>
                    <a:pt x="231058" y="263013"/>
                    <a:pt x="179439" y="371168"/>
                  </a:cubicBezTo>
                  <a:cubicBezTo>
                    <a:pt x="127820" y="479323"/>
                    <a:pt x="98322" y="560439"/>
                    <a:pt x="90948" y="651387"/>
                  </a:cubicBezTo>
                  <a:cubicBezTo>
                    <a:pt x="83574" y="742335"/>
                    <a:pt x="149941" y="737419"/>
                    <a:pt x="135193" y="916858"/>
                  </a:cubicBezTo>
                  <a:cubicBezTo>
                    <a:pt x="120445" y="1096297"/>
                    <a:pt x="0" y="1639530"/>
                    <a:pt x="2458" y="1728020"/>
                  </a:cubicBezTo>
                  <a:cubicBezTo>
                    <a:pt x="4916" y="1816510"/>
                    <a:pt x="98323" y="1531374"/>
                    <a:pt x="149942" y="1447800"/>
                  </a:cubicBezTo>
                  <a:cubicBezTo>
                    <a:pt x="201561" y="1364226"/>
                    <a:pt x="258097" y="1332271"/>
                    <a:pt x="312174" y="1226574"/>
                  </a:cubicBezTo>
                  <a:cubicBezTo>
                    <a:pt x="366251" y="1120877"/>
                    <a:pt x="430161" y="953730"/>
                    <a:pt x="474406" y="813620"/>
                  </a:cubicBezTo>
                  <a:cubicBezTo>
                    <a:pt x="518651" y="673510"/>
                    <a:pt x="589935" y="521110"/>
                    <a:pt x="577645" y="385916"/>
                  </a:cubicBezTo>
                  <a:cubicBezTo>
                    <a:pt x="565355" y="250722"/>
                    <a:pt x="467032" y="4916"/>
                    <a:pt x="400664" y="2458"/>
                  </a:cubicBezTo>
                  <a:close/>
                </a:path>
              </a:pathLst>
            </a:custGeom>
            <a:noFill/>
            <a:ln w="28440">
              <a:solidFill>
                <a:srgbClr val="6325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Freeform 47"/>
            <p:cNvSpPr/>
            <p:nvPr/>
          </p:nvSpPr>
          <p:spPr>
            <a:xfrm>
              <a:off x="6778800" y="2649600"/>
              <a:ext cx="846000" cy="2284560"/>
            </a:xfrm>
            <a:custGeom>
              <a:avLst/>
              <a:gdLst/>
              <a:ahLst/>
              <a:rect l="l" t="t" r="r" b="b"/>
              <a:pathLst>
                <a:path w="845574" h="2283543">
                  <a:moveTo>
                    <a:pt x="447368" y="329381"/>
                  </a:moveTo>
                  <a:cubicBezTo>
                    <a:pt x="444910" y="240891"/>
                    <a:pt x="489155" y="68826"/>
                    <a:pt x="521110" y="34413"/>
                  </a:cubicBezTo>
                  <a:cubicBezTo>
                    <a:pt x="553065" y="0"/>
                    <a:pt x="589936" y="36872"/>
                    <a:pt x="639097" y="122904"/>
                  </a:cubicBezTo>
                  <a:cubicBezTo>
                    <a:pt x="688258" y="208936"/>
                    <a:pt x="786580" y="403123"/>
                    <a:pt x="816077" y="550607"/>
                  </a:cubicBezTo>
                  <a:cubicBezTo>
                    <a:pt x="845574" y="698091"/>
                    <a:pt x="833283" y="887362"/>
                    <a:pt x="816077" y="1007807"/>
                  </a:cubicBezTo>
                  <a:cubicBezTo>
                    <a:pt x="798871" y="1128252"/>
                    <a:pt x="762000" y="1184788"/>
                    <a:pt x="712839" y="1273278"/>
                  </a:cubicBezTo>
                  <a:cubicBezTo>
                    <a:pt x="663678" y="1361768"/>
                    <a:pt x="621891" y="1386349"/>
                    <a:pt x="521110" y="1538749"/>
                  </a:cubicBezTo>
                  <a:cubicBezTo>
                    <a:pt x="420329" y="1691149"/>
                    <a:pt x="194187" y="2091814"/>
                    <a:pt x="108155" y="2187678"/>
                  </a:cubicBezTo>
                  <a:cubicBezTo>
                    <a:pt x="22123" y="2283543"/>
                    <a:pt x="0" y="2168013"/>
                    <a:pt x="4916" y="2113936"/>
                  </a:cubicBezTo>
                  <a:cubicBezTo>
                    <a:pt x="9832" y="2059859"/>
                    <a:pt x="88491" y="1946787"/>
                    <a:pt x="137652" y="1863213"/>
                  </a:cubicBezTo>
                  <a:cubicBezTo>
                    <a:pt x="186813" y="1779639"/>
                    <a:pt x="250723" y="1713272"/>
                    <a:pt x="299884" y="1612491"/>
                  </a:cubicBezTo>
                  <a:cubicBezTo>
                    <a:pt x="349045" y="1511711"/>
                    <a:pt x="388374" y="1381433"/>
                    <a:pt x="432619" y="1258530"/>
                  </a:cubicBezTo>
                  <a:cubicBezTo>
                    <a:pt x="476864" y="1135627"/>
                    <a:pt x="548149" y="990601"/>
                    <a:pt x="565355" y="875072"/>
                  </a:cubicBezTo>
                  <a:cubicBezTo>
                    <a:pt x="582561" y="759543"/>
                    <a:pt x="557981" y="648929"/>
                    <a:pt x="535858" y="565355"/>
                  </a:cubicBezTo>
                  <a:cubicBezTo>
                    <a:pt x="513735" y="481781"/>
                    <a:pt x="449826" y="417871"/>
                    <a:pt x="447368" y="329381"/>
                  </a:cubicBezTo>
                  <a:close/>
                </a:path>
              </a:pathLst>
            </a:custGeom>
            <a:noFill/>
            <a:ln w="28440">
              <a:solidFill>
                <a:srgbClr val="6325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Freeform 50"/>
            <p:cNvSpPr/>
            <p:nvPr/>
          </p:nvSpPr>
          <p:spPr>
            <a:xfrm>
              <a:off x="4473360" y="3330720"/>
              <a:ext cx="725400" cy="1922400"/>
            </a:xfrm>
            <a:custGeom>
              <a:avLst/>
              <a:gdLst/>
              <a:ahLst/>
              <a:rect l="l" t="t" r="r" b="b"/>
              <a:pathLst>
                <a:path w="725129" h="1922205">
                  <a:moveTo>
                    <a:pt x="68825" y="1580535"/>
                  </a:moveTo>
                  <a:cubicBezTo>
                    <a:pt x="46703" y="1472380"/>
                    <a:pt x="0" y="1317521"/>
                    <a:pt x="9832" y="1182328"/>
                  </a:cubicBezTo>
                  <a:cubicBezTo>
                    <a:pt x="19664" y="1047135"/>
                    <a:pt x="108155" y="907025"/>
                    <a:pt x="127819" y="769374"/>
                  </a:cubicBezTo>
                  <a:cubicBezTo>
                    <a:pt x="147483" y="631723"/>
                    <a:pt x="120445" y="457200"/>
                    <a:pt x="127819" y="356419"/>
                  </a:cubicBezTo>
                  <a:cubicBezTo>
                    <a:pt x="135193" y="255638"/>
                    <a:pt x="137651" y="221226"/>
                    <a:pt x="172064" y="164690"/>
                  </a:cubicBezTo>
                  <a:cubicBezTo>
                    <a:pt x="206477" y="108155"/>
                    <a:pt x="277761" y="34412"/>
                    <a:pt x="334296" y="17206"/>
                  </a:cubicBezTo>
                  <a:cubicBezTo>
                    <a:pt x="390831" y="0"/>
                    <a:pt x="459658" y="17206"/>
                    <a:pt x="511277" y="61451"/>
                  </a:cubicBezTo>
                  <a:cubicBezTo>
                    <a:pt x="562896" y="105696"/>
                    <a:pt x="612057" y="206477"/>
                    <a:pt x="644012" y="282677"/>
                  </a:cubicBezTo>
                  <a:cubicBezTo>
                    <a:pt x="675967" y="358877"/>
                    <a:pt x="725129" y="400664"/>
                    <a:pt x="703006" y="518651"/>
                  </a:cubicBezTo>
                  <a:cubicBezTo>
                    <a:pt x="680884" y="636638"/>
                    <a:pt x="604684" y="771831"/>
                    <a:pt x="511277" y="990599"/>
                  </a:cubicBezTo>
                  <a:cubicBezTo>
                    <a:pt x="417870" y="1209367"/>
                    <a:pt x="213851" y="1740309"/>
                    <a:pt x="142567" y="1831257"/>
                  </a:cubicBezTo>
                  <a:cubicBezTo>
                    <a:pt x="71283" y="1922205"/>
                    <a:pt x="90947" y="1688690"/>
                    <a:pt x="68825" y="1580535"/>
                  </a:cubicBezTo>
                  <a:close/>
                </a:path>
              </a:pathLst>
            </a:custGeom>
            <a:noFill/>
            <a:ln w="28440">
              <a:solidFill>
                <a:srgbClr val="6325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Freeform 54"/>
            <p:cNvSpPr/>
            <p:nvPr/>
          </p:nvSpPr>
          <p:spPr>
            <a:xfrm>
              <a:off x="5584680" y="3151080"/>
              <a:ext cx="828720" cy="2003400"/>
            </a:xfrm>
            <a:custGeom>
              <a:avLst/>
              <a:gdLst/>
              <a:ahLst/>
              <a:rect l="l" t="t" r="r" b="b"/>
              <a:pathLst>
                <a:path w="828368" h="2003322">
                  <a:moveTo>
                    <a:pt x="34412" y="181896"/>
                  </a:moveTo>
                  <a:cubicBezTo>
                    <a:pt x="58993" y="117986"/>
                    <a:pt x="95865" y="46703"/>
                    <a:pt x="152400" y="34413"/>
                  </a:cubicBezTo>
                  <a:cubicBezTo>
                    <a:pt x="208935" y="22123"/>
                    <a:pt x="297425" y="0"/>
                    <a:pt x="373625" y="108155"/>
                  </a:cubicBezTo>
                  <a:cubicBezTo>
                    <a:pt x="449825" y="216310"/>
                    <a:pt x="538316" y="516194"/>
                    <a:pt x="609600" y="683342"/>
                  </a:cubicBezTo>
                  <a:cubicBezTo>
                    <a:pt x="680884" y="850490"/>
                    <a:pt x="774290" y="924232"/>
                    <a:pt x="801329" y="1111045"/>
                  </a:cubicBezTo>
                  <a:cubicBezTo>
                    <a:pt x="828368" y="1297858"/>
                    <a:pt x="779206" y="1656735"/>
                    <a:pt x="771832" y="1804219"/>
                  </a:cubicBezTo>
                  <a:cubicBezTo>
                    <a:pt x="764458" y="1951703"/>
                    <a:pt x="781664" y="2003322"/>
                    <a:pt x="757083" y="1995948"/>
                  </a:cubicBezTo>
                  <a:cubicBezTo>
                    <a:pt x="732502" y="1988574"/>
                    <a:pt x="693174" y="1870587"/>
                    <a:pt x="624348" y="1759974"/>
                  </a:cubicBezTo>
                  <a:cubicBezTo>
                    <a:pt x="555522" y="1649361"/>
                    <a:pt x="422787" y="1472381"/>
                    <a:pt x="344129" y="1332271"/>
                  </a:cubicBezTo>
                  <a:cubicBezTo>
                    <a:pt x="265471" y="1192161"/>
                    <a:pt x="196645" y="1049594"/>
                    <a:pt x="152400" y="919316"/>
                  </a:cubicBezTo>
                  <a:cubicBezTo>
                    <a:pt x="108155" y="789039"/>
                    <a:pt x="103239" y="634180"/>
                    <a:pt x="78658" y="550606"/>
                  </a:cubicBezTo>
                  <a:cubicBezTo>
                    <a:pt x="54077" y="467032"/>
                    <a:pt x="9832" y="484239"/>
                    <a:pt x="4916" y="417871"/>
                  </a:cubicBezTo>
                  <a:cubicBezTo>
                    <a:pt x="0" y="351503"/>
                    <a:pt x="9831" y="245806"/>
                    <a:pt x="34412" y="181896"/>
                  </a:cubicBezTo>
                  <a:close/>
                </a:path>
              </a:pathLst>
            </a:custGeom>
            <a:noFill/>
            <a:ln w="28440">
              <a:solidFill>
                <a:srgbClr val="6325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TextBox 55"/>
            <p:cNvSpPr/>
            <p:nvPr/>
          </p:nvSpPr>
          <p:spPr>
            <a:xfrm>
              <a:off x="2512440" y="342900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632523"/>
                  </a:solidFill>
                  <a:latin typeface="Arial"/>
                </a:rPr>
                <a:t>Papillary muscles</a:t>
              </a:r>
              <a:endParaRPr b="0" lang="en-US" sz="1800" spc="-1" strike="noStrike">
                <a:solidFill>
                  <a:srgbClr val="000000"/>
                </a:solidFill>
                <a:latin typeface="Arial"/>
              </a:endParaRPr>
            </a:p>
          </p:txBody>
        </p:sp>
        <p:sp>
          <p:nvSpPr>
            <p:cNvPr id="93" name="Freeform 62"/>
            <p:cNvSpPr/>
            <p:nvPr/>
          </p:nvSpPr>
          <p:spPr>
            <a:xfrm>
              <a:off x="6534360" y="3152880"/>
              <a:ext cx="306360" cy="1293840"/>
            </a:xfrm>
            <a:custGeom>
              <a:avLst/>
              <a:gdLst/>
              <a:ahLst/>
              <a:rect l="l" t="t" r="r" b="b"/>
              <a:pathLst>
                <a:path w="307258" h="1292942">
                  <a:moveTo>
                    <a:pt x="103238" y="17206"/>
                  </a:moveTo>
                  <a:cubicBezTo>
                    <a:pt x="61451" y="34412"/>
                    <a:pt x="44244" y="149941"/>
                    <a:pt x="29496" y="253180"/>
                  </a:cubicBezTo>
                  <a:cubicBezTo>
                    <a:pt x="14748" y="356419"/>
                    <a:pt x="0" y="494070"/>
                    <a:pt x="14748" y="636638"/>
                  </a:cubicBezTo>
                  <a:cubicBezTo>
                    <a:pt x="29496" y="779206"/>
                    <a:pt x="90948" y="1000432"/>
                    <a:pt x="117987" y="1108587"/>
                  </a:cubicBezTo>
                  <a:cubicBezTo>
                    <a:pt x="145026" y="1216742"/>
                    <a:pt x="159774" y="1278194"/>
                    <a:pt x="176980" y="1285568"/>
                  </a:cubicBezTo>
                  <a:cubicBezTo>
                    <a:pt x="194186" y="1292942"/>
                    <a:pt x="208935" y="1233948"/>
                    <a:pt x="221225" y="1152832"/>
                  </a:cubicBezTo>
                  <a:cubicBezTo>
                    <a:pt x="233515" y="1071716"/>
                    <a:pt x="240890" y="924232"/>
                    <a:pt x="250722" y="798871"/>
                  </a:cubicBezTo>
                  <a:cubicBezTo>
                    <a:pt x="260554" y="673510"/>
                    <a:pt x="275303" y="508819"/>
                    <a:pt x="280219" y="400664"/>
                  </a:cubicBezTo>
                  <a:cubicBezTo>
                    <a:pt x="285135" y="292509"/>
                    <a:pt x="307258" y="216310"/>
                    <a:pt x="280219" y="149942"/>
                  </a:cubicBezTo>
                  <a:cubicBezTo>
                    <a:pt x="253180" y="83574"/>
                    <a:pt x="145025" y="0"/>
                    <a:pt x="103238" y="17206"/>
                  </a:cubicBezTo>
                  <a:close/>
                </a:path>
              </a:pathLst>
            </a:custGeom>
            <a:noFill/>
            <a:ln w="28440">
              <a:solidFill>
                <a:srgbClr val="63252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 name="Group 75"/>
          <p:cNvGrpSpPr/>
          <p:nvPr/>
        </p:nvGrpSpPr>
        <p:grpSpPr>
          <a:xfrm>
            <a:off x="2657520" y="2500200"/>
            <a:ext cx="3985920" cy="785880"/>
            <a:chOff x="2657520" y="2500200"/>
            <a:chExt cx="3985920" cy="785880"/>
          </a:xfrm>
        </p:grpSpPr>
        <p:sp>
          <p:nvSpPr>
            <p:cNvPr id="95" name="TextBox 37"/>
            <p:cNvSpPr/>
            <p:nvPr/>
          </p:nvSpPr>
          <p:spPr>
            <a:xfrm>
              <a:off x="2657520" y="2714400"/>
              <a:ext cx="21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ff0000"/>
                  </a:solidFill>
                  <a:latin typeface="Arial"/>
                </a:rPr>
                <a:t>Chordae tendineae</a:t>
              </a:r>
              <a:endParaRPr b="0" lang="en-US" sz="1800" spc="-1" strike="noStrike">
                <a:solidFill>
                  <a:srgbClr val="000000"/>
                </a:solidFill>
                <a:latin typeface="Arial"/>
              </a:endParaRPr>
            </a:p>
          </p:txBody>
        </p:sp>
        <p:grpSp>
          <p:nvGrpSpPr>
            <p:cNvPr id="96" name="Group 74"/>
            <p:cNvGrpSpPr/>
            <p:nvPr/>
          </p:nvGrpSpPr>
          <p:grpSpPr>
            <a:xfrm>
              <a:off x="4929120" y="2500200"/>
              <a:ext cx="1714320" cy="785880"/>
              <a:chOff x="4929120" y="2500200"/>
              <a:chExt cx="1714320" cy="785880"/>
            </a:xfrm>
          </p:grpSpPr>
          <p:grpSp>
            <p:nvGrpSpPr>
              <p:cNvPr id="97" name="Group 25"/>
              <p:cNvGrpSpPr/>
              <p:nvPr/>
            </p:nvGrpSpPr>
            <p:grpSpPr>
              <a:xfrm>
                <a:off x="5786280" y="2571480"/>
                <a:ext cx="285480" cy="571680"/>
                <a:chOff x="5786280" y="2571480"/>
                <a:chExt cx="285480" cy="571680"/>
              </a:xfrm>
            </p:grpSpPr>
            <p:sp>
              <p:nvSpPr>
                <p:cNvPr id="98" name="Straight Connector 20"/>
                <p:cNvSpPr/>
                <p:nvPr/>
              </p:nvSpPr>
              <p:spPr>
                <a:xfrm flipH="1">
                  <a:off x="5786280" y="2642760"/>
                  <a:ext cx="285480" cy="500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22"/>
                <p:cNvSpPr/>
                <p:nvPr/>
              </p:nvSpPr>
              <p:spPr>
                <a:xfrm flipH="1">
                  <a:off x="5786280" y="2571480"/>
                  <a:ext cx="142920" cy="57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24"/>
                <p:cNvSpPr/>
                <p:nvPr/>
              </p:nvSpPr>
              <p:spPr>
                <a:xfrm flipH="1">
                  <a:off x="5786640" y="2571480"/>
                  <a:ext cx="71280" cy="57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60"/>
              <p:cNvGrpSpPr/>
              <p:nvPr/>
            </p:nvGrpSpPr>
            <p:grpSpPr>
              <a:xfrm>
                <a:off x="4929120" y="2571480"/>
                <a:ext cx="428400" cy="714600"/>
                <a:chOff x="4929120" y="2571480"/>
                <a:chExt cx="428400" cy="714600"/>
              </a:xfrm>
            </p:grpSpPr>
            <p:grpSp>
              <p:nvGrpSpPr>
                <p:cNvPr id="102" name="Group 18"/>
                <p:cNvGrpSpPr/>
                <p:nvPr/>
              </p:nvGrpSpPr>
              <p:grpSpPr>
                <a:xfrm>
                  <a:off x="4929120" y="2571480"/>
                  <a:ext cx="357120" cy="571680"/>
                  <a:chOff x="4929120" y="2571480"/>
                  <a:chExt cx="357120" cy="571680"/>
                </a:xfrm>
              </p:grpSpPr>
              <p:sp>
                <p:nvSpPr>
                  <p:cNvPr id="103" name="Straight Connector 5"/>
                  <p:cNvSpPr/>
                  <p:nvPr/>
                </p:nvSpPr>
                <p:spPr>
                  <a:xfrm>
                    <a:off x="4929120" y="2785680"/>
                    <a:ext cx="35712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Straight Connector 7"/>
                  <p:cNvSpPr/>
                  <p:nvPr/>
                </p:nvSpPr>
                <p:spPr>
                  <a:xfrm>
                    <a:off x="5000400" y="2785680"/>
                    <a:ext cx="28584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9"/>
                  <p:cNvSpPr/>
                  <p:nvPr/>
                </p:nvSpPr>
                <p:spPr>
                  <a:xfrm>
                    <a:off x="5000400" y="2642760"/>
                    <a:ext cx="285840" cy="42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11"/>
                  <p:cNvSpPr/>
                  <p:nvPr/>
                </p:nvSpPr>
                <p:spPr>
                  <a:xfrm>
                    <a:off x="5071320" y="2571480"/>
                    <a:ext cx="214200" cy="57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7"/>
                  <p:cNvSpPr/>
                  <p:nvPr/>
                </p:nvSpPr>
                <p:spPr>
                  <a:xfrm>
                    <a:off x="5214960" y="2642760"/>
                    <a:ext cx="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Straight Connector 57"/>
                <p:cNvSpPr/>
                <p:nvPr/>
              </p:nvSpPr>
              <p:spPr>
                <a:xfrm>
                  <a:off x="5286240" y="3071880"/>
                  <a:ext cx="7128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61"/>
              <p:cNvGrpSpPr/>
              <p:nvPr/>
            </p:nvGrpSpPr>
            <p:grpSpPr>
              <a:xfrm>
                <a:off x="6357240" y="2500200"/>
                <a:ext cx="286200" cy="642960"/>
                <a:chOff x="6357240" y="2500200"/>
                <a:chExt cx="286200" cy="642960"/>
              </a:xfrm>
            </p:grpSpPr>
            <p:grpSp>
              <p:nvGrpSpPr>
                <p:cNvPr id="110" name="Group 36"/>
                <p:cNvGrpSpPr/>
                <p:nvPr/>
              </p:nvGrpSpPr>
              <p:grpSpPr>
                <a:xfrm>
                  <a:off x="6357240" y="2500200"/>
                  <a:ext cx="286200" cy="428760"/>
                  <a:chOff x="6357240" y="2500200"/>
                  <a:chExt cx="286200" cy="428760"/>
                </a:xfrm>
              </p:grpSpPr>
              <p:sp>
                <p:nvSpPr>
                  <p:cNvPr id="111" name="Straight Connector 27"/>
                  <p:cNvSpPr/>
                  <p:nvPr/>
                </p:nvSpPr>
                <p:spPr>
                  <a:xfrm>
                    <a:off x="6357240" y="2643120"/>
                    <a:ext cx="21420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29"/>
                  <p:cNvSpPr/>
                  <p:nvPr/>
                </p:nvSpPr>
                <p:spPr>
                  <a:xfrm>
                    <a:off x="6428520" y="2571480"/>
                    <a:ext cx="142920" cy="357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Straight Connector 31"/>
                  <p:cNvSpPr/>
                  <p:nvPr/>
                </p:nvSpPr>
                <p:spPr>
                  <a:xfrm>
                    <a:off x="6500520" y="2500200"/>
                    <a:ext cx="71280" cy="42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33"/>
                  <p:cNvSpPr/>
                  <p:nvPr/>
                </p:nvSpPr>
                <p:spPr>
                  <a:xfrm>
                    <a:off x="6572160" y="2571480"/>
                    <a:ext cx="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35"/>
                  <p:cNvSpPr/>
                  <p:nvPr/>
                </p:nvSpPr>
                <p:spPr>
                  <a:xfrm flipH="1">
                    <a:off x="6572160" y="2571480"/>
                    <a:ext cx="7128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Straight Connector 59"/>
                <p:cNvSpPr/>
                <p:nvPr/>
              </p:nvSpPr>
              <p:spPr>
                <a:xfrm>
                  <a:off x="6572160" y="2928960"/>
                  <a:ext cx="7128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Group 73"/>
              <p:cNvGrpSpPr/>
              <p:nvPr/>
            </p:nvGrpSpPr>
            <p:grpSpPr>
              <a:xfrm>
                <a:off x="5572080" y="2571480"/>
                <a:ext cx="213840" cy="642960"/>
                <a:chOff x="5572080" y="2571480"/>
                <a:chExt cx="213840" cy="642960"/>
              </a:xfrm>
            </p:grpSpPr>
            <p:sp>
              <p:nvSpPr>
                <p:cNvPr id="118" name="Straight Connector 66"/>
                <p:cNvSpPr/>
                <p:nvPr/>
              </p:nvSpPr>
              <p:spPr>
                <a:xfrm>
                  <a:off x="5572080" y="2642760"/>
                  <a:ext cx="71280" cy="50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68"/>
                <p:cNvSpPr/>
                <p:nvPr/>
              </p:nvSpPr>
              <p:spPr>
                <a:xfrm>
                  <a:off x="5643360" y="2642760"/>
                  <a:ext cx="0" cy="57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Straight Connector 70"/>
                <p:cNvSpPr/>
                <p:nvPr/>
              </p:nvSpPr>
              <p:spPr>
                <a:xfrm flipH="1">
                  <a:off x="5643360" y="2571480"/>
                  <a:ext cx="71280" cy="642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72"/>
                <p:cNvSpPr/>
                <p:nvPr/>
              </p:nvSpPr>
              <p:spPr>
                <a:xfrm flipH="1">
                  <a:off x="5643000" y="2642760"/>
                  <a:ext cx="142920" cy="500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0:08:35Z</dcterms:created>
  <dc:creator>New Win User</dc:creator>
  <dc:description/>
  <dc:language>en-US</dc:language>
  <cp:lastModifiedBy> Research Commons, UCT Libraries</cp:lastModifiedBy>
  <dcterms:modified xsi:type="dcterms:W3CDTF">2011-11-23T11:25:11Z</dcterms:modified>
  <cp:revision>147</cp:revision>
  <dc:subject/>
  <dc:title>Slide 1</dc:title>
</cp:coreProperties>
</file>