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89C-9C25-4B6F-8D38-090D8759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4E0-48F0-4106-8E8E-CD5F5C5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58B-0CE3-4421-84CE-14DB0959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97D-A332-448F-B391-F3C4227A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DC9-98F5-4C9D-8D3A-1A2B7FFD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805-7220-4647-8482-C009749C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D69-E650-4265-AFE5-B30EAEA6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635-E01E-42EE-A252-A1DF973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442-6841-476B-9552-CD7ADDA2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241-C971-4592-8A4D-2D58EEF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614-61DB-401E-BEF4-0FA0A25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ED4-1FAE-4427-9363-DE79EAB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FCA-05DA-4E07-A0D3-39DC0421740D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Typhoid (Enteric fev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8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XVI:iii: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Dysentery 010.jpg"/>
          <p:cNvPicPr/>
          <p:nvPr/>
        </p:nvPicPr>
        <p:blipFill>
          <a:blip r:embed="rId1"/>
          <a:srcRect l="0" t="0" r="10870" b="7283"/>
          <a:stretch/>
        </p:blipFill>
        <p:spPr>
          <a:xfrm>
            <a:off x="3192480" y="2316240"/>
            <a:ext cx="2531880" cy="197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148360" y="4076640"/>
            <a:ext cx="558720" cy="1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Another example from the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specimen shows the typical typhoid lesions in the terminal ileum (all have lost their sloug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Four members of the family contracted typhoid. The disease was fatal in this patient  and one of her child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80960" y="1635120"/>
            <a:ext cx="4519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patient died in 193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he was a 14 year old coloured gir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r illness began 18 days before admission and symptoms were generalised pains, vomiting, fever, delirium and mela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r temperature fluctuated between high and subn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r pulse was relatively slow and weakened gradually before she died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0" y="1071720"/>
            <a:ext cx="3686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is the ileocaecal junction and a length of proximal ile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view is of the serosal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671400" y="1001880"/>
            <a:ext cx="3899160" cy="485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8"/>
          <p:cNvGrpSpPr/>
          <p:nvPr/>
        </p:nvGrpSpPr>
        <p:grpSpPr>
          <a:xfrm>
            <a:off x="1657440" y="3760920"/>
            <a:ext cx="1812600" cy="1047600"/>
            <a:chOff x="1657440" y="3760920"/>
            <a:chExt cx="1812600" cy="1047600"/>
          </a:xfrm>
        </p:grpSpPr>
        <p:sp>
          <p:nvSpPr>
            <p:cNvPr id="52" name="Freeform 5"/>
            <p:cNvSpPr/>
            <p:nvPr/>
          </p:nvSpPr>
          <p:spPr>
            <a:xfrm>
              <a:off x="1657440" y="3760920"/>
              <a:ext cx="577800" cy="1047600"/>
            </a:xfrm>
            <a:custGeom>
              <a:avLst/>
              <a:gdLst/>
              <a:ahLst/>
              <a:rect l="l" t="t" r="r" b="b"/>
              <a:pathLst>
                <a:path w="577422" h="1047135">
                  <a:moveTo>
                    <a:pt x="230229" y="117987"/>
                  </a:moveTo>
                  <a:cubicBezTo>
                    <a:pt x="217890" y="241373"/>
                    <a:pt x="255092" y="253039"/>
                    <a:pt x="171235" y="294967"/>
                  </a:cubicBezTo>
                  <a:cubicBezTo>
                    <a:pt x="157330" y="301919"/>
                    <a:pt x="141738" y="304800"/>
                    <a:pt x="126990" y="309716"/>
                  </a:cubicBezTo>
                  <a:cubicBezTo>
                    <a:pt x="107325" y="304800"/>
                    <a:pt x="84862" y="306211"/>
                    <a:pt x="67996" y="294967"/>
                  </a:cubicBezTo>
                  <a:cubicBezTo>
                    <a:pt x="0" y="249636"/>
                    <a:pt x="47791" y="79456"/>
                    <a:pt x="53248" y="58993"/>
                  </a:cubicBezTo>
                  <a:cubicBezTo>
                    <a:pt x="57815" y="41866"/>
                    <a:pt x="80896" y="35720"/>
                    <a:pt x="97493" y="29496"/>
                  </a:cubicBezTo>
                  <a:cubicBezTo>
                    <a:pt x="120964" y="20694"/>
                    <a:pt x="146916" y="20828"/>
                    <a:pt x="171235" y="14748"/>
                  </a:cubicBezTo>
                  <a:cubicBezTo>
                    <a:pt x="186317" y="10978"/>
                    <a:pt x="200732" y="4916"/>
                    <a:pt x="215480" y="0"/>
                  </a:cubicBezTo>
                  <a:cubicBezTo>
                    <a:pt x="235145" y="4916"/>
                    <a:pt x="259219" y="1400"/>
                    <a:pt x="274474" y="14748"/>
                  </a:cubicBezTo>
                  <a:cubicBezTo>
                    <a:pt x="322202" y="56510"/>
                    <a:pt x="330978" y="95772"/>
                    <a:pt x="348216" y="147484"/>
                  </a:cubicBezTo>
                  <a:cubicBezTo>
                    <a:pt x="353132" y="206477"/>
                    <a:pt x="355140" y="265785"/>
                    <a:pt x="362964" y="324464"/>
                  </a:cubicBezTo>
                  <a:cubicBezTo>
                    <a:pt x="370648" y="382092"/>
                    <a:pt x="383535" y="359688"/>
                    <a:pt x="407209" y="412955"/>
                  </a:cubicBezTo>
                  <a:cubicBezTo>
                    <a:pt x="419837" y="441367"/>
                    <a:pt x="426874" y="471948"/>
                    <a:pt x="436706" y="501445"/>
                  </a:cubicBezTo>
                  <a:cubicBezTo>
                    <a:pt x="441622" y="516193"/>
                    <a:pt x="448405" y="530446"/>
                    <a:pt x="451454" y="545690"/>
                  </a:cubicBezTo>
                  <a:cubicBezTo>
                    <a:pt x="456370" y="570271"/>
                    <a:pt x="460123" y="595113"/>
                    <a:pt x="466203" y="619432"/>
                  </a:cubicBezTo>
                  <a:cubicBezTo>
                    <a:pt x="469974" y="634514"/>
                    <a:pt x="469958" y="652684"/>
                    <a:pt x="480951" y="663677"/>
                  </a:cubicBezTo>
                  <a:cubicBezTo>
                    <a:pt x="491944" y="674670"/>
                    <a:pt x="510448" y="673510"/>
                    <a:pt x="525196" y="678426"/>
                  </a:cubicBezTo>
                  <a:cubicBezTo>
                    <a:pt x="540110" y="700797"/>
                    <a:pt x="569441" y="736385"/>
                    <a:pt x="569441" y="766916"/>
                  </a:cubicBezTo>
                  <a:cubicBezTo>
                    <a:pt x="569441" y="806551"/>
                    <a:pt x="577422" y="852433"/>
                    <a:pt x="554693" y="884903"/>
                  </a:cubicBezTo>
                  <a:cubicBezTo>
                    <a:pt x="520995" y="933043"/>
                    <a:pt x="358185" y="904430"/>
                    <a:pt x="333467" y="929148"/>
                  </a:cubicBezTo>
                  <a:lnTo>
                    <a:pt x="333467" y="104713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814400" y="3878280"/>
              <a:ext cx="190440" cy="620640"/>
            </a:xfrm>
            <a:custGeom>
              <a:avLst/>
              <a:gdLst/>
              <a:ahLst/>
              <a:rect l="l" t="t" r="r" b="b"/>
              <a:pathLst>
                <a:path w="190885" h="619432">
                  <a:moveTo>
                    <a:pt x="58993" y="0"/>
                  </a:moveTo>
                  <a:cubicBezTo>
                    <a:pt x="86620" y="9209"/>
                    <a:pt x="132735" y="14519"/>
                    <a:pt x="132735" y="58993"/>
                  </a:cubicBezTo>
                  <a:cubicBezTo>
                    <a:pt x="132735" y="76719"/>
                    <a:pt x="113070" y="88490"/>
                    <a:pt x="103238" y="103239"/>
                  </a:cubicBezTo>
                  <a:cubicBezTo>
                    <a:pt x="98322" y="122903"/>
                    <a:pt x="94058" y="142742"/>
                    <a:pt x="88490" y="162232"/>
                  </a:cubicBezTo>
                  <a:cubicBezTo>
                    <a:pt x="84219" y="177180"/>
                    <a:pt x="73742" y="190931"/>
                    <a:pt x="73742" y="206477"/>
                  </a:cubicBezTo>
                  <a:cubicBezTo>
                    <a:pt x="73742" y="265675"/>
                    <a:pt x="81148" y="324717"/>
                    <a:pt x="88490" y="383458"/>
                  </a:cubicBezTo>
                  <a:cubicBezTo>
                    <a:pt x="91004" y="403571"/>
                    <a:pt x="94173" y="424321"/>
                    <a:pt x="103238" y="442451"/>
                  </a:cubicBezTo>
                  <a:cubicBezTo>
                    <a:pt x="119092" y="474159"/>
                    <a:pt x="162232" y="530942"/>
                    <a:pt x="162232" y="530942"/>
                  </a:cubicBezTo>
                  <a:cubicBezTo>
                    <a:pt x="167148" y="555523"/>
                    <a:pt x="190885" y="583827"/>
                    <a:pt x="176980" y="604684"/>
                  </a:cubicBezTo>
                  <a:cubicBezTo>
                    <a:pt x="167148" y="619432"/>
                    <a:pt x="148589" y="583114"/>
                    <a:pt x="132735" y="575187"/>
                  </a:cubicBezTo>
                  <a:cubicBezTo>
                    <a:pt x="84584" y="551112"/>
                    <a:pt x="58353" y="560439"/>
                    <a:pt x="0" y="56043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7"/>
            <p:cNvSpPr/>
            <p:nvPr/>
          </p:nvSpPr>
          <p:spPr>
            <a:xfrm>
              <a:off x="2365920" y="4286160"/>
              <a:ext cx="11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Arial"/>
                </a:rPr>
                <a:t>append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500800" y="713880"/>
            <a:ext cx="32572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view is of the mucosal surf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are several obvious lesions, which are shaped like Peyer’s pat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organism,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Salmonella typhi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,  accumulates in lymphoid tissue in Peyer’s patches and causes the patches to become inflamed and ulcer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447840" y="671400"/>
            <a:ext cx="472572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429160" y="642600"/>
            <a:ext cx="3500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ome of the patches are covered by pseudo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thers have sloughed their membrane, leaving an ulcer b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is case, no ulcer has perfor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ur patient instead had  another important late complication, bleeding, which occurs as slough separate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447840" y="671400"/>
            <a:ext cx="4725720" cy="558648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3786120" y="1428840"/>
            <a:ext cx="1071720" cy="1428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2500200" y="1000080"/>
            <a:ext cx="785880" cy="9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Dysentery 010.jpg"/>
          <p:cNvPicPr/>
          <p:nvPr/>
        </p:nvPicPr>
        <p:blipFill>
          <a:blip r:embed="rId1"/>
          <a:srcRect l="0" t="0" r="10420" b="0"/>
          <a:stretch/>
        </p:blipFill>
        <p:spPr>
          <a:xfrm>
            <a:off x="2195640" y="1844640"/>
            <a:ext cx="4659120" cy="390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379160" y="785880"/>
            <a:ext cx="66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loser view of an ulcer with a slough (pseudomembra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at has not yet sepa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651640" y="530064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6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500040"/>
            <a:ext cx="3543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rare example of typhoid ulceration  extending to the large bowel.  </a:t>
            </a:r>
            <a:r>
              <a:rPr b="0" lang="en-ZA" sz="1600" spc="-1" strike="noStrike">
                <a:solidFill>
                  <a:srgbClr val="000000"/>
                </a:solidFill>
                <a:latin typeface="Calibri"/>
              </a:rPr>
              <a:t>(ref.  XVI:iii: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e proximal colon there are numerous small ulcers up to 0.5cm in dia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difference in appearance is due to the fact that in the large bowel the lymphoid tissue is arranged in small nodules and not in large pat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4859280" y="785880"/>
            <a:ext cx="394344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4938840" y="3571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Distal il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012080" y="62150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ximal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4"/>
          <p:cNvSpPr/>
          <p:nvPr/>
        </p:nvSpPr>
        <p:spPr>
          <a:xfrm>
            <a:off x="4857840" y="3929040"/>
            <a:ext cx="3946320" cy="0"/>
          </a:xfrm>
          <a:prstGeom prst="line">
            <a:avLst/>
          </a:prstGeom>
          <a:ln w="25560">
            <a:solidFill>
              <a:srgbClr val="c6d9f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8"/>
          <p:cNvGrpSpPr/>
          <p:nvPr/>
        </p:nvGrpSpPr>
        <p:grpSpPr>
          <a:xfrm>
            <a:off x="5643720" y="4857840"/>
            <a:ext cx="2214360" cy="785880"/>
            <a:chOff x="5643720" y="4857840"/>
            <a:chExt cx="2214360" cy="785880"/>
          </a:xfrm>
        </p:grpSpPr>
        <p:sp>
          <p:nvSpPr>
            <p:cNvPr id="71" name="Oval 30"/>
            <p:cNvSpPr/>
            <p:nvPr/>
          </p:nvSpPr>
          <p:spPr>
            <a:xfrm>
              <a:off x="6215040" y="492912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7500960" y="492912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6929640" y="535788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7215120" y="485784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6429240" y="507204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6"/>
            <p:cNvSpPr/>
            <p:nvPr/>
          </p:nvSpPr>
          <p:spPr>
            <a:xfrm>
              <a:off x="5643720" y="5357880"/>
              <a:ext cx="357120" cy="285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9"/>
          <p:cNvGrpSpPr/>
          <p:nvPr/>
        </p:nvGrpSpPr>
        <p:grpSpPr>
          <a:xfrm>
            <a:off x="6286680" y="1714680"/>
            <a:ext cx="1538280" cy="1538280"/>
            <a:chOff x="6286680" y="1714680"/>
            <a:chExt cx="1538280" cy="1538280"/>
          </a:xfrm>
        </p:grpSpPr>
        <p:sp>
          <p:nvSpPr>
            <p:cNvPr id="78" name="Freeform 25"/>
            <p:cNvSpPr/>
            <p:nvPr/>
          </p:nvSpPr>
          <p:spPr>
            <a:xfrm>
              <a:off x="6286680" y="1714680"/>
              <a:ext cx="927000" cy="1476360"/>
            </a:xfrm>
            <a:custGeom>
              <a:avLst/>
              <a:gdLst/>
              <a:ahLst/>
              <a:rect l="l" t="t" r="r" b="b"/>
              <a:pathLst>
                <a:path w="926690" h="1339645">
                  <a:moveTo>
                    <a:pt x="63910" y="179439"/>
                  </a:moveTo>
                  <a:cubicBezTo>
                    <a:pt x="125362" y="108155"/>
                    <a:pt x="299884" y="78658"/>
                    <a:pt x="388374" y="61452"/>
                  </a:cubicBezTo>
                  <a:cubicBezTo>
                    <a:pt x="476864" y="44246"/>
                    <a:pt x="513736" y="0"/>
                    <a:pt x="594852" y="76200"/>
                  </a:cubicBezTo>
                  <a:cubicBezTo>
                    <a:pt x="675968" y="152400"/>
                    <a:pt x="823452" y="408039"/>
                    <a:pt x="875071" y="518652"/>
                  </a:cubicBezTo>
                  <a:cubicBezTo>
                    <a:pt x="926690" y="629265"/>
                    <a:pt x="914400" y="631723"/>
                    <a:pt x="904568" y="739878"/>
                  </a:cubicBezTo>
                  <a:cubicBezTo>
                    <a:pt x="894736" y="848033"/>
                    <a:pt x="875071" y="1069259"/>
                    <a:pt x="816077" y="1167581"/>
                  </a:cubicBezTo>
                  <a:cubicBezTo>
                    <a:pt x="757083" y="1265903"/>
                    <a:pt x="673509" y="1319981"/>
                    <a:pt x="550606" y="1329813"/>
                  </a:cubicBezTo>
                  <a:cubicBezTo>
                    <a:pt x="427703" y="1339645"/>
                    <a:pt x="149942" y="1275735"/>
                    <a:pt x="78658" y="1226574"/>
                  </a:cubicBezTo>
                  <a:cubicBezTo>
                    <a:pt x="7374" y="1177413"/>
                    <a:pt x="127819" y="1101213"/>
                    <a:pt x="122903" y="1034845"/>
                  </a:cubicBezTo>
                  <a:cubicBezTo>
                    <a:pt x="117987" y="968477"/>
                    <a:pt x="68825" y="892278"/>
                    <a:pt x="49161" y="828368"/>
                  </a:cubicBezTo>
                  <a:cubicBezTo>
                    <a:pt x="29497" y="764458"/>
                    <a:pt x="9832" y="707922"/>
                    <a:pt x="4916" y="651387"/>
                  </a:cubicBezTo>
                  <a:cubicBezTo>
                    <a:pt x="0" y="594852"/>
                    <a:pt x="4917" y="570271"/>
                    <a:pt x="19665" y="489155"/>
                  </a:cubicBezTo>
                  <a:cubicBezTo>
                    <a:pt x="34413" y="408039"/>
                    <a:pt x="2459" y="250723"/>
                    <a:pt x="63910" y="179439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7182000" y="2779920"/>
              <a:ext cx="642960" cy="473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S. typhi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urvives intracellularly in macroph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is disseminated via the reticulo-endothelial system to other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commonly settles in the gall bladder and can cause cholecystit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are also systemic effects attributable to its endotox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ome survivors of typhoid become asymptomatic carriers and shed the organism in their fae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yphoid is spread by poor sanitation and poor hyg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tory of “Typhoid Mary” is instructive, see http://en.wikipedia.org/wiki/Mary_M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1:45:34Z</dcterms:created>
  <dc:creator>New Win User</dc:creator>
  <dc:description/>
  <dc:language>en-US</dc:language>
  <cp:lastModifiedBy>Sam</cp:lastModifiedBy>
  <dcterms:modified xsi:type="dcterms:W3CDTF">2011-09-10T22:03:10Z</dcterms:modified>
  <cp:revision>116</cp:revision>
  <dc:subject/>
  <dc:title>Typhoid</dc:title>
</cp:coreProperties>
</file>