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D296-41EC-437D-BDD1-24DEEE649054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9901-FA80-4241-8985-0EEA9EF34BB2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3F66-C1D0-485D-82C1-B898A7F3E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2E55-77C4-477A-9035-B7A5A0BA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9E47-59A3-4746-B1AA-9A93694A3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E6D1-2771-441D-9E2A-DDE8FEE79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5E1B-565F-4F49-8A27-7D49657D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208F-8A06-4197-820A-B9EFAF88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1244-0B40-415D-8CC8-5311BC5E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D178-6D06-44E2-951A-6316AAC9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7AA1-1B2E-446C-ABAF-A23322F6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165C-F005-4033-A5EC-78DC4FA8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4D9C-41E3-4EB6-96FD-5DB47F9A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6083-675A-4343-B6EB-60AE8CF4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7822-5D02-4D39-BD0B-D7AEC257C5D3}" type="slidenum">
              <a:rPr b="0" lang="en-Z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7740720" y="6130800"/>
            <a:ext cx="1117440" cy="393840"/>
          </a:xfrm>
          <a:prstGeom prst="rect">
            <a:avLst/>
          </a:prstGeom>
          <a:ln w="0">
            <a:noFill/>
          </a:ln>
        </p:spPr>
      </p:pic>
      <p:sp>
        <p:nvSpPr>
          <p:cNvPr id="6" name="TextBox 2"/>
          <p:cNvSpPr/>
          <p:nvPr/>
        </p:nvSpPr>
        <p:spPr>
          <a:xfrm>
            <a:off x="7192080" y="652464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Arial"/>
              </a:rPr>
              <a:t>University of Cape T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radswiki.net/main/index.php?title=Bulging_fissure_sign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ealth.uct.ac.za/departments/cls/about/" TargetMode="External"/><Relationship Id="rId2" Type="http://schemas.openxmlformats.org/officeDocument/2006/relationships/hyperlink" Target="http://www.health.uct.ac.za/departments/cls/about/" TargetMode="External"/><Relationship Id="rId3" Type="http://schemas.openxmlformats.org/officeDocument/2006/relationships/hyperlink" Target="http://www.health.uct.ac.za/departments/cls/about/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376092"/>
                </a:solidFill>
                <a:latin typeface="Calibri"/>
              </a:rPr>
              <a:t>Klebsiella pneumo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0328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898989"/>
                </a:solidFill>
                <a:latin typeface="Calibri"/>
              </a:rPr>
              <a:t>Digital Pathology Col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898989"/>
                </a:solidFill>
                <a:latin typeface="Calibri"/>
              </a:rPr>
              <a:t>Case 1 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898989"/>
                </a:solidFill>
                <a:latin typeface="Calibri"/>
              </a:rPr>
              <a:t>Ref.  IV:iv: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3348000" y="213372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 patient was a 27 year old man who died in 1948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ree days before admission he had sudden onset of pleuritic pain on the right side of his che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He also had a cough with blood-stained sputu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On examination he was flushed and pyrexial. His respiratory rate was increased and there were signs of marked consolidation of both the left and right lung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He died the day after admission despite large doses of penicillin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42920" y="500040"/>
            <a:ext cx="45720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The specimen is his left lung which has been partially sectioned to show the grey-white areas of pneumonic consolidatio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These areas are not typically lobar (affecting the whole of a lobe) but rather lobular or segmental, that is affecting parts of the lobe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This is said to be typical of Klebsiella pneumoni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Another feature is that the affected areas appear to be swollen or bulging, which can give rise to the bulging fissure sign on x-ray. See </a:t>
            </a:r>
            <a:r>
              <a:rPr b="0" lang="en-ZA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adswiki.net/main/index.php?title=Bulging_fissure_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4" descr=""/>
          <p:cNvPicPr/>
          <p:nvPr/>
        </p:nvPicPr>
        <p:blipFill>
          <a:blip r:embed="rId2"/>
          <a:stretch/>
        </p:blipFill>
        <p:spPr>
          <a:xfrm>
            <a:off x="4857840" y="858960"/>
            <a:ext cx="4064040" cy="50688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16"/>
          <p:cNvGrpSpPr/>
          <p:nvPr/>
        </p:nvGrpSpPr>
        <p:grpSpPr>
          <a:xfrm>
            <a:off x="5143680" y="428760"/>
            <a:ext cx="3770280" cy="5505480"/>
            <a:chOff x="5143680" y="428760"/>
            <a:chExt cx="3770280" cy="5505480"/>
          </a:xfrm>
        </p:grpSpPr>
        <p:grpSp>
          <p:nvGrpSpPr>
            <p:cNvPr id="57" name="Group 12"/>
            <p:cNvGrpSpPr/>
            <p:nvPr/>
          </p:nvGrpSpPr>
          <p:grpSpPr>
            <a:xfrm>
              <a:off x="5143680" y="428760"/>
              <a:ext cx="3770280" cy="5505480"/>
              <a:chOff x="5143680" y="428760"/>
              <a:chExt cx="3770280" cy="5505480"/>
            </a:xfrm>
          </p:grpSpPr>
          <p:sp>
            <p:nvSpPr>
              <p:cNvPr id="58" name="Freeform 5"/>
              <p:cNvSpPr/>
              <p:nvPr/>
            </p:nvSpPr>
            <p:spPr>
              <a:xfrm>
                <a:off x="6143760" y="3000600"/>
                <a:ext cx="650880" cy="958680"/>
              </a:xfrm>
              <a:custGeom>
                <a:avLst/>
                <a:gdLst/>
                <a:ahLst/>
                <a:rect l="l" t="t" r="r" b="b"/>
                <a:pathLst>
                  <a:path w="651164" h="958273">
                    <a:moveTo>
                      <a:pt x="71582" y="50800"/>
                    </a:moveTo>
                    <a:cubicBezTo>
                      <a:pt x="0" y="101600"/>
                      <a:pt x="143164" y="695037"/>
                      <a:pt x="182418" y="826655"/>
                    </a:cubicBezTo>
                    <a:cubicBezTo>
                      <a:pt x="221673" y="958273"/>
                      <a:pt x="235527" y="891309"/>
                      <a:pt x="307109" y="840509"/>
                    </a:cubicBezTo>
                    <a:cubicBezTo>
                      <a:pt x="378691" y="789709"/>
                      <a:pt x="651164" y="660401"/>
                      <a:pt x="611909" y="521855"/>
                    </a:cubicBezTo>
                    <a:cubicBezTo>
                      <a:pt x="572655" y="383310"/>
                      <a:pt x="143164" y="0"/>
                      <a:pt x="71582" y="50800"/>
                    </a:cubicBezTo>
                    <a:close/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"/>
              <p:cNvSpPr/>
              <p:nvPr/>
            </p:nvSpPr>
            <p:spPr>
              <a:xfrm>
                <a:off x="6064200" y="4160880"/>
                <a:ext cx="2255760" cy="1773360"/>
              </a:xfrm>
              <a:custGeom>
                <a:avLst/>
                <a:gdLst/>
                <a:ahLst/>
                <a:rect l="l" t="t" r="r" b="b"/>
                <a:pathLst>
                  <a:path w="2255981" h="1773381">
                    <a:moveTo>
                      <a:pt x="434109" y="355600"/>
                    </a:moveTo>
                    <a:cubicBezTo>
                      <a:pt x="302491" y="588818"/>
                      <a:pt x="0" y="1403927"/>
                      <a:pt x="281709" y="1588654"/>
                    </a:cubicBezTo>
                    <a:cubicBezTo>
                      <a:pt x="563418" y="1773381"/>
                      <a:pt x="1992745" y="1697181"/>
                      <a:pt x="2124363" y="1463963"/>
                    </a:cubicBezTo>
                    <a:cubicBezTo>
                      <a:pt x="2255981" y="1230745"/>
                      <a:pt x="1348509" y="378690"/>
                      <a:pt x="1071418" y="189345"/>
                    </a:cubicBezTo>
                    <a:cubicBezTo>
                      <a:pt x="794327" y="0"/>
                      <a:pt x="565727" y="122382"/>
                      <a:pt x="434109" y="355600"/>
                    </a:cubicBezTo>
                    <a:close/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10"/>
              <p:cNvSpPr/>
              <p:nvPr/>
            </p:nvSpPr>
            <p:spPr>
              <a:xfrm>
                <a:off x="6747120" y="3440160"/>
                <a:ext cx="2166840" cy="2367000"/>
              </a:xfrm>
              <a:custGeom>
                <a:avLst/>
                <a:gdLst/>
                <a:ahLst/>
                <a:rect l="l" t="t" r="r" b="b"/>
                <a:pathLst>
                  <a:path w="2165928" h="2366819">
                    <a:moveTo>
                      <a:pt x="762001" y="78510"/>
                    </a:moveTo>
                    <a:cubicBezTo>
                      <a:pt x="935183" y="76201"/>
                      <a:pt x="1641764" y="0"/>
                      <a:pt x="1870364" y="50800"/>
                    </a:cubicBezTo>
                    <a:cubicBezTo>
                      <a:pt x="2098964" y="101600"/>
                      <a:pt x="2101274" y="110837"/>
                      <a:pt x="2133601" y="383310"/>
                    </a:cubicBezTo>
                    <a:cubicBezTo>
                      <a:pt x="2165928" y="655783"/>
                      <a:pt x="2159001" y="1392383"/>
                      <a:pt x="2064328" y="1685637"/>
                    </a:cubicBezTo>
                    <a:cubicBezTo>
                      <a:pt x="1969655" y="1978891"/>
                      <a:pt x="1877291" y="2366819"/>
                      <a:pt x="1565564" y="2142837"/>
                    </a:cubicBezTo>
                    <a:cubicBezTo>
                      <a:pt x="1253837" y="1918855"/>
                      <a:pt x="387928" y="678873"/>
                      <a:pt x="193964" y="341746"/>
                    </a:cubicBezTo>
                    <a:cubicBezTo>
                      <a:pt x="0" y="4619"/>
                      <a:pt x="295564" y="166255"/>
                      <a:pt x="401782" y="120073"/>
                    </a:cubicBezTo>
                    <a:cubicBezTo>
                      <a:pt x="508000" y="73891"/>
                      <a:pt x="766618" y="73891"/>
                      <a:pt x="831273" y="64655"/>
                    </a:cubicBezTo>
                    <a:cubicBezTo>
                      <a:pt x="895928" y="55419"/>
                      <a:pt x="588819" y="80819"/>
                      <a:pt x="762001" y="78510"/>
                    </a:cubicBezTo>
                    <a:close/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Box 11"/>
              <p:cNvSpPr/>
              <p:nvPr/>
            </p:nvSpPr>
            <p:spPr>
              <a:xfrm>
                <a:off x="5143680" y="428760"/>
                <a:ext cx="365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ZA" sz="1800" spc="-1" strike="noStrike">
                    <a:solidFill>
                      <a:srgbClr val="ff0000"/>
                    </a:solidFill>
                    <a:latin typeface="Calibri"/>
                  </a:rPr>
                  <a:t>Segmental pneumonic consolid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Freeform 15"/>
            <p:cNvSpPr/>
            <p:nvPr/>
          </p:nvSpPr>
          <p:spPr>
            <a:xfrm>
              <a:off x="5648400" y="892080"/>
              <a:ext cx="2863800" cy="2811600"/>
            </a:xfrm>
            <a:custGeom>
              <a:avLst/>
              <a:gdLst/>
              <a:ahLst/>
              <a:rect l="l" t="t" r="r" b="b"/>
              <a:pathLst>
                <a:path w="2863645" h="2812025">
                  <a:moveTo>
                    <a:pt x="589936" y="125361"/>
                  </a:moveTo>
                  <a:cubicBezTo>
                    <a:pt x="329381" y="250722"/>
                    <a:pt x="0" y="983226"/>
                    <a:pt x="103239" y="1378974"/>
                  </a:cubicBezTo>
                  <a:cubicBezTo>
                    <a:pt x="206478" y="1774722"/>
                    <a:pt x="762000" y="2313038"/>
                    <a:pt x="1209368" y="2499851"/>
                  </a:cubicBezTo>
                  <a:cubicBezTo>
                    <a:pt x="1656736" y="2686664"/>
                    <a:pt x="2711245" y="2812025"/>
                    <a:pt x="2787445" y="2499851"/>
                  </a:cubicBezTo>
                  <a:cubicBezTo>
                    <a:pt x="2863645" y="2187677"/>
                    <a:pt x="2035278" y="1022554"/>
                    <a:pt x="1666568" y="626806"/>
                  </a:cubicBezTo>
                  <a:cubicBezTo>
                    <a:pt x="1297858" y="231058"/>
                    <a:pt x="850491" y="0"/>
                    <a:pt x="589936" y="125361"/>
                  </a:cubicBez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ontent Placeholder 4" descr=""/>
          <p:cNvPicPr/>
          <p:nvPr/>
        </p:nvPicPr>
        <p:blipFill>
          <a:blip r:embed="rId1"/>
          <a:stretch/>
        </p:blipFill>
        <p:spPr>
          <a:xfrm>
            <a:off x="571680" y="858960"/>
            <a:ext cx="4360680" cy="5140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5143680" y="857160"/>
            <a:ext cx="354312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re is a milky-looking fibrinous exudate on the pleural surface of the lung, seen here on the hilar aspec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No pneumonia can be accurately identified without microbiological investig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500040" y="150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A gram negative bacillus with cultural features of</a:t>
            </a:r>
            <a:r>
              <a:rPr b="0" i="1" lang="en-ZA" sz="2400" spc="-1" strike="noStrike">
                <a:solidFill>
                  <a:srgbClr val="000000"/>
                </a:solidFill>
                <a:latin typeface="Calibri"/>
              </a:rPr>
              <a:t> Klebsiella pneumoniae</a:t>
            </a: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 was isolated from both lung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400" spc="-1" strike="noStrike">
                <a:solidFill>
                  <a:srgbClr val="000000"/>
                </a:solidFill>
                <a:latin typeface="Calibri"/>
              </a:rPr>
              <a:t>K. pneumoniae </a:t>
            </a: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produces large, mucoid colonies after 24 hours of aerobic incubation. It is a lactose fermenter so on MacConkey agar the colonies are pink, as shown here.  </a:t>
            </a:r>
            <a:br>
              <a:rPr sz="2400"/>
            </a:b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4714920" y="1571760"/>
            <a:ext cx="408456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 mucinous quality of Klebsiella would be noted by the pathologist at post mortem; the cut surface of the lungs appears mucinous and the knife used for sectioning would be sticky with muco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000" spc="-1" strike="noStrike">
                <a:solidFill>
                  <a:srgbClr val="376092"/>
                </a:solidFill>
                <a:latin typeface="Calibri"/>
              </a:rPr>
              <a:t>Some com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400" spc="-1" strike="noStrike">
                <a:solidFill>
                  <a:srgbClr val="000000"/>
                </a:solidFill>
                <a:latin typeface="Calibri"/>
              </a:rPr>
              <a:t>Klebsiella pneumoniae </a:t>
            </a: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and Klebsiella pneumonia are sometimes still called Friedländer’s bacillus and Friedländer’s pneumonia respectively, after the German physician Carl Friedländer, who described them in the 19</a:t>
            </a:r>
            <a:r>
              <a:rPr b="0" lang="en-ZA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 centu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Klebsiella pneumonia typically occurs in men over 50 years with an underlying  chronic condition such as alcoholism or diabe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It is an aggressive pneumonia and has a tendency to progress to abscess form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When this patient fell ill in 1948 antibiotic options were limited. Today the first line antibiotic for community acquired Klebsiella pneumonia is coamoxiclav or a 3rd generation cephalosporin (cefotaxime or ceftriaxon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89000" y="189000"/>
            <a:ext cx="8847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363600" y="558720"/>
            <a:ext cx="8497800" cy="51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A selection of cases from the Digital Pathology Collection by the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Department </a:t>
            </a:r>
            <a:r>
              <a:rPr b="0" lang="en-ZA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of Clinical Laboratory </a:t>
            </a:r>
            <a:r>
              <a:rPr b="0" lang="en-ZA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Sci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University of Cape T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is licensed under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Creative Commons Attribution-NonCommercial-ShareAlike 2.5 South Africa Lice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The full Digital Pathology Collection is accessible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www.digitalpathology.uct.ac.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If you would like to use an image or other item from our site that is not labelled with the Creative Commons Licence Logo, please contact the curator for permi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4"/>
          <a:stretch/>
        </p:blipFill>
        <p:spPr>
          <a:xfrm>
            <a:off x="3529080" y="804960"/>
            <a:ext cx="194148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08:34:29Z</dcterms:created>
  <dc:creator>New Win User</dc:creator>
  <dc:description/>
  <dc:language>en-US</dc:language>
  <cp:lastModifiedBy>Sam</cp:lastModifiedBy>
  <dcterms:modified xsi:type="dcterms:W3CDTF">2011-09-10T21:26:26Z</dcterms:modified>
  <cp:revision>157</cp:revision>
  <dc:subject/>
  <dc:title>Pathology Museum  Case of the Week</dc:title>
</cp:coreProperties>
</file>