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7C7-C56A-4BA5-A815-810051D8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9D7-89D7-4599-928B-2147E2D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87A-501A-40B5-9CAC-46BA68E9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36A-BA85-45EC-9753-C5E94F05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9FE-CFFE-4189-B665-F581B7A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0C0F-5A6A-4A64-B397-1035366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8C22-9407-4FFB-843F-A27413FC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1C55-6BF6-44CE-8C3C-E6E0B499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BF8-8014-4770-976C-F50B2A0B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3A5-2D92-4AB4-AB18-0F351B83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D515-23A6-429C-ADB8-01CF8C5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C7E-8405-4459-9D76-8259A387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E638-18FC-4EB4-AA44-0EC6E39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A81D-9A2D-4ECD-8843-EF986D7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5B63-157B-4EA2-BD5B-4E9DBF0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0A74-2F12-4535-A076-EE056FD2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B24B-E0B9-460D-8406-5DADAF1A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DDD-B450-415A-BE5A-96DD673D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A00-AD9B-44D0-B33F-54A91F93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C50-3878-4CC8-AD36-F15DA835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545-CBEC-4F1C-A87E-9238161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7AD-97C8-4B97-A699-5CC8408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C03-92DE-49B4-9FB5-2692ECD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479-E9BA-4048-BACB-1310E87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11E-E85A-471B-9AD2-3AD2EB58C7BD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810-FBA3-484F-B6DE-891F15206343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dean.luc.edu/lumen/MedEd/medicine/pulmonar/cxr/atlas/miliary1.htm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Hirsekoerner.jpg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Miliary tubercu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3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V:viii: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Museum 012.jpg"/>
          <p:cNvPicPr/>
          <p:nvPr/>
        </p:nvPicPr>
        <p:blipFill>
          <a:blip r:embed="rId1"/>
          <a:stretch/>
        </p:blipFill>
        <p:spPr>
          <a:xfrm>
            <a:off x="2987640" y="218772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2987640" y="4044960"/>
            <a:ext cx="703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2960" y="5500800"/>
            <a:ext cx="8115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specimen is the heart and lungs of a chi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Numerous pale miliary foci, all ≤ 1mm in diameter, are uniformly distributed throughout both lu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2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465800" cy="489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703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useum 012.jpg"/>
          <p:cNvPicPr/>
          <p:nvPr/>
        </p:nvPicPr>
        <p:blipFill>
          <a:blip r:embed="rId1"/>
          <a:stretch/>
        </p:blipFill>
        <p:spPr>
          <a:xfrm>
            <a:off x="1285920" y="96372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649840" y="1785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Blood vess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780000" y="2630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Miliary f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437840" y="43578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Sub-segmental bronc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7"/>
          <p:cNvCxnSpPr/>
          <p:nvPr/>
        </p:nvCxnSpPr>
        <p:spPr>
          <a:xfrm flipH="1">
            <a:off x="4785480" y="3000240"/>
            <a:ext cx="2520" cy="573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" name="Straight Arrow Connector 9"/>
          <p:cNvCxnSpPr/>
          <p:nvPr/>
        </p:nvCxnSpPr>
        <p:spPr>
          <a:xfrm flipH="1">
            <a:off x="4285440" y="3000240"/>
            <a:ext cx="429480" cy="1215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0" name="Straight Arrow Connector 11"/>
          <p:cNvCxnSpPr/>
          <p:nvPr/>
        </p:nvCxnSpPr>
        <p:spPr>
          <a:xfrm>
            <a:off x="4786200" y="2999880"/>
            <a:ext cx="215280" cy="1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Straight Arrow Connector 13"/>
          <p:cNvCxnSpPr/>
          <p:nvPr/>
        </p:nvCxnSpPr>
        <p:spPr>
          <a:xfrm>
            <a:off x="5928120" y="2214720"/>
            <a:ext cx="143640" cy="714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Straight Arrow Connector 17"/>
          <p:cNvCxnSpPr/>
          <p:nvPr/>
        </p:nvCxnSpPr>
        <p:spPr>
          <a:xfrm flipH="1">
            <a:off x="5428800" y="2143080"/>
            <a:ext cx="357840" cy="1286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Straight Arrow Connector 24"/>
          <p:cNvCxnSpPr/>
          <p:nvPr/>
        </p:nvCxnSpPr>
        <p:spPr>
          <a:xfrm flipV="1">
            <a:off x="3357720" y="3858480"/>
            <a:ext cx="714960" cy="499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285920" y="963720"/>
            <a:ext cx="70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7236000" y="6021360"/>
            <a:ext cx="172872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1280" y="14839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eddean.luc.edu/lumen/MedEd/medicine/pulmonar/cxr/atlas/miliary1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724040" y="2565360"/>
            <a:ext cx="5694480" cy="3292560"/>
          </a:xfrm>
          <a:prstGeom prst="rect">
            <a:avLst/>
          </a:prstGeom>
          <a:ln w="0">
            <a:noFill/>
          </a:ln>
        </p:spPr>
      </p:pic>
      <p:sp>
        <p:nvSpPr>
          <p:cNvPr id="108" name="Title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Chest x-ray in miliary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847680" y="61246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Millet s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737360" y="5514840"/>
            <a:ext cx="2638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</a:rPr>
              <a:t>Photo: Elke Wetzig </a:t>
            </a:r>
            <a:br>
              <a:rPr sz="800"/>
            </a:br>
            <a:r>
              <a:rPr b="0" lang="en-ZA" sz="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en.wikipedia.org/wiki/File:Hirsekoerner.jpg</a:t>
            </a:r>
            <a:r>
              <a:rPr b="0" lang="en-ZA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6 years old and had just started treatment for spinal tubercul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iliary tuberculosis is usually a complication of primary tuberculosis in children, but it can occur as a late (often terminal) consequence of chronic untreated organ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Whether in primary or secondary tuberculosis, miliary tuberculosis occurs when organisms draining through lymphatics enter venous blood and there is consequent dissemination of bacteria via the blood stre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is specimen shows </a:t>
            </a:r>
            <a:r>
              <a:rPr b="1" lang="en-ZA" sz="2200" spc="-1" strike="noStrike">
                <a:solidFill>
                  <a:srgbClr val="000000"/>
                </a:solidFill>
                <a:latin typeface="Calibri"/>
              </a:rPr>
              <a:t>miliary pulmonary disease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, the result of  diffuse spread to the lungs via recirculation through the pulmonary arte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child may well have had </a:t>
            </a:r>
            <a:r>
              <a:rPr b="1" lang="en-ZA" sz="2200" spc="-1" strike="noStrike">
                <a:solidFill>
                  <a:srgbClr val="000000"/>
                </a:solidFill>
                <a:latin typeface="Calibri"/>
              </a:rPr>
              <a:t>systemic miliary disease 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(organisms disseminated to the left side of the heart and systemic arterial system) as wel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two forms of miliary spread can occur independently or together. It is therefore usually a generalised condition, with many organs affected. Death is commonly due to tuberculous mening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7885080" y="6021360"/>
            <a:ext cx="100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M412/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liver, lungs and spleen from a 3 month old child who died of extensive miliary tubercul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iliary foci are a little larger than in the first example, but they seldom expand beyond a few mm since death intervenes before this can occu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2" descr=""/>
          <p:cNvPicPr/>
          <p:nvPr/>
        </p:nvPicPr>
        <p:blipFill>
          <a:blip r:embed="rId1"/>
          <a:stretch/>
        </p:blipFill>
        <p:spPr>
          <a:xfrm>
            <a:off x="4818240" y="404640"/>
            <a:ext cx="3282840" cy="6139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7397640" y="6296040"/>
            <a:ext cx="703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2:22:54Z</dcterms:created>
  <dc:creator>New Win User</dc:creator>
  <dc:description/>
  <dc:language>en-US</dc:language>
  <cp:lastModifiedBy>Jurgen Geitner</cp:lastModifiedBy>
  <dcterms:modified xsi:type="dcterms:W3CDTF">2012-02-22T14:43:24Z</dcterms:modified>
  <cp:revision>91</cp:revision>
  <dc:subject/>
  <dc:title>Pathology museum  Case of the Week</dc:title>
</cp:coreProperties>
</file>