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B67D-794A-485D-A361-80A148C6F0DA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C9EF-251C-4E5A-BCA7-667CB2C25D50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56A2-A5C4-476C-8A77-FEF8E54C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D00-0CE9-4252-B47E-EE1D3805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4B66-C59F-43BF-AA30-5F52F028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B20D-E16A-4ED5-B8DB-081FD94B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0EF5-9C0C-459C-BBF3-F23A8A52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53A3-E1D4-4784-9DFB-1182E843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2A4F-CD56-44F6-949E-410CE529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48C6-66EA-4B7F-A5AE-8E7CF5CB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545F-8023-4CA9-A202-60C38780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D2A6-BE89-4EC7-B9D5-263B048F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BB03-C10D-4B6C-8DE5-61B9FF4A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647A-EAA7-49DD-9282-7456833E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6064-AD94-4062-89A2-F2B9E754626A}" type="slidenum">
              <a:rPr b="0" lang="en-Z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740720" y="6130800"/>
            <a:ext cx="1117440" cy="393840"/>
          </a:xfrm>
          <a:prstGeom prst="rect">
            <a:avLst/>
          </a:prstGeom>
          <a:ln w="0">
            <a:noFill/>
          </a:ln>
        </p:spPr>
      </p:pic>
      <p:sp>
        <p:nvSpPr>
          <p:cNvPr id="6" name="TextBox 2"/>
          <p:cNvSpPr/>
          <p:nvPr/>
        </p:nvSpPr>
        <p:spPr>
          <a:xfrm>
            <a:off x="7192080" y="652464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University of Cape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commons.wikimedia.org/wiki/File:Gray769.png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Subdural haemorrhag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0328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Digital Pathology Col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Case 11 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Ref.  PM220/8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subdural 002.jpg"/>
          <p:cNvPicPr/>
          <p:nvPr/>
        </p:nvPicPr>
        <p:blipFill>
          <a:blip r:embed="rId1"/>
          <a:srcRect l="0" t="12498" r="0" b="7298"/>
          <a:stretch/>
        </p:blipFill>
        <p:spPr>
          <a:xfrm>
            <a:off x="3059280" y="2205000"/>
            <a:ext cx="3206520" cy="1928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3059280" y="3921120"/>
            <a:ext cx="64908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ontent Placeholder 13" descr=""/>
          <p:cNvPicPr/>
          <p:nvPr/>
        </p:nvPicPr>
        <p:blipFill>
          <a:blip r:embed="rId1"/>
          <a:stretch/>
        </p:blipFill>
        <p:spPr>
          <a:xfrm>
            <a:off x="428760" y="2000160"/>
            <a:ext cx="3900240" cy="27241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Pat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00720" y="1600200"/>
            <a:ext cx="428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re is a midline midbrain haemorrhage, a consequence of raised intracranial pressure and caudal shift of the midbrain, with overstretching of the perforating branches of the basilar arte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midbrain haemorrhage explains the limited improvement following drainage of the subdural haematoma in this pati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Oval 12"/>
          <p:cNvSpPr/>
          <p:nvPr/>
        </p:nvSpPr>
        <p:spPr>
          <a:xfrm>
            <a:off x="2071800" y="2928960"/>
            <a:ext cx="500040" cy="7142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189000" y="189000"/>
            <a:ext cx="8847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363600" y="558720"/>
            <a:ext cx="849780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 selection of cases from the Digital Pathology Collection by the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Department of Clinical Laboratory Sc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University of Cape T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s licensed under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Creative Commons Attribution-NonCommercial-ShareAlike 2.5 South Africa Lic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he full Digital Pathology Collection is accessible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www.digitalpathology.uct.ac.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f you would like to use an image or other item from our site that is not labelled with the Creative Commons Licence Logo, please contact the curator for permi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3529080" y="804960"/>
            <a:ext cx="194148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Clinical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patient was a 60 year old man from the central Karoo. He had apparently been unwell for two weeks. A history of trauma to the head was not obtain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On arrival at Groote Schuur Hospital he was comatose with fixed pupils, the right slightly larger than the le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 CT scan of the head showed a 20mm low density right-sided subdural collection, with an 18mm shift to the le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 chronic right sided subdural haematoma was evacuated via a right frontal burr ho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His level of consciousness improved slightly but temporarily, and he died of an aspiration pneumo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5580000" y="5157720"/>
            <a:ext cx="3529080" cy="16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558720" y="285840"/>
            <a:ext cx="3787920" cy="6334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4714920" y="255600"/>
            <a:ext cx="34290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ontent Placeholder 8" descr="subdural 003.jpg"/>
          <p:cNvPicPr/>
          <p:nvPr/>
        </p:nvPicPr>
        <p:blipFill>
          <a:blip r:embed="rId1"/>
          <a:srcRect l="0" t="9722" r="5191" b="0"/>
          <a:stretch/>
        </p:blipFill>
        <p:spPr>
          <a:xfrm>
            <a:off x="285840" y="2071800"/>
            <a:ext cx="480060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Pat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43320" y="1600200"/>
            <a:ext cx="3571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is part of the specimen is the dura of the fronto-parietal region which has been stripped from the upper half of the sku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inner surface shows residual </a:t>
            </a:r>
            <a:r>
              <a:rPr b="1" lang="en-ZA" sz="2400" spc="-1" strike="noStrike">
                <a:solidFill>
                  <a:srgbClr val="000000"/>
                </a:solidFill>
                <a:latin typeface="Calibri"/>
              </a:rPr>
              <a:t>organising subdural haematoma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, extending over the whole surface of the right hemisp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1508400" y="36432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ffffff"/>
                </a:solidFill>
                <a:latin typeface="Arial"/>
              </a:rPr>
              <a:t>falx cereb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7"/>
          <p:cNvSpPr/>
          <p:nvPr/>
        </p:nvSpPr>
        <p:spPr>
          <a:xfrm>
            <a:off x="452520" y="2193840"/>
            <a:ext cx="4387680" cy="1530360"/>
          </a:xfrm>
          <a:custGeom>
            <a:avLst/>
            <a:gdLst/>
            <a:ahLst/>
            <a:rect l="l" t="t" r="r" b="b"/>
            <a:pathLst>
              <a:path w="4387272" h="1530927">
                <a:moveTo>
                  <a:pt x="32327" y="1089890"/>
                </a:moveTo>
                <a:cubicBezTo>
                  <a:pt x="55418" y="1006763"/>
                  <a:pt x="92364" y="812799"/>
                  <a:pt x="157018" y="701963"/>
                </a:cubicBezTo>
                <a:cubicBezTo>
                  <a:pt x="221672" y="591127"/>
                  <a:pt x="304800" y="510308"/>
                  <a:pt x="420254" y="424872"/>
                </a:cubicBezTo>
                <a:cubicBezTo>
                  <a:pt x="535709" y="339436"/>
                  <a:pt x="768927" y="244763"/>
                  <a:pt x="849745" y="189345"/>
                </a:cubicBezTo>
                <a:cubicBezTo>
                  <a:pt x="930563" y="133927"/>
                  <a:pt x="838199" y="101599"/>
                  <a:pt x="905163" y="92363"/>
                </a:cubicBezTo>
                <a:cubicBezTo>
                  <a:pt x="972127" y="83127"/>
                  <a:pt x="1182254" y="127000"/>
                  <a:pt x="1251527" y="133927"/>
                </a:cubicBezTo>
                <a:cubicBezTo>
                  <a:pt x="1320800" y="140854"/>
                  <a:pt x="1246909" y="140854"/>
                  <a:pt x="1320800" y="133927"/>
                </a:cubicBezTo>
                <a:cubicBezTo>
                  <a:pt x="1394691" y="127000"/>
                  <a:pt x="1597891" y="113145"/>
                  <a:pt x="1694873" y="92363"/>
                </a:cubicBezTo>
                <a:cubicBezTo>
                  <a:pt x="1791855" y="71581"/>
                  <a:pt x="1738746" y="18472"/>
                  <a:pt x="1902691" y="9236"/>
                </a:cubicBezTo>
                <a:cubicBezTo>
                  <a:pt x="2066636" y="0"/>
                  <a:pt x="2473036" y="9236"/>
                  <a:pt x="2678545" y="36945"/>
                </a:cubicBezTo>
                <a:cubicBezTo>
                  <a:pt x="2884054" y="64654"/>
                  <a:pt x="3020290" y="150090"/>
                  <a:pt x="3135745" y="175490"/>
                </a:cubicBezTo>
                <a:cubicBezTo>
                  <a:pt x="3251200" y="200890"/>
                  <a:pt x="3248891" y="150090"/>
                  <a:pt x="3371273" y="189345"/>
                </a:cubicBezTo>
                <a:cubicBezTo>
                  <a:pt x="3493655" y="228600"/>
                  <a:pt x="3763818" y="357909"/>
                  <a:pt x="3870036" y="411018"/>
                </a:cubicBezTo>
                <a:cubicBezTo>
                  <a:pt x="3976254" y="464127"/>
                  <a:pt x="3934691" y="480290"/>
                  <a:pt x="4008582" y="507999"/>
                </a:cubicBezTo>
                <a:cubicBezTo>
                  <a:pt x="4082473" y="535708"/>
                  <a:pt x="4251037" y="542635"/>
                  <a:pt x="4313382" y="577272"/>
                </a:cubicBezTo>
                <a:cubicBezTo>
                  <a:pt x="4375727" y="611909"/>
                  <a:pt x="4387272" y="674254"/>
                  <a:pt x="4382654" y="715818"/>
                </a:cubicBezTo>
                <a:cubicBezTo>
                  <a:pt x="4378036" y="757382"/>
                  <a:pt x="4336473" y="782781"/>
                  <a:pt x="4285673" y="826654"/>
                </a:cubicBezTo>
                <a:cubicBezTo>
                  <a:pt x="4234873" y="870527"/>
                  <a:pt x="4142509" y="921327"/>
                  <a:pt x="4077854" y="979054"/>
                </a:cubicBezTo>
                <a:cubicBezTo>
                  <a:pt x="4013199" y="1036781"/>
                  <a:pt x="4008581" y="1112982"/>
                  <a:pt x="3897745" y="1173018"/>
                </a:cubicBezTo>
                <a:cubicBezTo>
                  <a:pt x="3786909" y="1233054"/>
                  <a:pt x="3549072" y="1297709"/>
                  <a:pt x="3412836" y="1339272"/>
                </a:cubicBezTo>
                <a:cubicBezTo>
                  <a:pt x="3276600" y="1380835"/>
                  <a:pt x="3246581" y="1396999"/>
                  <a:pt x="3080327" y="1422399"/>
                </a:cubicBezTo>
                <a:cubicBezTo>
                  <a:pt x="2914073" y="1447799"/>
                  <a:pt x="2556164" y="1475508"/>
                  <a:pt x="2415309" y="1491672"/>
                </a:cubicBezTo>
                <a:cubicBezTo>
                  <a:pt x="2274455" y="1507836"/>
                  <a:pt x="2387600" y="1530927"/>
                  <a:pt x="2235200" y="1519381"/>
                </a:cubicBezTo>
                <a:cubicBezTo>
                  <a:pt x="2082800" y="1507836"/>
                  <a:pt x="1669473" y="1447799"/>
                  <a:pt x="1500909" y="1422399"/>
                </a:cubicBezTo>
                <a:cubicBezTo>
                  <a:pt x="1332345" y="1396999"/>
                  <a:pt x="1281545" y="1369290"/>
                  <a:pt x="1223818" y="1366981"/>
                </a:cubicBezTo>
                <a:cubicBezTo>
                  <a:pt x="1166091" y="1364672"/>
                  <a:pt x="1221509" y="1401618"/>
                  <a:pt x="1154545" y="1408545"/>
                </a:cubicBezTo>
                <a:cubicBezTo>
                  <a:pt x="1087581" y="1415472"/>
                  <a:pt x="905163" y="1403927"/>
                  <a:pt x="822036" y="1408545"/>
                </a:cubicBezTo>
                <a:cubicBezTo>
                  <a:pt x="738909" y="1413163"/>
                  <a:pt x="695036" y="1429327"/>
                  <a:pt x="655782" y="1436254"/>
                </a:cubicBezTo>
                <a:cubicBezTo>
                  <a:pt x="616528" y="1443181"/>
                  <a:pt x="671946" y="1445490"/>
                  <a:pt x="586509" y="1450108"/>
                </a:cubicBezTo>
                <a:cubicBezTo>
                  <a:pt x="501073" y="1454726"/>
                  <a:pt x="237836" y="1505527"/>
                  <a:pt x="143163" y="1463963"/>
                </a:cubicBezTo>
                <a:cubicBezTo>
                  <a:pt x="48490" y="1422400"/>
                  <a:pt x="36946" y="1265382"/>
                  <a:pt x="18473" y="1200727"/>
                </a:cubicBezTo>
                <a:cubicBezTo>
                  <a:pt x="0" y="1136072"/>
                  <a:pt x="9236" y="1173017"/>
                  <a:pt x="32327" y="1089890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2"/>
          <a:stretch/>
        </p:blipFill>
        <p:spPr>
          <a:xfrm>
            <a:off x="4356000" y="5197320"/>
            <a:ext cx="70344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1" descr="subdural 004.jpg"/>
          <p:cNvPicPr/>
          <p:nvPr/>
        </p:nvPicPr>
        <p:blipFill>
          <a:blip r:embed="rId1"/>
          <a:srcRect l="11457" t="1562" r="17710" b="58042"/>
          <a:stretch/>
        </p:blipFill>
        <p:spPr>
          <a:xfrm>
            <a:off x="1214280" y="4000680"/>
            <a:ext cx="3214800" cy="244440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8" descr="subdural 003.jpg"/>
          <p:cNvPicPr/>
          <p:nvPr/>
        </p:nvPicPr>
        <p:blipFill>
          <a:blip r:embed="rId2"/>
          <a:srcRect l="0" t="9728" r="5195" b="0"/>
          <a:stretch/>
        </p:blipFill>
        <p:spPr>
          <a:xfrm>
            <a:off x="1230480" y="1643040"/>
            <a:ext cx="3198600" cy="2286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Pat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929120" y="1600200"/>
            <a:ext cx="350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 sealed burr hole opening can be seen on the right hand edge of the du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 8"/>
          <p:cNvGrpSpPr/>
          <p:nvPr/>
        </p:nvGrpSpPr>
        <p:grpSpPr>
          <a:xfrm>
            <a:off x="2214720" y="1785960"/>
            <a:ext cx="1142640" cy="2643120"/>
            <a:chOff x="2214720" y="1785960"/>
            <a:chExt cx="1142640" cy="2643120"/>
          </a:xfrm>
        </p:grpSpPr>
        <p:sp>
          <p:nvSpPr>
            <p:cNvPr id="70" name="Oval 6"/>
            <p:cNvSpPr/>
            <p:nvPr/>
          </p:nvSpPr>
          <p:spPr>
            <a:xfrm>
              <a:off x="2928960" y="1785960"/>
              <a:ext cx="428400" cy="357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"/>
            <p:cNvSpPr/>
            <p:nvPr/>
          </p:nvSpPr>
          <p:spPr>
            <a:xfrm>
              <a:off x="2214720" y="4071960"/>
              <a:ext cx="428400" cy="357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8" descr=""/>
          <p:cNvPicPr/>
          <p:nvPr/>
        </p:nvPicPr>
        <p:blipFill>
          <a:blip r:embed="rId3"/>
          <a:stretch/>
        </p:blipFill>
        <p:spPr>
          <a:xfrm>
            <a:off x="3726000" y="6197760"/>
            <a:ext cx="703080" cy="247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4"/>
          <a:stretch/>
        </p:blipFill>
        <p:spPr>
          <a:xfrm>
            <a:off x="3726000" y="3686040"/>
            <a:ext cx="70308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Hist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Microscopy revealed attempted organisation of the haematoma with loose, fibrous, vascularised membrane enclosing two layers of haemorrhage, </a:t>
            </a:r>
            <a:r>
              <a:rPr b="1" lang="en-ZA" sz="2400" spc="-1" strike="noStrike">
                <a:solidFill>
                  <a:srgbClr val="000000"/>
                </a:solidFill>
                <a:latin typeface="Calibri"/>
              </a:rPr>
              <a:t>suggesting that the haematoma increased in size over time due to repeated haemorrhage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Z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Pathogen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5676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re is a potential space between the dura and arachno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alibri"/>
              </a:rPr>
              <a:t>Bridging veins        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cross from the surface of the cerebral convexities through the subdural space to empty into venous sinuses in the dura, and ultimately into the superior saggital sin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8" descr="Gray769.png"/>
          <p:cNvPicPr/>
          <p:nvPr/>
        </p:nvPicPr>
        <p:blipFill>
          <a:blip r:embed="rId1"/>
          <a:stretch/>
        </p:blipFill>
        <p:spPr>
          <a:xfrm>
            <a:off x="3571920" y="1714680"/>
            <a:ext cx="5238720" cy="3962160"/>
          </a:xfrm>
          <a:prstGeom prst="rect">
            <a:avLst/>
          </a:prstGeom>
          <a:ln w="0">
            <a:noFill/>
          </a:ln>
        </p:spPr>
      </p:pic>
      <p:sp>
        <p:nvSpPr>
          <p:cNvPr id="79" name="TextBox 9"/>
          <p:cNvSpPr/>
          <p:nvPr/>
        </p:nvSpPr>
        <p:spPr>
          <a:xfrm>
            <a:off x="4420080" y="5929200"/>
            <a:ext cx="310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This is an uncopyrighted image available 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commons.wikimedia.org/wiki/File:Gray769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16"/>
          <p:cNvGrpSpPr/>
          <p:nvPr/>
        </p:nvGrpSpPr>
        <p:grpSpPr>
          <a:xfrm>
            <a:off x="3714840" y="2898720"/>
            <a:ext cx="4559040" cy="2735280"/>
            <a:chOff x="3714840" y="2898720"/>
            <a:chExt cx="4559040" cy="2735280"/>
          </a:xfrm>
        </p:grpSpPr>
        <p:grpSp>
          <p:nvGrpSpPr>
            <p:cNvPr id="81" name="Group 10"/>
            <p:cNvGrpSpPr/>
            <p:nvPr/>
          </p:nvGrpSpPr>
          <p:grpSpPr>
            <a:xfrm>
              <a:off x="3714840" y="2898720"/>
              <a:ext cx="4559040" cy="2735280"/>
              <a:chOff x="3714840" y="2898720"/>
              <a:chExt cx="4559040" cy="2735280"/>
            </a:xfrm>
          </p:grpSpPr>
          <p:grpSp>
            <p:nvGrpSpPr>
              <p:cNvPr id="82" name="Group 8"/>
              <p:cNvGrpSpPr/>
              <p:nvPr/>
            </p:nvGrpSpPr>
            <p:grpSpPr>
              <a:xfrm>
                <a:off x="3714840" y="2898720"/>
                <a:ext cx="3084120" cy="2706120"/>
                <a:chOff x="3714840" y="2898720"/>
                <a:chExt cx="3084120" cy="2706120"/>
              </a:xfrm>
            </p:grpSpPr>
            <p:sp>
              <p:nvSpPr>
                <p:cNvPr id="83" name="Rectangle 14"/>
                <p:cNvSpPr/>
                <p:nvPr/>
              </p:nvSpPr>
              <p:spPr>
                <a:xfrm>
                  <a:off x="3714840" y="3786480"/>
                  <a:ext cx="857160" cy="142920"/>
                </a:xfrm>
                <a:prstGeom prst="rect">
                  <a:avLst/>
                </a:pr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7"/>
                <p:cNvSpPr/>
                <p:nvPr/>
              </p:nvSpPr>
              <p:spPr>
                <a:xfrm>
                  <a:off x="4217760" y="2898720"/>
                  <a:ext cx="2581200" cy="2706120"/>
                </a:xfrm>
                <a:custGeom>
                  <a:avLst/>
                  <a:gdLst/>
                  <a:ahLst/>
                  <a:rect l="l" t="t" r="r" b="b"/>
                  <a:pathLst>
                    <a:path w="2580967" h="2706329">
                      <a:moveTo>
                        <a:pt x="0" y="272845"/>
                      </a:moveTo>
                      <a:lnTo>
                        <a:pt x="884903" y="110613"/>
                      </a:lnTo>
                      <a:cubicBezTo>
                        <a:pt x="1101213" y="76200"/>
                        <a:pt x="1297858" y="66368"/>
                        <a:pt x="1297858" y="66368"/>
                      </a:cubicBezTo>
                      <a:cubicBezTo>
                        <a:pt x="1465006" y="49161"/>
                        <a:pt x="1728019" y="0"/>
                        <a:pt x="1887793" y="7374"/>
                      </a:cubicBezTo>
                      <a:cubicBezTo>
                        <a:pt x="2047567" y="14748"/>
                        <a:pt x="2160638" y="56535"/>
                        <a:pt x="2256503" y="110613"/>
                      </a:cubicBezTo>
                      <a:cubicBezTo>
                        <a:pt x="2352368" y="164691"/>
                        <a:pt x="2416277" y="250723"/>
                        <a:pt x="2462980" y="331839"/>
                      </a:cubicBezTo>
                      <a:cubicBezTo>
                        <a:pt x="2509683" y="412955"/>
                        <a:pt x="2519516" y="494072"/>
                        <a:pt x="2536722" y="597310"/>
                      </a:cubicBezTo>
                      <a:cubicBezTo>
                        <a:pt x="2553928" y="700548"/>
                        <a:pt x="2558845" y="599768"/>
                        <a:pt x="2566219" y="951271"/>
                      </a:cubicBezTo>
                      <a:cubicBezTo>
                        <a:pt x="2573593" y="1302774"/>
                        <a:pt x="2577280" y="2004551"/>
                        <a:pt x="2580967" y="2706329"/>
                      </a:cubicBezTo>
                    </a:path>
                  </a:pathLst>
                </a:custGeom>
                <a:noFill/>
                <a:ln w="38160">
                  <a:solidFill>
                    <a:srgbClr val="e6b9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Freeform 9"/>
              <p:cNvSpPr/>
              <p:nvPr/>
            </p:nvSpPr>
            <p:spPr>
              <a:xfrm>
                <a:off x="6973920" y="2974680"/>
                <a:ext cx="1299960" cy="2659320"/>
              </a:xfrm>
              <a:custGeom>
                <a:avLst/>
                <a:gdLst/>
                <a:ahLst/>
                <a:rect l="l" t="t" r="r" b="b"/>
                <a:pathLst>
                  <a:path w="1300316" h="2659626">
                    <a:moveTo>
                      <a:pt x="1300316" y="167148"/>
                    </a:moveTo>
                    <a:lnTo>
                      <a:pt x="710381" y="34413"/>
                    </a:lnTo>
                    <a:cubicBezTo>
                      <a:pt x="592394" y="12291"/>
                      <a:pt x="641555" y="31955"/>
                      <a:pt x="592394" y="34413"/>
                    </a:cubicBezTo>
                    <a:cubicBezTo>
                      <a:pt x="543233" y="36871"/>
                      <a:pt x="496529" y="0"/>
                      <a:pt x="415413" y="49161"/>
                    </a:cubicBezTo>
                    <a:cubicBezTo>
                      <a:pt x="334297" y="98322"/>
                      <a:pt x="172065" y="231058"/>
                      <a:pt x="105697" y="329381"/>
                    </a:cubicBezTo>
                    <a:cubicBezTo>
                      <a:pt x="39329" y="427704"/>
                      <a:pt x="34413" y="503904"/>
                      <a:pt x="17206" y="639097"/>
                    </a:cubicBezTo>
                    <a:cubicBezTo>
                      <a:pt x="0" y="774291"/>
                      <a:pt x="4916" y="803787"/>
                      <a:pt x="2458" y="1140542"/>
                    </a:cubicBezTo>
                    <a:cubicBezTo>
                      <a:pt x="0" y="1477297"/>
                      <a:pt x="2458" y="2659626"/>
                      <a:pt x="2458" y="2659626"/>
                    </a:cubicBezTo>
                    <a:lnTo>
                      <a:pt x="2458" y="2659626"/>
                    </a:lnTo>
                  </a:path>
                </a:pathLst>
              </a:custGeom>
              <a:noFill/>
              <a:ln w="38160">
                <a:solidFill>
                  <a:srgbClr val="e6b9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Right Arrow 13"/>
            <p:cNvSpPr/>
            <p:nvPr/>
          </p:nvSpPr>
          <p:spPr>
            <a:xfrm flipV="1" rot="16200000">
              <a:off x="4178880" y="3393360"/>
              <a:ext cx="642960" cy="142560"/>
            </a:xfrm>
            <a:prstGeom prst="rightArrow">
              <a:avLst>
                <a:gd name="adj1" fmla="val 50000"/>
                <a:gd name="adj2" fmla="val 50112"/>
              </a:avLst>
            </a:prstGeom>
            <a:solidFill>
              <a:srgbClr val="262626">
                <a:alpha val="70000"/>
              </a:srgbClr>
            </a:solidFill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ight Arrow 18"/>
          <p:cNvSpPr/>
          <p:nvPr/>
        </p:nvSpPr>
        <p:spPr>
          <a:xfrm>
            <a:off x="2714760" y="2928960"/>
            <a:ext cx="2643120" cy="1429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262626">
              <a:alpha val="70000"/>
            </a:srgbClr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Pathogen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se vessels are prone to tearing, especially in infants and in the elderly (in whom brain atrophy causes a widening of the subdural space so that bridging veins are stretched ou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resulting bleed spreads extensively over the brain contour because of the loose attachment of dura and subarachnoid membranes.   (Compare extradural haemorrhage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Subdural haematomas begin to organise within two weeks, but re-bleeding is common due to the fragility of vessels in the granulation tissu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Content Placeholder 14" descr="coronal.jpg"/>
          <p:cNvPicPr/>
          <p:nvPr/>
        </p:nvPicPr>
        <p:blipFill>
          <a:blip r:embed="rId1"/>
          <a:srcRect l="0" t="2651" r="3423" b="3010"/>
          <a:stretch/>
        </p:blipFill>
        <p:spPr>
          <a:xfrm>
            <a:off x="457200" y="2071800"/>
            <a:ext cx="4387680" cy="3214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Pat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143680" y="157176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is coronal slice from the same patient shows swelling of the right hemisphere, with slight compression of the right lateral ventric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Group 10"/>
          <p:cNvGrpSpPr/>
          <p:nvPr/>
        </p:nvGrpSpPr>
        <p:grpSpPr>
          <a:xfrm>
            <a:off x="578880" y="2071800"/>
            <a:ext cx="1434960" cy="571680"/>
            <a:chOff x="578880" y="2071800"/>
            <a:chExt cx="1434960" cy="571680"/>
          </a:xfrm>
        </p:grpSpPr>
        <p:cxnSp>
          <p:nvCxnSpPr>
            <p:cNvPr id="94" name="Straight Arrow Connector 6"/>
            <p:cNvCxnSpPr/>
            <p:nvPr/>
          </p:nvCxnSpPr>
          <p:spPr>
            <a:xfrm flipH="1">
              <a:off x="1142640" y="2357280"/>
              <a:ext cx="2160" cy="2865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95" name="TextBox 8"/>
            <p:cNvSpPr/>
            <p:nvPr/>
          </p:nvSpPr>
          <p:spPr>
            <a:xfrm>
              <a:off x="578880" y="2071800"/>
              <a:ext cx="143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600" spc="-1" strike="noStrike">
                  <a:solidFill>
                    <a:srgbClr val="000000"/>
                  </a:solidFill>
                  <a:latin typeface="Arial"/>
                </a:rPr>
                <a:t>normal sulc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1"/>
          <p:cNvGrpSpPr/>
          <p:nvPr/>
        </p:nvGrpSpPr>
        <p:grpSpPr>
          <a:xfrm>
            <a:off x="3080520" y="2071800"/>
            <a:ext cx="1658880" cy="643320"/>
            <a:chOff x="3080520" y="2071800"/>
            <a:chExt cx="1658880" cy="643320"/>
          </a:xfrm>
        </p:grpSpPr>
        <p:cxnSp>
          <p:nvCxnSpPr>
            <p:cNvPr id="97" name="Straight Arrow Connector 7"/>
            <p:cNvCxnSpPr/>
            <p:nvPr/>
          </p:nvCxnSpPr>
          <p:spPr>
            <a:xfrm flipH="1">
              <a:off x="3857040" y="2357640"/>
              <a:ext cx="2160" cy="35784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98" name="TextBox 9"/>
            <p:cNvSpPr/>
            <p:nvPr/>
          </p:nvSpPr>
          <p:spPr>
            <a:xfrm>
              <a:off x="3080520" y="2071800"/>
              <a:ext cx="165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600" spc="-1" strike="noStrike">
                  <a:solidFill>
                    <a:srgbClr val="000000"/>
                  </a:solidFill>
                  <a:latin typeface="Arial"/>
                </a:rPr>
                <a:t>narrowed sulc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Box 12"/>
          <p:cNvSpPr/>
          <p:nvPr/>
        </p:nvSpPr>
        <p:spPr>
          <a:xfrm>
            <a:off x="4572000" y="4929120"/>
            <a:ext cx="1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430920" y="4929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"/>
          <p:cNvPicPr/>
          <p:nvPr/>
        </p:nvPicPr>
        <p:blipFill>
          <a:blip r:embed="rId2"/>
          <a:stretch/>
        </p:blipFill>
        <p:spPr>
          <a:xfrm>
            <a:off x="2556000" y="5013360"/>
            <a:ext cx="70308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4:37:42Z</dcterms:created>
  <dc:creator>New Win User</dc:creator>
  <dc:description/>
  <dc:language>en-US</dc:language>
  <cp:lastModifiedBy>Sam</cp:lastModifiedBy>
  <dcterms:modified xsi:type="dcterms:W3CDTF">2011-09-10T22:43:02Z</dcterms:modified>
  <cp:revision>123</cp:revision>
  <dc:subject/>
  <dc:title>Subdural haemorrhage</dc:title>
</cp:coreProperties>
</file>