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3DED-F446-4ECD-B4AC-D3902520CD6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F454-DF45-43AE-9E63-987E7F44E7EC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265B-E024-46F8-988C-F514935F8C4D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702-CEDC-4D76-8CE6-7D044230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FE6-657D-40B8-B7A2-B0D78201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A69-A7B4-492A-8B8E-D9786C9D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FFF-6250-4B33-A624-98773CDD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613-2211-40BF-84E3-C05D3DBD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D45-19A3-4679-A31D-723165C8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0EB-D38E-4F54-805F-3FAC1800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27B-0786-4263-94BD-3BBB891F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000-AB01-4D08-AB83-E548C0C9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A02-E996-46AE-A97A-CBD99A72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6B4-9092-4734-897E-D17D8CCF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1B8-A89F-49B5-B8A1-3C3D66A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4262-B9FA-4547-AC57-B94DE8B9F0A9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740720" y="6130800"/>
            <a:ext cx="11174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7192080" y="652464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Amoebi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igital Pathology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Case 9 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Ref.  XVII:iii:2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tretch/>
        </p:blipFill>
        <p:spPr>
          <a:xfrm>
            <a:off x="3718080" y="2133720"/>
            <a:ext cx="188568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1159920" y="50004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the cut surface of the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332000" y="1214280"/>
            <a:ext cx="6208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33520" y="351000"/>
            <a:ext cx="7710480" cy="6215040"/>
          </a:xfrm>
          <a:prstGeom prst="rect">
            <a:avLst/>
          </a:prstGeom>
          <a:ln w="0">
            <a:noFill/>
          </a:ln>
        </p:spPr>
      </p:pic>
      <p:sp>
        <p:nvSpPr>
          <p:cNvPr id="95" name="Content Placeholder 3"/>
          <p:cNvSpPr/>
          <p:nvPr/>
        </p:nvSpPr>
        <p:spPr>
          <a:xfrm>
            <a:off x="4500720" y="333360"/>
            <a:ext cx="3743280" cy="6213600"/>
          </a:xfrm>
          <a:prstGeom prst="rect">
            <a:avLst/>
          </a:prstGeom>
          <a:solidFill>
            <a:srgbClr val="dbee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are abscesses varying from 1 to 7cm in di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y have a shaggy fibrin l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t autopsy the abscesses were filled with a typical reddish- brown liquid “sau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5580000" y="5157720"/>
            <a:ext cx="352908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539640" y="210960"/>
            <a:ext cx="7981920" cy="6436080"/>
          </a:xfrm>
          <a:prstGeom prst="rect">
            <a:avLst/>
          </a:prstGeom>
          <a:ln w="0">
            <a:noFill/>
          </a:ln>
        </p:spPr>
      </p:pic>
      <p:sp>
        <p:nvSpPr>
          <p:cNvPr id="98" name="Content Placeholder 3"/>
          <p:cNvSpPr/>
          <p:nvPr/>
        </p:nvSpPr>
        <p:spPr>
          <a:xfrm>
            <a:off x="5724360" y="189000"/>
            <a:ext cx="2808360" cy="6408720"/>
          </a:xfrm>
          <a:prstGeom prst="rect">
            <a:avLst/>
          </a:prstGeom>
          <a:solidFill>
            <a:srgbClr val="dbeef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Venous thrombus and a large geographic venous infarct can also be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1763640" y="4076640"/>
            <a:ext cx="1793880" cy="1467000"/>
            <a:chOff x="1763640" y="4076640"/>
            <a:chExt cx="1793880" cy="1467000"/>
          </a:xfrm>
        </p:grpSpPr>
        <p:sp>
          <p:nvSpPr>
            <p:cNvPr id="100" name="Freeform 3"/>
            <p:cNvSpPr/>
            <p:nvPr/>
          </p:nvSpPr>
          <p:spPr>
            <a:xfrm>
              <a:off x="1763640" y="4076640"/>
              <a:ext cx="1630440" cy="544680"/>
            </a:xfrm>
            <a:custGeom>
              <a:avLst/>
              <a:gdLst/>
              <a:ahLst/>
              <a:rect l="l" t="t" r="r" b="b"/>
              <a:pathLst>
                <a:path w="1630218" h="544945">
                  <a:moveTo>
                    <a:pt x="2309" y="30018"/>
                  </a:moveTo>
                  <a:cubicBezTo>
                    <a:pt x="4618" y="0"/>
                    <a:pt x="113145" y="170872"/>
                    <a:pt x="293254" y="210127"/>
                  </a:cubicBezTo>
                  <a:cubicBezTo>
                    <a:pt x="473363" y="249382"/>
                    <a:pt x="888999" y="277091"/>
                    <a:pt x="1082963" y="265546"/>
                  </a:cubicBezTo>
                  <a:cubicBezTo>
                    <a:pt x="1276927" y="254001"/>
                    <a:pt x="1378527" y="166255"/>
                    <a:pt x="1457036" y="140855"/>
                  </a:cubicBezTo>
                  <a:cubicBezTo>
                    <a:pt x="1535545" y="115455"/>
                    <a:pt x="1526309" y="103910"/>
                    <a:pt x="1554018" y="113146"/>
                  </a:cubicBezTo>
                  <a:cubicBezTo>
                    <a:pt x="1581727" y="122382"/>
                    <a:pt x="1616364" y="154710"/>
                    <a:pt x="1623291" y="196273"/>
                  </a:cubicBezTo>
                  <a:cubicBezTo>
                    <a:pt x="1630218" y="237836"/>
                    <a:pt x="1618673" y="320963"/>
                    <a:pt x="1595582" y="362527"/>
                  </a:cubicBezTo>
                  <a:cubicBezTo>
                    <a:pt x="1572491" y="404091"/>
                    <a:pt x="1584036" y="415637"/>
                    <a:pt x="1484745" y="445655"/>
                  </a:cubicBezTo>
                  <a:cubicBezTo>
                    <a:pt x="1385454" y="475673"/>
                    <a:pt x="1101436" y="540327"/>
                    <a:pt x="999836" y="542636"/>
                  </a:cubicBezTo>
                  <a:cubicBezTo>
                    <a:pt x="898236" y="544945"/>
                    <a:pt x="937491" y="480291"/>
                    <a:pt x="875145" y="459509"/>
                  </a:cubicBezTo>
                  <a:cubicBezTo>
                    <a:pt x="812800" y="438727"/>
                    <a:pt x="725054" y="429491"/>
                    <a:pt x="625763" y="417946"/>
                  </a:cubicBezTo>
                  <a:cubicBezTo>
                    <a:pt x="526472" y="406401"/>
                    <a:pt x="381000" y="457200"/>
                    <a:pt x="279400" y="390236"/>
                  </a:cubicBezTo>
                  <a:cubicBezTo>
                    <a:pt x="177800" y="323272"/>
                    <a:pt x="0" y="60036"/>
                    <a:pt x="2309" y="30018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>
              <a:off x="3309840" y="4600440"/>
              <a:ext cx="247680" cy="943200"/>
            </a:xfrm>
            <a:custGeom>
              <a:avLst/>
              <a:gdLst/>
              <a:ahLst/>
              <a:rect l="l" t="t" r="r" b="b"/>
              <a:pathLst>
                <a:path w="247072" h="942109">
                  <a:moveTo>
                    <a:pt x="48491" y="32327"/>
                  </a:moveTo>
                  <a:cubicBezTo>
                    <a:pt x="73891" y="0"/>
                    <a:pt x="127000" y="62345"/>
                    <a:pt x="159327" y="170872"/>
                  </a:cubicBezTo>
                  <a:cubicBezTo>
                    <a:pt x="191654" y="279399"/>
                    <a:pt x="247072" y="558800"/>
                    <a:pt x="242454" y="683491"/>
                  </a:cubicBezTo>
                  <a:cubicBezTo>
                    <a:pt x="237836" y="808182"/>
                    <a:pt x="159327" y="895927"/>
                    <a:pt x="131618" y="919018"/>
                  </a:cubicBezTo>
                  <a:cubicBezTo>
                    <a:pt x="103909" y="942109"/>
                    <a:pt x="96982" y="914399"/>
                    <a:pt x="76200" y="822036"/>
                  </a:cubicBezTo>
                  <a:cubicBezTo>
                    <a:pt x="55418" y="729673"/>
                    <a:pt x="13854" y="503382"/>
                    <a:pt x="6927" y="364836"/>
                  </a:cubicBezTo>
                  <a:cubicBezTo>
                    <a:pt x="0" y="226291"/>
                    <a:pt x="23091" y="64654"/>
                    <a:pt x="48491" y="32327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7"/>
          <p:cNvSpPr/>
          <p:nvPr/>
        </p:nvSpPr>
        <p:spPr>
          <a:xfrm>
            <a:off x="684360" y="765000"/>
            <a:ext cx="5903640" cy="5759640"/>
          </a:xfrm>
          <a:custGeom>
            <a:avLst/>
            <a:gdLst/>
            <a:ahLst/>
            <a:rect l="l" t="t" r="r" b="b"/>
            <a:pathLst>
              <a:path w="6285346" h="6038273">
                <a:moveTo>
                  <a:pt x="247073" y="3147291"/>
                </a:moveTo>
                <a:cubicBezTo>
                  <a:pt x="233219" y="2983346"/>
                  <a:pt x="401783" y="2953328"/>
                  <a:pt x="441037" y="2911764"/>
                </a:cubicBezTo>
                <a:cubicBezTo>
                  <a:pt x="480291" y="2870200"/>
                  <a:pt x="441037" y="2932545"/>
                  <a:pt x="482600" y="2897909"/>
                </a:cubicBezTo>
                <a:cubicBezTo>
                  <a:pt x="524164" y="2863273"/>
                  <a:pt x="660400" y="2814782"/>
                  <a:pt x="690418" y="2703946"/>
                </a:cubicBezTo>
                <a:cubicBezTo>
                  <a:pt x="720436" y="2593110"/>
                  <a:pt x="660400" y="2348346"/>
                  <a:pt x="662709" y="2232891"/>
                </a:cubicBezTo>
                <a:cubicBezTo>
                  <a:pt x="665018" y="2117436"/>
                  <a:pt x="681182" y="2103582"/>
                  <a:pt x="704273" y="2011218"/>
                </a:cubicBezTo>
                <a:cubicBezTo>
                  <a:pt x="727364" y="1918854"/>
                  <a:pt x="833582" y="1708727"/>
                  <a:pt x="801255" y="1678709"/>
                </a:cubicBezTo>
                <a:cubicBezTo>
                  <a:pt x="768928" y="1648691"/>
                  <a:pt x="598054" y="1773382"/>
                  <a:pt x="510309" y="1831109"/>
                </a:cubicBezTo>
                <a:cubicBezTo>
                  <a:pt x="422564" y="1888836"/>
                  <a:pt x="350982" y="2015837"/>
                  <a:pt x="274782" y="2025073"/>
                </a:cubicBezTo>
                <a:cubicBezTo>
                  <a:pt x="198582" y="2034309"/>
                  <a:pt x="83127" y="2062019"/>
                  <a:pt x="53109" y="1886528"/>
                </a:cubicBezTo>
                <a:cubicBezTo>
                  <a:pt x="23091" y="1711037"/>
                  <a:pt x="0" y="1101437"/>
                  <a:pt x="94673" y="972128"/>
                </a:cubicBezTo>
                <a:cubicBezTo>
                  <a:pt x="189346" y="842819"/>
                  <a:pt x="496455" y="1166091"/>
                  <a:pt x="621146" y="1110673"/>
                </a:cubicBezTo>
                <a:cubicBezTo>
                  <a:pt x="745837" y="1055255"/>
                  <a:pt x="792018" y="697345"/>
                  <a:pt x="842818" y="639618"/>
                </a:cubicBezTo>
                <a:cubicBezTo>
                  <a:pt x="893618" y="581891"/>
                  <a:pt x="870528" y="810491"/>
                  <a:pt x="925946" y="764309"/>
                </a:cubicBezTo>
                <a:cubicBezTo>
                  <a:pt x="981364" y="718127"/>
                  <a:pt x="1099128" y="482601"/>
                  <a:pt x="1175328" y="362528"/>
                </a:cubicBezTo>
                <a:cubicBezTo>
                  <a:pt x="1251528" y="242455"/>
                  <a:pt x="1300019" y="87746"/>
                  <a:pt x="1383146" y="43873"/>
                </a:cubicBezTo>
                <a:cubicBezTo>
                  <a:pt x="1466273" y="0"/>
                  <a:pt x="1584037" y="60037"/>
                  <a:pt x="1674091" y="99291"/>
                </a:cubicBezTo>
                <a:cubicBezTo>
                  <a:pt x="1764145" y="138545"/>
                  <a:pt x="1840346" y="173182"/>
                  <a:pt x="1923473" y="279400"/>
                </a:cubicBezTo>
                <a:cubicBezTo>
                  <a:pt x="2006600" y="385618"/>
                  <a:pt x="2096655" y="648855"/>
                  <a:pt x="2172855" y="736600"/>
                </a:cubicBezTo>
                <a:cubicBezTo>
                  <a:pt x="2249055" y="824345"/>
                  <a:pt x="2316019" y="782782"/>
                  <a:pt x="2380673" y="805873"/>
                </a:cubicBezTo>
                <a:cubicBezTo>
                  <a:pt x="2445327" y="828964"/>
                  <a:pt x="2551546" y="798946"/>
                  <a:pt x="2560782" y="875146"/>
                </a:cubicBezTo>
                <a:cubicBezTo>
                  <a:pt x="2570018" y="951346"/>
                  <a:pt x="2440709" y="1129146"/>
                  <a:pt x="2436091" y="1263073"/>
                </a:cubicBezTo>
                <a:cubicBezTo>
                  <a:pt x="2431473" y="1397000"/>
                  <a:pt x="2493819" y="1544782"/>
                  <a:pt x="2533073" y="1678709"/>
                </a:cubicBezTo>
                <a:cubicBezTo>
                  <a:pt x="2572327" y="1812636"/>
                  <a:pt x="2639291" y="1967346"/>
                  <a:pt x="2671618" y="2066637"/>
                </a:cubicBezTo>
                <a:cubicBezTo>
                  <a:pt x="2703945" y="2165928"/>
                  <a:pt x="2699328" y="2177473"/>
                  <a:pt x="2727037" y="2274455"/>
                </a:cubicBezTo>
                <a:cubicBezTo>
                  <a:pt x="2754746" y="2371437"/>
                  <a:pt x="2789382" y="2528455"/>
                  <a:pt x="2837873" y="2648528"/>
                </a:cubicBezTo>
                <a:cubicBezTo>
                  <a:pt x="2886364" y="2768601"/>
                  <a:pt x="2969491" y="2858655"/>
                  <a:pt x="3017982" y="2994891"/>
                </a:cubicBezTo>
                <a:cubicBezTo>
                  <a:pt x="3066473" y="3131127"/>
                  <a:pt x="3075709" y="3385128"/>
                  <a:pt x="3128818" y="3465946"/>
                </a:cubicBezTo>
                <a:cubicBezTo>
                  <a:pt x="3181927" y="3546764"/>
                  <a:pt x="3207328" y="3465946"/>
                  <a:pt x="3336637" y="3479800"/>
                </a:cubicBezTo>
                <a:cubicBezTo>
                  <a:pt x="3465946" y="3493655"/>
                  <a:pt x="3752273" y="3569855"/>
                  <a:pt x="3904673" y="3549073"/>
                </a:cubicBezTo>
                <a:cubicBezTo>
                  <a:pt x="4057073" y="3528291"/>
                  <a:pt x="4151746" y="3447473"/>
                  <a:pt x="4251037" y="3355109"/>
                </a:cubicBezTo>
                <a:cubicBezTo>
                  <a:pt x="4350328" y="3262745"/>
                  <a:pt x="4426527" y="3108036"/>
                  <a:pt x="4500418" y="2994891"/>
                </a:cubicBezTo>
                <a:cubicBezTo>
                  <a:pt x="4574309" y="2881746"/>
                  <a:pt x="4629727" y="2743201"/>
                  <a:pt x="4694382" y="2676237"/>
                </a:cubicBezTo>
                <a:cubicBezTo>
                  <a:pt x="4759037" y="2609273"/>
                  <a:pt x="4837546" y="2526145"/>
                  <a:pt x="4888346" y="2593109"/>
                </a:cubicBezTo>
                <a:cubicBezTo>
                  <a:pt x="4939146" y="2660073"/>
                  <a:pt x="4918364" y="2934854"/>
                  <a:pt x="4999182" y="3078018"/>
                </a:cubicBezTo>
                <a:cubicBezTo>
                  <a:pt x="5080000" y="3221182"/>
                  <a:pt x="5193146" y="3188855"/>
                  <a:pt x="5373255" y="3452091"/>
                </a:cubicBezTo>
                <a:cubicBezTo>
                  <a:pt x="5553364" y="3715328"/>
                  <a:pt x="5943601" y="4408055"/>
                  <a:pt x="6079837" y="4657437"/>
                </a:cubicBezTo>
                <a:cubicBezTo>
                  <a:pt x="6216073" y="4906819"/>
                  <a:pt x="6285346" y="4828309"/>
                  <a:pt x="6190673" y="4948382"/>
                </a:cubicBezTo>
                <a:cubicBezTo>
                  <a:pt x="6096000" y="5068455"/>
                  <a:pt x="5717309" y="5264728"/>
                  <a:pt x="5511800" y="5377873"/>
                </a:cubicBezTo>
                <a:cubicBezTo>
                  <a:pt x="5306291" y="5491018"/>
                  <a:pt x="5209309" y="5551055"/>
                  <a:pt x="4957618" y="5627255"/>
                </a:cubicBezTo>
                <a:cubicBezTo>
                  <a:pt x="4705927" y="5703455"/>
                  <a:pt x="4278746" y="5768109"/>
                  <a:pt x="4001655" y="5835073"/>
                </a:cubicBezTo>
                <a:cubicBezTo>
                  <a:pt x="3724564" y="5902037"/>
                  <a:pt x="3528291" y="6019801"/>
                  <a:pt x="3295073" y="6029037"/>
                </a:cubicBezTo>
                <a:cubicBezTo>
                  <a:pt x="3061855" y="6038273"/>
                  <a:pt x="2844801" y="5973618"/>
                  <a:pt x="2602346" y="5890491"/>
                </a:cubicBezTo>
                <a:cubicBezTo>
                  <a:pt x="2359892" y="5807364"/>
                  <a:pt x="2048164" y="5624946"/>
                  <a:pt x="1840346" y="5530273"/>
                </a:cubicBezTo>
                <a:cubicBezTo>
                  <a:pt x="1632528" y="5435600"/>
                  <a:pt x="1498601" y="5419437"/>
                  <a:pt x="1355437" y="5322455"/>
                </a:cubicBezTo>
                <a:cubicBezTo>
                  <a:pt x="1212273" y="5225473"/>
                  <a:pt x="1073728" y="5110018"/>
                  <a:pt x="981364" y="4948382"/>
                </a:cubicBezTo>
                <a:cubicBezTo>
                  <a:pt x="889000" y="4786746"/>
                  <a:pt x="877455" y="4528128"/>
                  <a:pt x="801255" y="4352637"/>
                </a:cubicBezTo>
                <a:cubicBezTo>
                  <a:pt x="725055" y="4177146"/>
                  <a:pt x="616528" y="4098637"/>
                  <a:pt x="524164" y="3895437"/>
                </a:cubicBezTo>
                <a:cubicBezTo>
                  <a:pt x="431800" y="3692237"/>
                  <a:pt x="260928" y="3311237"/>
                  <a:pt x="247073" y="3147291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On microscopy, the stool contained </a:t>
            </a:r>
            <a:r>
              <a:rPr b="1" lang="en-ZA" sz="2200" spc="-1" strike="noStrike">
                <a:solidFill>
                  <a:srgbClr val="000000"/>
                </a:solidFill>
                <a:latin typeface="Calibri"/>
              </a:rPr>
              <a:t>blood, mucus and pus cell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There were also ova of </a:t>
            </a:r>
            <a:r>
              <a:rPr b="0" i="1" lang="en-ZA" sz="2000" spc="-1" strike="noStrike">
                <a:solidFill>
                  <a:srgbClr val="000000"/>
                </a:solidFill>
                <a:latin typeface="Calibri"/>
              </a:rPr>
              <a:t>Ascaris lumbricoides 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ZA" sz="2000" spc="-1" strike="noStrike">
                <a:solidFill>
                  <a:srgbClr val="000000"/>
                </a:solidFill>
                <a:latin typeface="Calibri"/>
              </a:rPr>
              <a:t>Trichuris trichuria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0" i="1" lang="en-ZA" sz="2000" spc="-1" strike="noStrike">
                <a:solidFill>
                  <a:srgbClr val="000000"/>
                </a:solidFill>
                <a:latin typeface="Calibri"/>
              </a:rPr>
              <a:t>Entamoeba histolytica </a:t>
            </a: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trophozoites or cysts were se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Examination of repeated fresh, warm stool samples (x 3) improves the detection rate of active amoeba trophozoites by microscop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http://www.dpd.cdc.gov/dpdx/HTML/ImageLibrary/Amebiasis_il.htm        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If ingested red blood cells are seen within the trophozoite  the organism is most likely </a:t>
            </a:r>
            <a:r>
              <a:rPr b="0" i="1" lang="en-ZA" sz="2200" spc="-1" strike="noStrike">
                <a:solidFill>
                  <a:srgbClr val="000000"/>
                </a:solidFill>
                <a:latin typeface="Calibri"/>
              </a:rPr>
              <a:t>E. histolytica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 rather than one of the non-pathogenic amoeba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200" spc="-1" strike="noStrike">
                <a:solidFill>
                  <a:srgbClr val="000000"/>
                </a:solidFill>
                <a:latin typeface="Calibri"/>
              </a:rPr>
              <a:t>E. histolytica</a:t>
            </a: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 can also be diagnosed by specific antigen or serum antibody tes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The treatment is metronidaz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Drainage of liver abscesses is seldom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189000" y="189000"/>
            <a:ext cx="884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63600" y="558720"/>
            <a:ext cx="849780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 selection of cases from the Digital Pathology Collection by the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partment of Clinical Laboratory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iversity of Cap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s licensed und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reative Commons Attribution-NonCommercial-ShareAlike 2.5 South Africa Lic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ull Digital Pathology Collection is accessible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www.digitalpathology.uct.ac.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f you would like to use an image or other item from our site that is not labelled with the Creative Commons Licence Logo, please contact the curator for permi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529080" y="804960"/>
            <a:ext cx="19414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Clinic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e patient was a 46 year old black man from a Cape Town town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He gave a history of severe diarrhoea and weak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On examination he was dehydrated and shock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He died soon after ad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500800" y="928440"/>
            <a:ext cx="3186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specimen is the caecum and ascending colon, the commonest site for amoebi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re are multiple mucosal ulcers – these have the classical appearance of amoebic coliti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4425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4" descr="1xvii_ii_24sm.jpg"/>
          <p:cNvPicPr/>
          <p:nvPr/>
        </p:nvPicPr>
        <p:blipFill>
          <a:blip r:embed="rId1"/>
          <a:srcRect l="0" t="48531" r="0" b="6534"/>
          <a:stretch/>
        </p:blipFill>
        <p:spPr>
          <a:xfrm>
            <a:off x="324000" y="1197000"/>
            <a:ext cx="8547120" cy="42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5_by-nc-sa.png"/>
          <p:cNvPicPr/>
          <p:nvPr/>
        </p:nvPicPr>
        <p:blipFill>
          <a:blip r:embed="rId2"/>
          <a:stretch/>
        </p:blipFill>
        <p:spPr>
          <a:xfrm>
            <a:off x="7643880" y="5014800"/>
            <a:ext cx="1227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4"/>
          <p:cNvGrpSpPr/>
          <p:nvPr/>
        </p:nvGrpSpPr>
        <p:grpSpPr>
          <a:xfrm>
            <a:off x="4429080" y="2500200"/>
            <a:ext cx="3929040" cy="3500640"/>
            <a:chOff x="4429080" y="2500200"/>
            <a:chExt cx="3929040" cy="3500640"/>
          </a:xfrm>
        </p:grpSpPr>
        <p:sp>
          <p:nvSpPr>
            <p:cNvPr id="60" name="Rectangle 14"/>
            <p:cNvSpPr/>
            <p:nvPr/>
          </p:nvSpPr>
          <p:spPr>
            <a:xfrm>
              <a:off x="4429080" y="2500200"/>
              <a:ext cx="3929040" cy="3500640"/>
            </a:xfrm>
            <a:prstGeom prst="rect">
              <a:avLst/>
            </a:prstGeom>
            <a:solidFill>
              <a:srgbClr val="d99694"/>
            </a:solidFill>
            <a:ln w="255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3"/>
            <p:cNvSpPr/>
            <p:nvPr/>
          </p:nvSpPr>
          <p:spPr>
            <a:xfrm>
              <a:off x="6297840" y="2642760"/>
              <a:ext cx="18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Calibri"/>
                </a:rPr>
                <a:t>An ulcer in pro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500360" y="2500200"/>
              <a:ext cx="3699000" cy="3057840"/>
            </a:xfrm>
            <a:custGeom>
              <a:avLst/>
              <a:gdLst/>
              <a:ahLst/>
              <a:rect l="l" t="t" r="r" b="b"/>
              <a:pathLst>
                <a:path w="3698543" h="3057098">
                  <a:moveTo>
                    <a:pt x="777922" y="0"/>
                  </a:moveTo>
                  <a:lnTo>
                    <a:pt x="832513" y="81886"/>
                  </a:lnTo>
                  <a:lnTo>
                    <a:pt x="859809" y="122830"/>
                  </a:lnTo>
                  <a:cubicBezTo>
                    <a:pt x="892536" y="221017"/>
                    <a:pt x="852822" y="98380"/>
                    <a:pt x="887104" y="218364"/>
                  </a:cubicBezTo>
                  <a:cubicBezTo>
                    <a:pt x="891056" y="232196"/>
                    <a:pt x="896203" y="245659"/>
                    <a:pt x="900752" y="259307"/>
                  </a:cubicBezTo>
                  <a:cubicBezTo>
                    <a:pt x="905391" y="379921"/>
                    <a:pt x="912151" y="656851"/>
                    <a:pt x="928047" y="805218"/>
                  </a:cubicBezTo>
                  <a:cubicBezTo>
                    <a:pt x="937409" y="892595"/>
                    <a:pt x="954163" y="989208"/>
                    <a:pt x="968991" y="1078173"/>
                  </a:cubicBezTo>
                  <a:cubicBezTo>
                    <a:pt x="959892" y="1228298"/>
                    <a:pt x="1025122" y="1403407"/>
                    <a:pt x="941695" y="1528549"/>
                  </a:cubicBezTo>
                  <a:cubicBezTo>
                    <a:pt x="844168" y="1674842"/>
                    <a:pt x="996044" y="1452823"/>
                    <a:pt x="873456" y="1610436"/>
                  </a:cubicBezTo>
                  <a:cubicBezTo>
                    <a:pt x="853316" y="1636331"/>
                    <a:pt x="837062" y="1665027"/>
                    <a:pt x="818865" y="1692322"/>
                  </a:cubicBezTo>
                  <a:lnTo>
                    <a:pt x="736979" y="1815152"/>
                  </a:lnTo>
                  <a:cubicBezTo>
                    <a:pt x="727880" y="1828800"/>
                    <a:pt x="723331" y="1846996"/>
                    <a:pt x="709683" y="1856095"/>
                  </a:cubicBezTo>
                  <a:cubicBezTo>
                    <a:pt x="656770" y="1891371"/>
                    <a:pt x="684301" y="1878204"/>
                    <a:pt x="627797" y="1897039"/>
                  </a:cubicBezTo>
                  <a:cubicBezTo>
                    <a:pt x="614149" y="1910687"/>
                    <a:pt x="605300" y="1932306"/>
                    <a:pt x="586853" y="1937982"/>
                  </a:cubicBezTo>
                  <a:cubicBezTo>
                    <a:pt x="543156" y="1951427"/>
                    <a:pt x="495636" y="1945164"/>
                    <a:pt x="450376" y="1951630"/>
                  </a:cubicBezTo>
                  <a:cubicBezTo>
                    <a:pt x="420382" y="1955915"/>
                    <a:pt x="384010" y="1969202"/>
                    <a:pt x="354841" y="1978925"/>
                  </a:cubicBezTo>
                  <a:cubicBezTo>
                    <a:pt x="208518" y="2076476"/>
                    <a:pt x="430600" y="1924552"/>
                    <a:pt x="272955" y="2047164"/>
                  </a:cubicBezTo>
                  <a:cubicBezTo>
                    <a:pt x="247060" y="2067304"/>
                    <a:pt x="191068" y="2101755"/>
                    <a:pt x="191068" y="2101755"/>
                  </a:cubicBezTo>
                  <a:cubicBezTo>
                    <a:pt x="164500" y="2181462"/>
                    <a:pt x="198209" y="2108262"/>
                    <a:pt x="136477" y="2169994"/>
                  </a:cubicBezTo>
                  <a:cubicBezTo>
                    <a:pt x="21437" y="2285034"/>
                    <a:pt x="184328" y="2140887"/>
                    <a:pt x="95534" y="2251880"/>
                  </a:cubicBezTo>
                  <a:cubicBezTo>
                    <a:pt x="85287" y="2264688"/>
                    <a:pt x="68239" y="2270077"/>
                    <a:pt x="54591" y="2279176"/>
                  </a:cubicBezTo>
                  <a:lnTo>
                    <a:pt x="27295" y="2361063"/>
                  </a:lnTo>
                  <a:cubicBezTo>
                    <a:pt x="22746" y="2374711"/>
                    <a:pt x="17136" y="2388050"/>
                    <a:pt x="13647" y="2402006"/>
                  </a:cubicBezTo>
                  <a:lnTo>
                    <a:pt x="0" y="2456597"/>
                  </a:lnTo>
                  <a:cubicBezTo>
                    <a:pt x="4549" y="2506639"/>
                    <a:pt x="3119" y="2557589"/>
                    <a:pt x="13647" y="2606722"/>
                  </a:cubicBezTo>
                  <a:cubicBezTo>
                    <a:pt x="17084" y="2622760"/>
                    <a:pt x="28599" y="2636864"/>
                    <a:pt x="40943" y="2647665"/>
                  </a:cubicBezTo>
                  <a:cubicBezTo>
                    <a:pt x="98704" y="2698205"/>
                    <a:pt x="107537" y="2697159"/>
                    <a:pt x="163773" y="2715904"/>
                  </a:cubicBezTo>
                  <a:cubicBezTo>
                    <a:pt x="241388" y="2793521"/>
                    <a:pt x="166654" y="2730993"/>
                    <a:pt x="245659" y="2770495"/>
                  </a:cubicBezTo>
                  <a:cubicBezTo>
                    <a:pt x="351493" y="2823411"/>
                    <a:pt x="224629" y="2777132"/>
                    <a:pt x="327546" y="2811439"/>
                  </a:cubicBezTo>
                  <a:cubicBezTo>
                    <a:pt x="341194" y="2825087"/>
                    <a:pt x="351617" y="2843009"/>
                    <a:pt x="368489" y="2852382"/>
                  </a:cubicBezTo>
                  <a:cubicBezTo>
                    <a:pt x="393640" y="2866355"/>
                    <a:pt x="450376" y="2879677"/>
                    <a:pt x="450376" y="2879677"/>
                  </a:cubicBezTo>
                  <a:cubicBezTo>
                    <a:pt x="544232" y="2942248"/>
                    <a:pt x="501140" y="2923894"/>
                    <a:pt x="573206" y="2947916"/>
                  </a:cubicBezTo>
                  <a:cubicBezTo>
                    <a:pt x="645493" y="2996109"/>
                    <a:pt x="588931" y="2966906"/>
                    <a:pt x="709683" y="2988860"/>
                  </a:cubicBezTo>
                  <a:cubicBezTo>
                    <a:pt x="803288" y="3005879"/>
                    <a:pt x="727261" y="2996665"/>
                    <a:pt x="805218" y="3016155"/>
                  </a:cubicBezTo>
                  <a:cubicBezTo>
                    <a:pt x="827722" y="3021781"/>
                    <a:pt x="850812" y="3024771"/>
                    <a:pt x="873456" y="3029803"/>
                  </a:cubicBezTo>
                  <a:cubicBezTo>
                    <a:pt x="924863" y="3041227"/>
                    <a:pt x="923399" y="3041902"/>
                    <a:pt x="968991" y="3057098"/>
                  </a:cubicBezTo>
                  <a:lnTo>
                    <a:pt x="2279176" y="3043451"/>
                  </a:lnTo>
                  <a:lnTo>
                    <a:pt x="3193576" y="3029803"/>
                  </a:lnTo>
                  <a:cubicBezTo>
                    <a:pt x="3207956" y="3029392"/>
                    <a:pt x="3220687" y="3020107"/>
                    <a:pt x="3234519" y="3016155"/>
                  </a:cubicBezTo>
                  <a:cubicBezTo>
                    <a:pt x="3252554" y="3011002"/>
                    <a:pt x="3271075" y="3007660"/>
                    <a:pt x="3289110" y="3002507"/>
                  </a:cubicBezTo>
                  <a:cubicBezTo>
                    <a:pt x="3302942" y="2998555"/>
                    <a:pt x="3316221" y="2992812"/>
                    <a:pt x="3330053" y="2988860"/>
                  </a:cubicBezTo>
                  <a:cubicBezTo>
                    <a:pt x="3449994" y="2954592"/>
                    <a:pt x="3327432" y="2994283"/>
                    <a:pt x="3425588" y="2961564"/>
                  </a:cubicBezTo>
                  <a:cubicBezTo>
                    <a:pt x="3500650" y="2911521"/>
                    <a:pt x="3436961" y="2961564"/>
                    <a:pt x="3493827" y="2893325"/>
                  </a:cubicBezTo>
                  <a:cubicBezTo>
                    <a:pt x="3506183" y="2878498"/>
                    <a:pt x="3522921" y="2867617"/>
                    <a:pt x="3534770" y="2852382"/>
                  </a:cubicBezTo>
                  <a:cubicBezTo>
                    <a:pt x="3554910" y="2826487"/>
                    <a:pt x="3571164" y="2797791"/>
                    <a:pt x="3589361" y="2770495"/>
                  </a:cubicBezTo>
                  <a:cubicBezTo>
                    <a:pt x="3598459" y="2756847"/>
                    <a:pt x="3611469" y="2745113"/>
                    <a:pt x="3616656" y="2729552"/>
                  </a:cubicBezTo>
                  <a:lnTo>
                    <a:pt x="3643952" y="2647665"/>
                  </a:lnTo>
                  <a:lnTo>
                    <a:pt x="3684895" y="2524836"/>
                  </a:lnTo>
                  <a:lnTo>
                    <a:pt x="3698543" y="2483892"/>
                  </a:lnTo>
                  <a:cubicBezTo>
                    <a:pt x="3693994" y="2406555"/>
                    <a:pt x="3696387" y="2328494"/>
                    <a:pt x="3684895" y="2251880"/>
                  </a:cubicBezTo>
                  <a:cubicBezTo>
                    <a:pt x="3682462" y="2235659"/>
                    <a:pt x="3664935" y="2225608"/>
                    <a:pt x="3657600" y="2210937"/>
                  </a:cubicBezTo>
                  <a:cubicBezTo>
                    <a:pt x="3651166" y="2198070"/>
                    <a:pt x="3650938" y="2182570"/>
                    <a:pt x="3643952" y="2169994"/>
                  </a:cubicBezTo>
                  <a:cubicBezTo>
                    <a:pt x="3628020" y="2141317"/>
                    <a:pt x="3607558" y="2115403"/>
                    <a:pt x="3589361" y="2088107"/>
                  </a:cubicBezTo>
                  <a:cubicBezTo>
                    <a:pt x="3562523" y="2047850"/>
                    <a:pt x="3560526" y="2039058"/>
                    <a:pt x="3521122" y="2006221"/>
                  </a:cubicBezTo>
                  <a:cubicBezTo>
                    <a:pt x="3508521" y="1995720"/>
                    <a:pt x="3493827" y="1988024"/>
                    <a:pt x="3480179" y="1978925"/>
                  </a:cubicBezTo>
                  <a:cubicBezTo>
                    <a:pt x="3448334" y="1931159"/>
                    <a:pt x="3439234" y="1906137"/>
                    <a:pt x="3370997" y="1883391"/>
                  </a:cubicBezTo>
                  <a:lnTo>
                    <a:pt x="3289110" y="1856095"/>
                  </a:lnTo>
                  <a:lnTo>
                    <a:pt x="3248167" y="1842448"/>
                  </a:lnTo>
                  <a:cubicBezTo>
                    <a:pt x="3220871" y="1824251"/>
                    <a:pt x="3197402" y="1798231"/>
                    <a:pt x="3166280" y="1787857"/>
                  </a:cubicBezTo>
                  <a:lnTo>
                    <a:pt x="3084394" y="1760561"/>
                  </a:lnTo>
                  <a:cubicBezTo>
                    <a:pt x="3070746" y="1756012"/>
                    <a:pt x="3057407" y="1750402"/>
                    <a:pt x="3043450" y="1746913"/>
                  </a:cubicBezTo>
                  <a:lnTo>
                    <a:pt x="2988859" y="1733265"/>
                  </a:lnTo>
                  <a:cubicBezTo>
                    <a:pt x="2923978" y="1690012"/>
                    <a:pt x="2963473" y="1711155"/>
                    <a:pt x="2866030" y="1678674"/>
                  </a:cubicBezTo>
                  <a:lnTo>
                    <a:pt x="2825086" y="1665027"/>
                  </a:lnTo>
                  <a:cubicBezTo>
                    <a:pt x="2811438" y="1660478"/>
                    <a:pt x="2798099" y="1654868"/>
                    <a:pt x="2784143" y="1651379"/>
                  </a:cubicBezTo>
                  <a:cubicBezTo>
                    <a:pt x="2765946" y="1646830"/>
                    <a:pt x="2747587" y="1642884"/>
                    <a:pt x="2729552" y="1637731"/>
                  </a:cubicBezTo>
                  <a:cubicBezTo>
                    <a:pt x="2715720" y="1633779"/>
                    <a:pt x="2702984" y="1624647"/>
                    <a:pt x="2688609" y="1624083"/>
                  </a:cubicBezTo>
                  <a:cubicBezTo>
                    <a:pt x="2470365" y="1615525"/>
                    <a:pt x="2251880" y="1614985"/>
                    <a:pt x="2033516" y="1610436"/>
                  </a:cubicBezTo>
                  <a:cubicBezTo>
                    <a:pt x="2011298" y="1606733"/>
                    <a:pt x="1939484" y="1599139"/>
                    <a:pt x="1910686" y="1583140"/>
                  </a:cubicBezTo>
                  <a:cubicBezTo>
                    <a:pt x="1769901" y="1504926"/>
                    <a:pt x="1880502" y="1545783"/>
                    <a:pt x="1787856" y="1514901"/>
                  </a:cubicBezTo>
                  <a:cubicBezTo>
                    <a:pt x="1778758" y="1501253"/>
                    <a:pt x="1773369" y="1484205"/>
                    <a:pt x="1760561" y="1473958"/>
                  </a:cubicBezTo>
                  <a:cubicBezTo>
                    <a:pt x="1749328" y="1464971"/>
                    <a:pt x="1732194" y="1467296"/>
                    <a:pt x="1719618" y="1460310"/>
                  </a:cubicBezTo>
                  <a:cubicBezTo>
                    <a:pt x="1690941" y="1444378"/>
                    <a:pt x="1665027" y="1423916"/>
                    <a:pt x="1637731" y="1405719"/>
                  </a:cubicBezTo>
                  <a:lnTo>
                    <a:pt x="1596788" y="1378424"/>
                  </a:lnTo>
                  <a:lnTo>
                    <a:pt x="1555844" y="1351128"/>
                  </a:lnTo>
                  <a:cubicBezTo>
                    <a:pt x="1507137" y="1278066"/>
                    <a:pt x="1540147" y="1321783"/>
                    <a:pt x="1446662" y="1228298"/>
                  </a:cubicBezTo>
                  <a:cubicBezTo>
                    <a:pt x="1416478" y="1198114"/>
                    <a:pt x="1397425" y="1184414"/>
                    <a:pt x="1378424" y="1146412"/>
                  </a:cubicBezTo>
                  <a:cubicBezTo>
                    <a:pt x="1371990" y="1133545"/>
                    <a:pt x="1369325" y="1119116"/>
                    <a:pt x="1364776" y="1105468"/>
                  </a:cubicBezTo>
                  <a:cubicBezTo>
                    <a:pt x="1369325" y="923498"/>
                    <a:pt x="1370342" y="741405"/>
                    <a:pt x="1378424" y="559558"/>
                  </a:cubicBezTo>
                  <a:cubicBezTo>
                    <a:pt x="1379454" y="536384"/>
                    <a:pt x="1389872" y="514411"/>
                    <a:pt x="1392071" y="491319"/>
                  </a:cubicBezTo>
                  <a:cubicBezTo>
                    <a:pt x="1398985" y="418717"/>
                    <a:pt x="1398084" y="345484"/>
                    <a:pt x="1405719" y="272955"/>
                  </a:cubicBezTo>
                  <a:cubicBezTo>
                    <a:pt x="1410293" y="229507"/>
                    <a:pt x="1427648" y="229096"/>
                    <a:pt x="1446662" y="191068"/>
                  </a:cubicBezTo>
                  <a:cubicBezTo>
                    <a:pt x="1463145" y="158102"/>
                    <a:pt x="1455012" y="135257"/>
                    <a:pt x="1487606" y="109182"/>
                  </a:cubicBezTo>
                  <a:cubicBezTo>
                    <a:pt x="1498840" y="100195"/>
                    <a:pt x="1514901" y="100083"/>
                    <a:pt x="1528549" y="95534"/>
                  </a:cubicBezTo>
                  <a:cubicBezTo>
                    <a:pt x="1537647" y="81886"/>
                    <a:pt x="1544246" y="66189"/>
                    <a:pt x="1555844" y="54591"/>
                  </a:cubicBezTo>
                  <a:cubicBezTo>
                    <a:pt x="1572314" y="38121"/>
                    <a:pt x="1602543" y="24418"/>
                    <a:pt x="1624083" y="13648"/>
                  </a:cubicBezTo>
                </a:path>
              </a:pathLst>
            </a:custGeom>
            <a:solidFill>
              <a:srgbClr val="c4bd97"/>
            </a:solidFill>
            <a:ln w="25560">
              <a:solidFill>
                <a:srgbClr val="948a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7"/>
          <p:cNvSpPr/>
          <p:nvPr/>
        </p:nvSpPr>
        <p:spPr>
          <a:xfrm>
            <a:off x="642960" y="1785960"/>
            <a:ext cx="3143160" cy="4286160"/>
          </a:xfrm>
          <a:prstGeom prst="rect">
            <a:avLst/>
          </a:prstGeom>
          <a:solidFill>
            <a:srgbClr val="ddd9c3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1122480" y="2549520"/>
            <a:ext cx="1593720" cy="1509840"/>
          </a:xfrm>
          <a:custGeom>
            <a:avLst/>
            <a:gdLst/>
            <a:ahLst/>
            <a:rect l="l" t="t" r="r" b="b"/>
            <a:pathLst>
              <a:path w="1593273" h="1510146">
                <a:moveTo>
                  <a:pt x="387927" y="138546"/>
                </a:moveTo>
                <a:cubicBezTo>
                  <a:pt x="357909" y="154710"/>
                  <a:pt x="273775" y="160233"/>
                  <a:pt x="263237" y="166255"/>
                </a:cubicBezTo>
                <a:cubicBezTo>
                  <a:pt x="224600" y="188333"/>
                  <a:pt x="220048" y="218081"/>
                  <a:pt x="193964" y="249382"/>
                </a:cubicBezTo>
                <a:cubicBezTo>
                  <a:pt x="181421" y="264434"/>
                  <a:pt x="164943" y="275894"/>
                  <a:pt x="152400" y="290946"/>
                </a:cubicBezTo>
                <a:cubicBezTo>
                  <a:pt x="131936" y="315502"/>
                  <a:pt x="108940" y="360026"/>
                  <a:pt x="96982" y="387928"/>
                </a:cubicBezTo>
                <a:cubicBezTo>
                  <a:pt x="91229" y="401351"/>
                  <a:pt x="88880" y="416068"/>
                  <a:pt x="83127" y="429491"/>
                </a:cubicBezTo>
                <a:cubicBezTo>
                  <a:pt x="21976" y="572175"/>
                  <a:pt x="90771" y="378848"/>
                  <a:pt x="27709" y="568037"/>
                </a:cubicBezTo>
                <a:lnTo>
                  <a:pt x="13855" y="609600"/>
                </a:lnTo>
                <a:cubicBezTo>
                  <a:pt x="9237" y="646546"/>
                  <a:pt x="0" y="683204"/>
                  <a:pt x="0" y="720437"/>
                </a:cubicBezTo>
                <a:cubicBezTo>
                  <a:pt x="0" y="855218"/>
                  <a:pt x="966" y="958862"/>
                  <a:pt x="41564" y="1080655"/>
                </a:cubicBezTo>
                <a:lnTo>
                  <a:pt x="69273" y="1163782"/>
                </a:lnTo>
                <a:cubicBezTo>
                  <a:pt x="82684" y="1204015"/>
                  <a:pt x="81534" y="1212723"/>
                  <a:pt x="110837" y="1246909"/>
                </a:cubicBezTo>
                <a:cubicBezTo>
                  <a:pt x="173846" y="1320419"/>
                  <a:pt x="153077" y="1285095"/>
                  <a:pt x="221673" y="1343891"/>
                </a:cubicBezTo>
                <a:cubicBezTo>
                  <a:pt x="236549" y="1356642"/>
                  <a:pt x="246934" y="1374587"/>
                  <a:pt x="263237" y="1385455"/>
                </a:cubicBezTo>
                <a:cubicBezTo>
                  <a:pt x="287018" y="1401309"/>
                  <a:pt x="375862" y="1410148"/>
                  <a:pt x="387927" y="1413164"/>
                </a:cubicBezTo>
                <a:cubicBezTo>
                  <a:pt x="416263" y="1420248"/>
                  <a:pt x="443346" y="1431636"/>
                  <a:pt x="471055" y="1440873"/>
                </a:cubicBezTo>
                <a:cubicBezTo>
                  <a:pt x="484909" y="1445491"/>
                  <a:pt x="498161" y="1452663"/>
                  <a:pt x="512618" y="1454728"/>
                </a:cubicBezTo>
                <a:lnTo>
                  <a:pt x="609600" y="1468582"/>
                </a:lnTo>
                <a:cubicBezTo>
                  <a:pt x="623455" y="1473200"/>
                  <a:pt x="636996" y="1478895"/>
                  <a:pt x="651164" y="1482437"/>
                </a:cubicBezTo>
                <a:cubicBezTo>
                  <a:pt x="674009" y="1488148"/>
                  <a:pt x="697449" y="1491183"/>
                  <a:pt x="720437" y="1496291"/>
                </a:cubicBezTo>
                <a:cubicBezTo>
                  <a:pt x="739025" y="1500422"/>
                  <a:pt x="757382" y="1505528"/>
                  <a:pt x="775855" y="1510146"/>
                </a:cubicBezTo>
                <a:cubicBezTo>
                  <a:pt x="900546" y="1505528"/>
                  <a:pt x="1025427" y="1504591"/>
                  <a:pt x="1149927" y="1496291"/>
                </a:cubicBezTo>
                <a:cubicBezTo>
                  <a:pt x="1187261" y="1493802"/>
                  <a:pt x="1261029" y="1440608"/>
                  <a:pt x="1274618" y="1427019"/>
                </a:cubicBezTo>
                <a:cubicBezTo>
                  <a:pt x="1297709" y="1403928"/>
                  <a:pt x="1314683" y="1372350"/>
                  <a:pt x="1343891" y="1357746"/>
                </a:cubicBezTo>
                <a:lnTo>
                  <a:pt x="1399309" y="1330037"/>
                </a:lnTo>
                <a:cubicBezTo>
                  <a:pt x="1408545" y="1316182"/>
                  <a:pt x="1419571" y="1303366"/>
                  <a:pt x="1427018" y="1288473"/>
                </a:cubicBezTo>
                <a:cubicBezTo>
                  <a:pt x="1454529" y="1233451"/>
                  <a:pt x="1423206" y="1256394"/>
                  <a:pt x="1468582" y="1205346"/>
                </a:cubicBezTo>
                <a:cubicBezTo>
                  <a:pt x="1494616" y="1176058"/>
                  <a:pt x="1551709" y="1122219"/>
                  <a:pt x="1551709" y="1122219"/>
                </a:cubicBezTo>
                <a:cubicBezTo>
                  <a:pt x="1585439" y="1021027"/>
                  <a:pt x="1572334" y="1067427"/>
                  <a:pt x="1593273" y="983673"/>
                </a:cubicBezTo>
                <a:cubicBezTo>
                  <a:pt x="1588655" y="928255"/>
                  <a:pt x="1584453" y="872801"/>
                  <a:pt x="1579418" y="817419"/>
                </a:cubicBezTo>
                <a:cubicBezTo>
                  <a:pt x="1573655" y="754024"/>
                  <a:pt x="1569373" y="674366"/>
                  <a:pt x="1551709" y="609600"/>
                </a:cubicBezTo>
                <a:cubicBezTo>
                  <a:pt x="1544024" y="581421"/>
                  <a:pt x="1540202" y="550775"/>
                  <a:pt x="1524000" y="526473"/>
                </a:cubicBezTo>
                <a:cubicBezTo>
                  <a:pt x="1505527" y="498764"/>
                  <a:pt x="1479113" y="474939"/>
                  <a:pt x="1468582" y="443346"/>
                </a:cubicBezTo>
                <a:lnTo>
                  <a:pt x="1440873" y="360219"/>
                </a:lnTo>
                <a:cubicBezTo>
                  <a:pt x="1436255" y="346364"/>
                  <a:pt x="1435119" y="330806"/>
                  <a:pt x="1427018" y="318655"/>
                </a:cubicBezTo>
                <a:lnTo>
                  <a:pt x="1399309" y="277091"/>
                </a:lnTo>
                <a:cubicBezTo>
                  <a:pt x="1390073" y="240146"/>
                  <a:pt x="1392724" y="197942"/>
                  <a:pt x="1371600" y="166255"/>
                </a:cubicBezTo>
                <a:cubicBezTo>
                  <a:pt x="1325419" y="96982"/>
                  <a:pt x="1357745" y="133927"/>
                  <a:pt x="1260764" y="69273"/>
                </a:cubicBezTo>
                <a:lnTo>
                  <a:pt x="1219200" y="41564"/>
                </a:lnTo>
                <a:cubicBezTo>
                  <a:pt x="1205346" y="32328"/>
                  <a:pt x="1193433" y="19121"/>
                  <a:pt x="1177637" y="13855"/>
                </a:cubicBezTo>
                <a:lnTo>
                  <a:pt x="1136073" y="0"/>
                </a:lnTo>
                <a:lnTo>
                  <a:pt x="498764" y="13855"/>
                </a:lnTo>
                <a:cubicBezTo>
                  <a:pt x="484172" y="14451"/>
                  <a:pt x="467527" y="17382"/>
                  <a:pt x="457200" y="27709"/>
                </a:cubicBezTo>
                <a:cubicBezTo>
                  <a:pt x="446873" y="38036"/>
                  <a:pt x="449877" y="56211"/>
                  <a:pt x="443346" y="69273"/>
                </a:cubicBezTo>
                <a:cubicBezTo>
                  <a:pt x="421055" y="113857"/>
                  <a:pt x="417945" y="122382"/>
                  <a:pt x="387927" y="138546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Calibri"/>
              </a:rPr>
              <a:t>Flask-shaped amoebic ulc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1617840" y="3114720"/>
            <a:ext cx="463320" cy="430200"/>
          </a:xfrm>
          <a:custGeom>
            <a:avLst/>
            <a:gdLst/>
            <a:ahLst/>
            <a:rect l="l" t="t" r="r" b="b"/>
            <a:pathLst>
              <a:path w="464173" h="430253">
                <a:moveTo>
                  <a:pt x="363895" y="2554"/>
                </a:moveTo>
                <a:cubicBezTo>
                  <a:pt x="320022" y="245"/>
                  <a:pt x="214416" y="0"/>
                  <a:pt x="142222" y="16408"/>
                </a:cubicBezTo>
                <a:cubicBezTo>
                  <a:pt x="109748" y="23788"/>
                  <a:pt x="59095" y="71826"/>
                  <a:pt x="59095" y="71826"/>
                </a:cubicBezTo>
                <a:cubicBezTo>
                  <a:pt x="49859" y="85681"/>
                  <a:pt x="38833" y="98497"/>
                  <a:pt x="31386" y="113390"/>
                </a:cubicBezTo>
                <a:cubicBezTo>
                  <a:pt x="0" y="176163"/>
                  <a:pt x="21100" y="235354"/>
                  <a:pt x="31386" y="307354"/>
                </a:cubicBezTo>
                <a:cubicBezTo>
                  <a:pt x="33451" y="321811"/>
                  <a:pt x="33356" y="340429"/>
                  <a:pt x="45240" y="348917"/>
                </a:cubicBezTo>
                <a:cubicBezTo>
                  <a:pt x="69008" y="365894"/>
                  <a:pt x="100659" y="367389"/>
                  <a:pt x="128368" y="376626"/>
                </a:cubicBezTo>
                <a:lnTo>
                  <a:pt x="169931" y="390481"/>
                </a:lnTo>
                <a:cubicBezTo>
                  <a:pt x="289695" y="383436"/>
                  <a:pt x="383562" y="430253"/>
                  <a:pt x="447022" y="335063"/>
                </a:cubicBezTo>
                <a:cubicBezTo>
                  <a:pt x="455123" y="322912"/>
                  <a:pt x="456259" y="307354"/>
                  <a:pt x="460877" y="293499"/>
                </a:cubicBezTo>
                <a:cubicBezTo>
                  <a:pt x="456259" y="210372"/>
                  <a:pt x="464173" y="125587"/>
                  <a:pt x="447022" y="44117"/>
                </a:cubicBezTo>
                <a:cubicBezTo>
                  <a:pt x="444013" y="29827"/>
                  <a:pt x="418521" y="36794"/>
                  <a:pt x="405459" y="30263"/>
                </a:cubicBezTo>
                <a:cubicBezTo>
                  <a:pt x="390566" y="22816"/>
                  <a:pt x="407768" y="4863"/>
                  <a:pt x="363895" y="2554"/>
                </a:cubicBezTo>
                <a:close/>
              </a:path>
            </a:pathLst>
          </a:custGeom>
          <a:solidFill>
            <a:srgbClr val="c4bd97"/>
          </a:solidFill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5"/>
          <p:cNvSpPr/>
          <p:nvPr/>
        </p:nvSpPr>
        <p:spPr>
          <a:xfrm>
            <a:off x="1743120" y="4226040"/>
            <a:ext cx="1623960" cy="1330200"/>
          </a:xfrm>
          <a:custGeom>
            <a:avLst/>
            <a:gdLst/>
            <a:ahLst/>
            <a:rect l="l" t="t" r="r" b="b"/>
            <a:pathLst>
              <a:path w="1624156" h="1330037">
                <a:moveTo>
                  <a:pt x="598919" y="180109"/>
                </a:moveTo>
                <a:cubicBezTo>
                  <a:pt x="489142" y="216703"/>
                  <a:pt x="544603" y="203017"/>
                  <a:pt x="432665" y="221673"/>
                </a:cubicBezTo>
                <a:cubicBezTo>
                  <a:pt x="398861" y="232941"/>
                  <a:pt x="376394" y="236380"/>
                  <a:pt x="349537" y="263237"/>
                </a:cubicBezTo>
                <a:cubicBezTo>
                  <a:pt x="337763" y="275011"/>
                  <a:pt x="333602" y="293026"/>
                  <a:pt x="321828" y="304800"/>
                </a:cubicBezTo>
                <a:cubicBezTo>
                  <a:pt x="310054" y="316574"/>
                  <a:pt x="292907" y="321673"/>
                  <a:pt x="280265" y="332509"/>
                </a:cubicBezTo>
                <a:cubicBezTo>
                  <a:pt x="260430" y="349511"/>
                  <a:pt x="246583" y="373437"/>
                  <a:pt x="224846" y="387928"/>
                </a:cubicBezTo>
                <a:cubicBezTo>
                  <a:pt x="197137" y="406401"/>
                  <a:pt x="165267" y="419798"/>
                  <a:pt x="141719" y="443346"/>
                </a:cubicBezTo>
                <a:cubicBezTo>
                  <a:pt x="60672" y="524393"/>
                  <a:pt x="90560" y="485448"/>
                  <a:pt x="44737" y="554182"/>
                </a:cubicBezTo>
                <a:cubicBezTo>
                  <a:pt x="0" y="688399"/>
                  <a:pt x="21322" y="607853"/>
                  <a:pt x="44737" y="900546"/>
                </a:cubicBezTo>
                <a:cubicBezTo>
                  <a:pt x="45902" y="915103"/>
                  <a:pt x="52061" y="929047"/>
                  <a:pt x="58592" y="942109"/>
                </a:cubicBezTo>
                <a:cubicBezTo>
                  <a:pt x="66039" y="957002"/>
                  <a:pt x="78854" y="968780"/>
                  <a:pt x="86301" y="983673"/>
                </a:cubicBezTo>
                <a:cubicBezTo>
                  <a:pt x="92832" y="996735"/>
                  <a:pt x="92055" y="1013086"/>
                  <a:pt x="100156" y="1025237"/>
                </a:cubicBezTo>
                <a:cubicBezTo>
                  <a:pt x="115477" y="1048219"/>
                  <a:pt x="157725" y="1081730"/>
                  <a:pt x="183283" y="1094509"/>
                </a:cubicBezTo>
                <a:cubicBezTo>
                  <a:pt x="196345" y="1101040"/>
                  <a:pt x="210992" y="1103746"/>
                  <a:pt x="224846" y="1108364"/>
                </a:cubicBezTo>
                <a:cubicBezTo>
                  <a:pt x="250618" y="1134135"/>
                  <a:pt x="259166" y="1146305"/>
                  <a:pt x="294119" y="1163782"/>
                </a:cubicBezTo>
                <a:cubicBezTo>
                  <a:pt x="307181" y="1170313"/>
                  <a:pt x="321828" y="1173019"/>
                  <a:pt x="335683" y="1177637"/>
                </a:cubicBezTo>
                <a:cubicBezTo>
                  <a:pt x="344919" y="1191491"/>
                  <a:pt x="351618" y="1207426"/>
                  <a:pt x="363392" y="1219200"/>
                </a:cubicBezTo>
                <a:cubicBezTo>
                  <a:pt x="397933" y="1253740"/>
                  <a:pt x="414951" y="1247137"/>
                  <a:pt x="460374" y="1260764"/>
                </a:cubicBezTo>
                <a:cubicBezTo>
                  <a:pt x="488350" y="1269157"/>
                  <a:pt x="514860" y="1282745"/>
                  <a:pt x="543501" y="1288473"/>
                </a:cubicBezTo>
                <a:cubicBezTo>
                  <a:pt x="591105" y="1297994"/>
                  <a:pt x="622548" y="1303141"/>
                  <a:pt x="668192" y="1316182"/>
                </a:cubicBezTo>
                <a:cubicBezTo>
                  <a:pt x="682234" y="1320194"/>
                  <a:pt x="695901" y="1325419"/>
                  <a:pt x="709756" y="1330037"/>
                </a:cubicBezTo>
                <a:cubicBezTo>
                  <a:pt x="774410" y="1325419"/>
                  <a:pt x="839344" y="1323756"/>
                  <a:pt x="903719" y="1316182"/>
                </a:cubicBezTo>
                <a:cubicBezTo>
                  <a:pt x="925378" y="1313634"/>
                  <a:pt x="988079" y="1283634"/>
                  <a:pt x="1000701" y="1274619"/>
                </a:cubicBezTo>
                <a:cubicBezTo>
                  <a:pt x="1016645" y="1263231"/>
                  <a:pt x="1025253" y="1242776"/>
                  <a:pt x="1042265" y="1233055"/>
                </a:cubicBezTo>
                <a:cubicBezTo>
                  <a:pt x="1058797" y="1223608"/>
                  <a:pt x="1079210" y="1223818"/>
                  <a:pt x="1097683" y="1219200"/>
                </a:cubicBezTo>
                <a:cubicBezTo>
                  <a:pt x="1111537" y="1205346"/>
                  <a:pt x="1123302" y="1189025"/>
                  <a:pt x="1139246" y="1177637"/>
                </a:cubicBezTo>
                <a:cubicBezTo>
                  <a:pt x="1169204" y="1156239"/>
                  <a:pt x="1202311" y="1147379"/>
                  <a:pt x="1236228" y="1136073"/>
                </a:cubicBezTo>
                <a:cubicBezTo>
                  <a:pt x="1254701" y="1122218"/>
                  <a:pt x="1272065" y="1106747"/>
                  <a:pt x="1291646" y="1094509"/>
                </a:cubicBezTo>
                <a:cubicBezTo>
                  <a:pt x="1330777" y="1070052"/>
                  <a:pt x="1348225" y="1066413"/>
                  <a:pt x="1388628" y="1052946"/>
                </a:cubicBezTo>
                <a:cubicBezTo>
                  <a:pt x="1402483" y="1043710"/>
                  <a:pt x="1417400" y="1035897"/>
                  <a:pt x="1430192" y="1025237"/>
                </a:cubicBezTo>
                <a:cubicBezTo>
                  <a:pt x="1445244" y="1012694"/>
                  <a:pt x="1455812" y="995061"/>
                  <a:pt x="1471756" y="983673"/>
                </a:cubicBezTo>
                <a:cubicBezTo>
                  <a:pt x="1488562" y="971669"/>
                  <a:pt x="1508701" y="965200"/>
                  <a:pt x="1527174" y="955964"/>
                </a:cubicBezTo>
                <a:cubicBezTo>
                  <a:pt x="1531792" y="942109"/>
                  <a:pt x="1534497" y="927462"/>
                  <a:pt x="1541028" y="914400"/>
                </a:cubicBezTo>
                <a:cubicBezTo>
                  <a:pt x="1548474" y="899507"/>
                  <a:pt x="1562890" y="888428"/>
                  <a:pt x="1568737" y="872837"/>
                </a:cubicBezTo>
                <a:cubicBezTo>
                  <a:pt x="1577005" y="850788"/>
                  <a:pt x="1576396" y="826283"/>
                  <a:pt x="1582592" y="803564"/>
                </a:cubicBezTo>
                <a:cubicBezTo>
                  <a:pt x="1590277" y="775385"/>
                  <a:pt x="1601065" y="748146"/>
                  <a:pt x="1610301" y="720437"/>
                </a:cubicBezTo>
                <a:lnTo>
                  <a:pt x="1624156" y="678873"/>
                </a:lnTo>
                <a:cubicBezTo>
                  <a:pt x="1619538" y="609600"/>
                  <a:pt x="1620119" y="539784"/>
                  <a:pt x="1610301" y="471055"/>
                </a:cubicBezTo>
                <a:cubicBezTo>
                  <a:pt x="1610300" y="471048"/>
                  <a:pt x="1575665" y="367149"/>
                  <a:pt x="1568737" y="346364"/>
                </a:cubicBezTo>
                <a:lnTo>
                  <a:pt x="1541028" y="263237"/>
                </a:lnTo>
                <a:cubicBezTo>
                  <a:pt x="1536410" y="249382"/>
                  <a:pt x="1535275" y="233824"/>
                  <a:pt x="1527174" y="221673"/>
                </a:cubicBezTo>
                <a:cubicBezTo>
                  <a:pt x="1458378" y="118477"/>
                  <a:pt x="1546798" y="245221"/>
                  <a:pt x="1457901" y="138546"/>
                </a:cubicBezTo>
                <a:cubicBezTo>
                  <a:pt x="1447241" y="125754"/>
                  <a:pt x="1442723" y="107947"/>
                  <a:pt x="1430192" y="96982"/>
                </a:cubicBezTo>
                <a:cubicBezTo>
                  <a:pt x="1405130" y="75052"/>
                  <a:pt x="1374774" y="60037"/>
                  <a:pt x="1347065" y="41564"/>
                </a:cubicBezTo>
                <a:cubicBezTo>
                  <a:pt x="1293350" y="5754"/>
                  <a:pt x="1321297" y="19120"/>
                  <a:pt x="1263937" y="0"/>
                </a:cubicBezTo>
                <a:cubicBezTo>
                  <a:pt x="1106919" y="4618"/>
                  <a:pt x="949529" y="2106"/>
                  <a:pt x="792883" y="13855"/>
                </a:cubicBezTo>
                <a:cubicBezTo>
                  <a:pt x="763757" y="16039"/>
                  <a:pt x="709756" y="41564"/>
                  <a:pt x="709756" y="41564"/>
                </a:cubicBezTo>
                <a:cubicBezTo>
                  <a:pt x="700519" y="50800"/>
                  <a:pt x="689883" y="58823"/>
                  <a:pt x="682046" y="69273"/>
                </a:cubicBezTo>
                <a:cubicBezTo>
                  <a:pt x="662065" y="95915"/>
                  <a:pt x="656414" y="137506"/>
                  <a:pt x="626628" y="152400"/>
                </a:cubicBezTo>
                <a:lnTo>
                  <a:pt x="598919" y="180109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6"/>
          <p:cNvSpPr/>
          <p:nvPr/>
        </p:nvSpPr>
        <p:spPr>
          <a:xfrm>
            <a:off x="2287440" y="4776840"/>
            <a:ext cx="470160" cy="404640"/>
          </a:xfrm>
          <a:custGeom>
            <a:avLst/>
            <a:gdLst/>
            <a:ahLst/>
            <a:rect l="l" t="t" r="r" b="b"/>
            <a:pathLst>
              <a:path w="468798" h="405643">
                <a:moveTo>
                  <a:pt x="247125" y="17541"/>
                </a:moveTo>
                <a:cubicBezTo>
                  <a:pt x="203252" y="22159"/>
                  <a:pt x="161736" y="17104"/>
                  <a:pt x="122434" y="31395"/>
                </a:cubicBezTo>
                <a:cubicBezTo>
                  <a:pt x="106785" y="37085"/>
                  <a:pt x="106499" y="61185"/>
                  <a:pt x="94725" y="72959"/>
                </a:cubicBezTo>
                <a:cubicBezTo>
                  <a:pt x="82951" y="84733"/>
                  <a:pt x="67016" y="91432"/>
                  <a:pt x="53161" y="100668"/>
                </a:cubicBezTo>
                <a:cubicBezTo>
                  <a:pt x="43925" y="114523"/>
                  <a:pt x="32899" y="127339"/>
                  <a:pt x="25452" y="142232"/>
                </a:cubicBezTo>
                <a:cubicBezTo>
                  <a:pt x="0" y="193136"/>
                  <a:pt x="9338" y="235545"/>
                  <a:pt x="25452" y="294632"/>
                </a:cubicBezTo>
                <a:cubicBezTo>
                  <a:pt x="29833" y="310696"/>
                  <a:pt x="43925" y="322341"/>
                  <a:pt x="53161" y="336195"/>
                </a:cubicBezTo>
                <a:cubicBezTo>
                  <a:pt x="167494" y="331798"/>
                  <a:pt x="371698" y="405643"/>
                  <a:pt x="454943" y="280777"/>
                </a:cubicBezTo>
                <a:cubicBezTo>
                  <a:pt x="463044" y="268626"/>
                  <a:pt x="464180" y="253068"/>
                  <a:pt x="468798" y="239213"/>
                </a:cubicBezTo>
                <a:cubicBezTo>
                  <a:pt x="464180" y="179177"/>
                  <a:pt x="466040" y="118286"/>
                  <a:pt x="454943" y="59104"/>
                </a:cubicBezTo>
                <a:cubicBezTo>
                  <a:pt x="451874" y="42738"/>
                  <a:pt x="440236" y="27943"/>
                  <a:pt x="427234" y="17541"/>
                </a:cubicBezTo>
                <a:cubicBezTo>
                  <a:pt x="415830" y="8418"/>
                  <a:pt x="400242" y="4657"/>
                  <a:pt x="385670" y="3686"/>
                </a:cubicBezTo>
                <a:cubicBezTo>
                  <a:pt x="330375" y="0"/>
                  <a:pt x="290998" y="12923"/>
                  <a:pt x="247125" y="17541"/>
                </a:cubicBezTo>
                <a:close/>
              </a:path>
            </a:pathLst>
          </a:custGeom>
          <a:solidFill>
            <a:srgbClr val="c4bd97"/>
          </a:solidFill>
          <a:ln w="25560">
            <a:solidFill>
              <a:srgbClr val="948a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794880" y="192888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Calibri"/>
              </a:rPr>
              <a:t>Surface view of ul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5"/>
          <p:cNvGrpSpPr/>
          <p:nvPr/>
        </p:nvGrpSpPr>
        <p:grpSpPr>
          <a:xfrm>
            <a:off x="1928160" y="1643040"/>
            <a:ext cx="4819680" cy="1643400"/>
            <a:chOff x="1928160" y="1643040"/>
            <a:chExt cx="4819680" cy="1643400"/>
          </a:xfrm>
        </p:grpSpPr>
        <p:sp>
          <p:nvSpPr>
            <p:cNvPr id="71" name="TextBox 15"/>
            <p:cNvSpPr/>
            <p:nvPr/>
          </p:nvSpPr>
          <p:spPr>
            <a:xfrm>
              <a:off x="4867920" y="164304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Calibri"/>
                </a:rPr>
                <a:t>Narrow ulcer ne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Straight Arrow Connector 18"/>
            <p:cNvCxnSpPr/>
            <p:nvPr/>
          </p:nvCxnSpPr>
          <p:spPr>
            <a:xfrm flipH="1">
              <a:off x="5643360" y="2000160"/>
              <a:ext cx="2160" cy="357840"/>
            </a:xfrm>
            <a:prstGeom prst="straightConnector1">
              <a:avLst/>
            </a:prstGeom>
            <a:ln w="28440">
              <a:solidFill>
                <a:srgbClr val="953735"/>
              </a:solidFill>
              <a:miter/>
              <a:tailEnd len="med" type="arrow" w="med"/>
            </a:ln>
          </p:spPr>
        </p:cxnSp>
        <p:cxnSp>
          <p:nvCxnSpPr>
            <p:cNvPr id="73" name="Straight Arrow Connector 22"/>
            <p:cNvCxnSpPr/>
            <p:nvPr/>
          </p:nvCxnSpPr>
          <p:spPr>
            <a:xfrm flipH="1">
              <a:off x="1928160" y="2000160"/>
              <a:ext cx="3501000" cy="1286640"/>
            </a:xfrm>
            <a:prstGeom prst="straightConnector1">
              <a:avLst/>
            </a:prstGeom>
            <a:ln w="28440">
              <a:solidFill>
                <a:srgbClr val="953735"/>
              </a:solidFill>
              <a:miter/>
              <a:tailEnd len="med" type="arrow" w="med"/>
            </a:ln>
          </p:spPr>
        </p:cxnSp>
      </p:grpSp>
      <p:grpSp>
        <p:nvGrpSpPr>
          <p:cNvPr id="74" name="Group 33"/>
          <p:cNvGrpSpPr/>
          <p:nvPr/>
        </p:nvGrpSpPr>
        <p:grpSpPr>
          <a:xfrm>
            <a:off x="1714680" y="5357520"/>
            <a:ext cx="6500520" cy="1226520"/>
            <a:chOff x="1714680" y="5357520"/>
            <a:chExt cx="6500520" cy="1226520"/>
          </a:xfrm>
        </p:grpSpPr>
        <p:sp>
          <p:nvSpPr>
            <p:cNvPr id="75" name="TextBox 16"/>
            <p:cNvSpPr/>
            <p:nvPr/>
          </p:nvSpPr>
          <p:spPr>
            <a:xfrm>
              <a:off x="5031360" y="6215760"/>
              <a:ext cx="166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Calibri"/>
                </a:rPr>
                <a:t>Wide ulcer 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eft Bracket 30"/>
            <p:cNvSpPr/>
            <p:nvPr/>
          </p:nvSpPr>
          <p:spPr>
            <a:xfrm flipH="1" rot="5400000">
              <a:off x="2448720" y="4623120"/>
              <a:ext cx="284040" cy="1752480"/>
            </a:xfrm>
            <a:custGeom>
              <a:avLst/>
              <a:gdLst>
                <a:gd name="textAreaLeft" fmla="*/ 83520 w 284040"/>
                <a:gd name="textAreaRight" fmla="*/ 284040 w 284040"/>
                <a:gd name="textAreaTop" fmla="*/ 11880 h 1752480"/>
                <a:gd name="textAreaBottom" fmla="*/ 1740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49"/>
                    <a:pt x="0" y="298"/>
                  </a:cubicBezTo>
                  <a:lnTo>
                    <a:pt x="0" y="21302"/>
                  </a:lnTo>
                  <a:cubicBezTo>
                    <a:pt x="0" y="21451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eft Bracket 31"/>
            <p:cNvSpPr/>
            <p:nvPr/>
          </p:nvSpPr>
          <p:spPr>
            <a:xfrm flipH="1" rot="5400000">
              <a:off x="6174360" y="3888360"/>
              <a:ext cx="428760" cy="3652560"/>
            </a:xfrm>
            <a:custGeom>
              <a:avLst/>
              <a:gdLst>
                <a:gd name="textAreaLeft" fmla="*/ 125640 w 428760"/>
                <a:gd name="textAreaRight" fmla="*/ 428760 w 428760"/>
                <a:gd name="textAreaTop" fmla="*/ 18000 h 3652560"/>
                <a:gd name="textAreaBottom" fmla="*/ 3634560 h 365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8"/>
                    <a:pt x="0" y="216"/>
                  </a:cubicBezTo>
                  <a:lnTo>
                    <a:pt x="0" y="21384"/>
                  </a:lnTo>
                  <a:cubicBezTo>
                    <a:pt x="0" y="21492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80% of patients infected with </a:t>
            </a: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Entamoeba histolytica 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will be asymptoma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E. histolytica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becomes pathogenic, it invades the crypts of colonic glands and burrows down into the submuc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t  is stopped by the muscularis propria, so then burrows laterally, and with the resulting inflammation and necrosis a flask-shaped ulcer is form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ZA" sz="2400" spc="-1" strike="noStrike">
                <a:solidFill>
                  <a:srgbClr val="000000"/>
                </a:solidFill>
                <a:latin typeface="Calibri"/>
              </a:rPr>
              <a:t>E. histolytica </a:t>
            </a: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utilises various virulence factors and enzymes in this process of invasion.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9" descr=""/>
          <p:cNvPicPr/>
          <p:nvPr/>
        </p:nvPicPr>
        <p:blipFill>
          <a:blip r:embed="rId1"/>
          <a:stretch/>
        </p:blipFill>
        <p:spPr>
          <a:xfrm>
            <a:off x="4848120" y="1601640"/>
            <a:ext cx="3638520" cy="4523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376092"/>
                </a:solidFill>
                <a:latin typeface="Calibri"/>
              </a:rPr>
              <a:t>Disease prog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itially the mucosa between the ulcers is relatively nor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s the ulcers enlarge they become confl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e overlying is mucosa is undermined, and, deprived of its blood supply, it sloug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(This specimen is from a different patient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7"/>
          <p:cNvGrpSpPr/>
          <p:nvPr/>
        </p:nvGrpSpPr>
        <p:grpSpPr>
          <a:xfrm>
            <a:off x="5364000" y="2997360"/>
            <a:ext cx="2825280" cy="1511280"/>
            <a:chOff x="5364000" y="2997360"/>
            <a:chExt cx="2825280" cy="1511280"/>
          </a:xfrm>
        </p:grpSpPr>
        <p:sp>
          <p:nvSpPr>
            <p:cNvPr id="84" name="Oval 5"/>
            <p:cNvSpPr/>
            <p:nvPr/>
          </p:nvSpPr>
          <p:spPr>
            <a:xfrm>
              <a:off x="5364000" y="3282840"/>
              <a:ext cx="1641600" cy="1225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6"/>
            <p:cNvSpPr/>
            <p:nvPr/>
          </p:nvSpPr>
          <p:spPr>
            <a:xfrm>
              <a:off x="6585120" y="2997360"/>
              <a:ext cx="160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Calibri"/>
                </a:rPr>
                <a:t>Cobweb slou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about 40% of patients the parasite embolises to the liver via splanchnic vess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our original patient the result was multiple liver absce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(Unlike our patient, most patients no longer have gastro-intestinal symptoms when presenting with an amoebic liver absces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93800" y="2133720"/>
            <a:ext cx="5397480" cy="4265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556280" y="7858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This is the external appearance of the l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t is enlarged, weighing 3.5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One abscess has ruptured through the caps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3635280" y="4869000"/>
            <a:ext cx="642960" cy="642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1:55:33Z</dcterms:created>
  <dc:creator>New Win User</dc:creator>
  <dc:description/>
  <dc:language>en-US</dc:language>
  <cp:lastModifiedBy>Sam</cp:lastModifiedBy>
  <dcterms:modified xsi:type="dcterms:W3CDTF">2011-09-10T22:50:48Z</dcterms:modified>
  <cp:revision>115</cp:revision>
  <dc:subject/>
  <dc:title>Amoebic colitis</dc:title>
</cp:coreProperties>
</file>