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4904-C18F-427B-A7F0-9889E9289B9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2100-039E-49D4-B992-60165F6BFED5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403-C8F8-4C3B-BA4A-9F4139CC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ABD-31D9-43D3-8491-47231BFD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4FA-9C1F-4423-9624-974002AA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282-BFE8-4101-A2AC-664EBCA5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E96-0E82-4A3C-823C-7379F99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762-CF7D-45BA-9465-0A6A44E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90E-C685-482D-B108-0FEF761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D38-36D7-4D47-A808-AC4B26B2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54D-FFAA-4101-9F49-9F631C6E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EF5-FC8C-4138-A0CF-63CE038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FC0-7437-4F8A-B1D9-A2A9495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553-94F3-44D4-B95A-6C9482E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E70-7A1A-4369-92FA-2B32A433BDF9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Intracerebral ha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6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XII:iii: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"/>
          <p:cNvPicPr/>
          <p:nvPr/>
        </p:nvPicPr>
        <p:blipFill>
          <a:blip r:embed="rId1"/>
          <a:stretch/>
        </p:blipFill>
        <p:spPr>
          <a:xfrm>
            <a:off x="3132000" y="2584440"/>
            <a:ext cx="26910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troke” can occur in a young person, in this case a 20 year old wo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he had an undiagnosed vascular disease and hyperten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coronal slice from the parietal region of her br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527040" y="1225440"/>
            <a:ext cx="8055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719280" y="2143080"/>
            <a:ext cx="40287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69"/>
          <p:cNvGrpSpPr/>
          <p:nvPr/>
        </p:nvGrpSpPr>
        <p:grpSpPr>
          <a:xfrm>
            <a:off x="5869440" y="357120"/>
            <a:ext cx="1789920" cy="3144960"/>
            <a:chOff x="5869440" y="357120"/>
            <a:chExt cx="1789920" cy="3144960"/>
          </a:xfrm>
        </p:grpSpPr>
        <p:cxnSp>
          <p:nvCxnSpPr>
            <p:cNvPr id="60" name="Straight Arrow Connector 28"/>
            <p:cNvCxnSpPr/>
            <p:nvPr/>
          </p:nvCxnSpPr>
          <p:spPr>
            <a:xfrm flipH="1">
              <a:off x="5927400" y="715680"/>
              <a:ext cx="2160" cy="27867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1" name="TextBox 38"/>
            <p:cNvSpPr/>
            <p:nvPr/>
          </p:nvSpPr>
          <p:spPr>
            <a:xfrm>
              <a:off x="5869440" y="35712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ateral ventr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53"/>
          <p:cNvGrpSpPr/>
          <p:nvPr/>
        </p:nvGrpSpPr>
        <p:grpSpPr>
          <a:xfrm>
            <a:off x="6143400" y="714240"/>
            <a:ext cx="1190520" cy="2786400"/>
            <a:chOff x="6143400" y="714240"/>
            <a:chExt cx="1190520" cy="2786400"/>
          </a:xfrm>
        </p:grpSpPr>
        <p:cxnSp>
          <p:nvCxnSpPr>
            <p:cNvPr id="63" name="Straight Arrow Connector 31"/>
            <p:cNvCxnSpPr/>
            <p:nvPr/>
          </p:nvCxnSpPr>
          <p:spPr>
            <a:xfrm flipH="1">
              <a:off x="6143400" y="999720"/>
              <a:ext cx="2160" cy="25012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4" name="TextBox 39"/>
            <p:cNvSpPr/>
            <p:nvPr/>
          </p:nvSpPr>
          <p:spPr>
            <a:xfrm>
              <a:off x="6152040" y="7142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Thala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1"/>
          <p:cNvGrpSpPr/>
          <p:nvPr/>
        </p:nvGrpSpPr>
        <p:grpSpPr>
          <a:xfrm>
            <a:off x="6299280" y="1143000"/>
            <a:ext cx="1890720" cy="2027160"/>
            <a:chOff x="6299280" y="1143000"/>
            <a:chExt cx="1890720" cy="2027160"/>
          </a:xfrm>
        </p:grpSpPr>
        <p:cxnSp>
          <p:nvCxnSpPr>
            <p:cNvPr id="66" name="Straight Arrow Connector 35"/>
            <p:cNvCxnSpPr>
              <a:endCxn id="67" idx="1"/>
            </p:cNvCxnSpPr>
            <p:nvPr/>
          </p:nvCxnSpPr>
          <p:spPr>
            <a:xfrm>
              <a:off x="6428160" y="1499760"/>
              <a:ext cx="13320" cy="16707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8" name="TextBox 40"/>
            <p:cNvSpPr/>
            <p:nvPr/>
          </p:nvSpPr>
          <p:spPr>
            <a:xfrm>
              <a:off x="6299280" y="1143000"/>
              <a:ext cx="18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Caudate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74"/>
          <p:cNvGrpSpPr/>
          <p:nvPr/>
        </p:nvGrpSpPr>
        <p:grpSpPr>
          <a:xfrm>
            <a:off x="6793920" y="4251240"/>
            <a:ext cx="1093680" cy="1689840"/>
            <a:chOff x="6793920" y="4251240"/>
            <a:chExt cx="1093680" cy="1689840"/>
          </a:xfrm>
        </p:grpSpPr>
        <p:cxnSp>
          <p:nvCxnSpPr>
            <p:cNvPr id="70" name="Straight Arrow Connector 56"/>
            <p:cNvCxnSpPr>
              <a:endCxn id="71" idx="6"/>
            </p:cNvCxnSpPr>
            <p:nvPr/>
          </p:nvCxnSpPr>
          <p:spPr>
            <a:xfrm flipH="1" flipV="1">
              <a:off x="6856200" y="4251240"/>
              <a:ext cx="73440" cy="13215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2" name="TextBox 57"/>
            <p:cNvSpPr/>
            <p:nvPr/>
          </p:nvSpPr>
          <p:spPr>
            <a:xfrm>
              <a:off x="6793920" y="557280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Puta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" name="Straight Arrow Connector 59"/>
          <p:cNvCxnSpPr/>
          <p:nvPr/>
        </p:nvCxnSpPr>
        <p:spPr>
          <a:xfrm flipH="1" flipV="1">
            <a:off x="6500520" y="4357080"/>
            <a:ext cx="72000" cy="15008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61"/>
          <p:cNvCxnSpPr>
            <a:endCxn id="75" idx="3"/>
          </p:cNvCxnSpPr>
          <p:nvPr/>
        </p:nvCxnSpPr>
        <p:spPr>
          <a:xfrm flipH="1" flipV="1">
            <a:off x="6251040" y="4411080"/>
            <a:ext cx="36000" cy="15181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62"/>
          <p:cNvSpPr/>
          <p:nvPr/>
        </p:nvSpPr>
        <p:spPr>
          <a:xfrm>
            <a:off x="6012000" y="5929200"/>
            <a:ext cx="18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lobus palli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2"/>
          <p:cNvGrpSpPr/>
          <p:nvPr/>
        </p:nvGrpSpPr>
        <p:grpSpPr>
          <a:xfrm>
            <a:off x="6571800" y="1500120"/>
            <a:ext cx="1901520" cy="2072160"/>
            <a:chOff x="6571800" y="1500120"/>
            <a:chExt cx="1901520" cy="2072160"/>
          </a:xfrm>
        </p:grpSpPr>
        <p:cxnSp>
          <p:nvCxnSpPr>
            <p:cNvPr id="78" name="Straight Arrow Connector 64"/>
            <p:cNvCxnSpPr/>
            <p:nvPr/>
          </p:nvCxnSpPr>
          <p:spPr>
            <a:xfrm flipH="1">
              <a:off x="6571800" y="2000160"/>
              <a:ext cx="929520" cy="157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9" name="TextBox 65"/>
            <p:cNvSpPr/>
            <p:nvPr/>
          </p:nvSpPr>
          <p:spPr>
            <a:xfrm>
              <a:off x="7507800" y="1500120"/>
              <a:ext cx="96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caps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68"/>
          <p:cNvSpPr/>
          <p:nvPr/>
        </p:nvSpPr>
        <p:spPr>
          <a:xfrm>
            <a:off x="714240" y="1285920"/>
            <a:ext cx="38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Anatomical location of the l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8"/>
          <p:cNvGrpSpPr/>
          <p:nvPr/>
        </p:nvGrpSpPr>
        <p:grpSpPr>
          <a:xfrm>
            <a:off x="2214720" y="5500800"/>
            <a:ext cx="2509200" cy="368280"/>
            <a:chOff x="2214720" y="5500800"/>
            <a:chExt cx="2509200" cy="368280"/>
          </a:xfrm>
        </p:grpSpPr>
        <p:sp>
          <p:nvSpPr>
            <p:cNvPr id="82" name="Rectangle 75"/>
            <p:cNvSpPr/>
            <p:nvPr/>
          </p:nvSpPr>
          <p:spPr>
            <a:xfrm>
              <a:off x="2214720" y="5500800"/>
              <a:ext cx="285480" cy="2858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6"/>
            <p:cNvSpPr/>
            <p:nvPr/>
          </p:nvSpPr>
          <p:spPr>
            <a:xfrm>
              <a:off x="2500200" y="5500800"/>
              <a:ext cx="285480" cy="2858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7"/>
            <p:cNvSpPr/>
            <p:nvPr/>
          </p:nvSpPr>
          <p:spPr>
            <a:xfrm>
              <a:off x="2940120" y="55008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=  basal gangl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3"/>
          <p:cNvGrpSpPr/>
          <p:nvPr/>
        </p:nvGrpSpPr>
        <p:grpSpPr>
          <a:xfrm>
            <a:off x="5214960" y="1643040"/>
            <a:ext cx="3214800" cy="3786120"/>
            <a:chOff x="5214960" y="1643040"/>
            <a:chExt cx="3214800" cy="3786120"/>
          </a:xfrm>
        </p:grpSpPr>
        <p:grpSp>
          <p:nvGrpSpPr>
            <p:cNvPr id="86" name="Group 25"/>
            <p:cNvGrpSpPr/>
            <p:nvPr/>
          </p:nvGrpSpPr>
          <p:grpSpPr>
            <a:xfrm>
              <a:off x="5214960" y="1643040"/>
              <a:ext cx="3214800" cy="3786120"/>
              <a:chOff x="5214960" y="1643040"/>
              <a:chExt cx="3214800" cy="3786120"/>
            </a:xfrm>
          </p:grpSpPr>
          <p:sp>
            <p:nvSpPr>
              <p:cNvPr id="67" name="Freeform 11"/>
              <p:cNvSpPr/>
              <p:nvPr/>
            </p:nvSpPr>
            <p:spPr>
              <a:xfrm>
                <a:off x="6286320" y="31431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355600" h="381000">
                    <a:moveTo>
                      <a:pt x="11545" y="344054"/>
                    </a:moveTo>
                    <a:cubicBezTo>
                      <a:pt x="0" y="307109"/>
                      <a:pt x="150091" y="78508"/>
                      <a:pt x="205509" y="39254"/>
                    </a:cubicBezTo>
                    <a:cubicBezTo>
                      <a:pt x="260927" y="0"/>
                      <a:pt x="332509" y="71582"/>
                      <a:pt x="344054" y="108527"/>
                    </a:cubicBezTo>
                    <a:cubicBezTo>
                      <a:pt x="355600" y="145473"/>
                      <a:pt x="330200" y="214745"/>
                      <a:pt x="274782" y="260927"/>
                    </a:cubicBezTo>
                    <a:cubicBezTo>
                      <a:pt x="219364" y="307109"/>
                      <a:pt x="23091" y="381000"/>
                      <a:pt x="11545" y="344054"/>
                    </a:cubicBezTo>
                    <a:close/>
                  </a:path>
                </a:pathLst>
              </a:custGeom>
              <a:solidFill>
                <a:srgbClr val="948a54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5857920" y="3429000"/>
                <a:ext cx="568080" cy="857160"/>
              </a:xfrm>
              <a:custGeom>
                <a:avLst/>
                <a:gdLst/>
                <a:ahLst/>
                <a:rect l="l" t="t" r="r" b="b"/>
                <a:pathLst>
                  <a:path w="750455" h="1244600">
                    <a:moveTo>
                      <a:pt x="519545" y="6927"/>
                    </a:moveTo>
                    <a:cubicBezTo>
                      <a:pt x="417945" y="13854"/>
                      <a:pt x="189345" y="191655"/>
                      <a:pt x="103909" y="325582"/>
                    </a:cubicBezTo>
                    <a:cubicBezTo>
                      <a:pt x="18473" y="459509"/>
                      <a:pt x="13854" y="674255"/>
                      <a:pt x="6927" y="810491"/>
                    </a:cubicBezTo>
                    <a:cubicBezTo>
                      <a:pt x="0" y="946727"/>
                      <a:pt x="9236" y="1094509"/>
                      <a:pt x="62345" y="1143000"/>
                    </a:cubicBezTo>
                    <a:cubicBezTo>
                      <a:pt x="115454" y="1191491"/>
                      <a:pt x="217054" y="1244600"/>
                      <a:pt x="325581" y="1101436"/>
                    </a:cubicBezTo>
                    <a:cubicBezTo>
                      <a:pt x="434108" y="958272"/>
                      <a:pt x="676564" y="466436"/>
                      <a:pt x="713509" y="284018"/>
                    </a:cubicBezTo>
                    <a:cubicBezTo>
                      <a:pt x="750455" y="101600"/>
                      <a:pt x="621145" y="0"/>
                      <a:pt x="519545" y="6927"/>
                    </a:cubicBezTo>
                    <a:close/>
                  </a:path>
                </a:pathLst>
              </a:custGeom>
              <a:solidFill>
                <a:srgbClr val="b9cde5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Group 24"/>
              <p:cNvGrpSpPr/>
              <p:nvPr/>
            </p:nvGrpSpPr>
            <p:grpSpPr>
              <a:xfrm>
                <a:off x="5214960" y="1643040"/>
                <a:ext cx="3214800" cy="3786120"/>
                <a:chOff x="5214960" y="1643040"/>
                <a:chExt cx="3214800" cy="3786120"/>
              </a:xfrm>
            </p:grpSpPr>
            <p:sp>
              <p:nvSpPr>
                <p:cNvPr id="89" name="Freeform 4"/>
                <p:cNvSpPr/>
                <p:nvPr/>
              </p:nvSpPr>
              <p:spPr>
                <a:xfrm>
                  <a:off x="5621400" y="1643040"/>
                  <a:ext cx="2808360" cy="3786120"/>
                </a:xfrm>
                <a:custGeom>
                  <a:avLst/>
                  <a:gdLst/>
                  <a:ahLst/>
                  <a:rect l="l" t="t" r="r" b="b"/>
                  <a:pathLst>
                    <a:path w="3701472" h="5493327">
                      <a:moveTo>
                        <a:pt x="510308" y="2036618"/>
                      </a:moveTo>
                      <a:cubicBezTo>
                        <a:pt x="391390" y="2108200"/>
                        <a:pt x="272472" y="2179782"/>
                        <a:pt x="205508" y="2189018"/>
                      </a:cubicBezTo>
                      <a:cubicBezTo>
                        <a:pt x="138544" y="2198254"/>
                        <a:pt x="133926" y="2242127"/>
                        <a:pt x="108526" y="2092036"/>
                      </a:cubicBezTo>
                      <a:cubicBezTo>
                        <a:pt x="83126" y="1941945"/>
                        <a:pt x="11544" y="1424708"/>
                        <a:pt x="53108" y="1288472"/>
                      </a:cubicBezTo>
                      <a:cubicBezTo>
                        <a:pt x="94672" y="1152236"/>
                        <a:pt x="360217" y="1323109"/>
                        <a:pt x="357908" y="1274618"/>
                      </a:cubicBezTo>
                      <a:cubicBezTo>
                        <a:pt x="355599" y="1226127"/>
                        <a:pt x="78509" y="1173018"/>
                        <a:pt x="39254" y="997527"/>
                      </a:cubicBezTo>
                      <a:cubicBezTo>
                        <a:pt x="0" y="822036"/>
                        <a:pt x="48490" y="385618"/>
                        <a:pt x="122381" y="221672"/>
                      </a:cubicBezTo>
                      <a:cubicBezTo>
                        <a:pt x="196272" y="57726"/>
                        <a:pt x="332508" y="27709"/>
                        <a:pt x="482599" y="13854"/>
                      </a:cubicBezTo>
                      <a:cubicBezTo>
                        <a:pt x="632690" y="0"/>
                        <a:pt x="967508" y="13854"/>
                        <a:pt x="1022926" y="138545"/>
                      </a:cubicBezTo>
                      <a:cubicBezTo>
                        <a:pt x="1078344" y="263236"/>
                        <a:pt x="798944" y="757381"/>
                        <a:pt x="815108" y="761999"/>
                      </a:cubicBezTo>
                      <a:cubicBezTo>
                        <a:pt x="831272" y="766617"/>
                        <a:pt x="1009072" y="258618"/>
                        <a:pt x="1119908" y="166254"/>
                      </a:cubicBezTo>
                      <a:cubicBezTo>
                        <a:pt x="1230744" y="73891"/>
                        <a:pt x="1420090" y="138545"/>
                        <a:pt x="1480126" y="207818"/>
                      </a:cubicBezTo>
                      <a:cubicBezTo>
                        <a:pt x="1540162" y="277091"/>
                        <a:pt x="1519381" y="464127"/>
                        <a:pt x="1480126" y="581890"/>
                      </a:cubicBezTo>
                      <a:cubicBezTo>
                        <a:pt x="1440872" y="699654"/>
                        <a:pt x="1193799" y="953653"/>
                        <a:pt x="1244599" y="914399"/>
                      </a:cubicBezTo>
                      <a:cubicBezTo>
                        <a:pt x="1295399" y="875145"/>
                        <a:pt x="1597890" y="369454"/>
                        <a:pt x="1784926" y="346363"/>
                      </a:cubicBezTo>
                      <a:cubicBezTo>
                        <a:pt x="1971962" y="323272"/>
                        <a:pt x="2281381" y="644236"/>
                        <a:pt x="2366817" y="775854"/>
                      </a:cubicBezTo>
                      <a:cubicBezTo>
                        <a:pt x="2452253" y="907472"/>
                        <a:pt x="2364508" y="1071418"/>
                        <a:pt x="2297544" y="1136072"/>
                      </a:cubicBezTo>
                      <a:cubicBezTo>
                        <a:pt x="2230580" y="1200727"/>
                        <a:pt x="1976580" y="1136072"/>
                        <a:pt x="1965035" y="1163781"/>
                      </a:cubicBezTo>
                      <a:cubicBezTo>
                        <a:pt x="1953490" y="1191490"/>
                        <a:pt x="2135908" y="1316181"/>
                        <a:pt x="2228272" y="1302327"/>
                      </a:cubicBezTo>
                      <a:cubicBezTo>
                        <a:pt x="2320636" y="1288473"/>
                        <a:pt x="2369126" y="1036781"/>
                        <a:pt x="2519217" y="1080654"/>
                      </a:cubicBezTo>
                      <a:cubicBezTo>
                        <a:pt x="2669308" y="1124527"/>
                        <a:pt x="3020290" y="1447799"/>
                        <a:pt x="3128817" y="1565563"/>
                      </a:cubicBezTo>
                      <a:cubicBezTo>
                        <a:pt x="3237344" y="1683327"/>
                        <a:pt x="3281217" y="1759527"/>
                        <a:pt x="3170381" y="1787236"/>
                      </a:cubicBezTo>
                      <a:cubicBezTo>
                        <a:pt x="3059545" y="1814945"/>
                        <a:pt x="2641599" y="1687945"/>
                        <a:pt x="2463799" y="1731818"/>
                      </a:cubicBezTo>
                      <a:cubicBezTo>
                        <a:pt x="2285999" y="1775691"/>
                        <a:pt x="2112817" y="2034309"/>
                        <a:pt x="2103581" y="2050472"/>
                      </a:cubicBezTo>
                      <a:cubicBezTo>
                        <a:pt x="2094345" y="2066636"/>
                        <a:pt x="2276763" y="1856508"/>
                        <a:pt x="2408381" y="1828799"/>
                      </a:cubicBezTo>
                      <a:cubicBezTo>
                        <a:pt x="2539999" y="1801090"/>
                        <a:pt x="2800926" y="1833418"/>
                        <a:pt x="2893290" y="1884218"/>
                      </a:cubicBezTo>
                      <a:cubicBezTo>
                        <a:pt x="2985654" y="1935018"/>
                        <a:pt x="3041072" y="2080490"/>
                        <a:pt x="2962563" y="2133599"/>
                      </a:cubicBezTo>
                      <a:cubicBezTo>
                        <a:pt x="2884054" y="2186708"/>
                        <a:pt x="2417617" y="2110508"/>
                        <a:pt x="2422235" y="2202872"/>
                      </a:cubicBezTo>
                      <a:cubicBezTo>
                        <a:pt x="2426853" y="2295236"/>
                        <a:pt x="2951017" y="2660072"/>
                        <a:pt x="2990272" y="2687781"/>
                      </a:cubicBezTo>
                      <a:cubicBezTo>
                        <a:pt x="3029527" y="2715490"/>
                        <a:pt x="2706254" y="2445327"/>
                        <a:pt x="2657763" y="2369127"/>
                      </a:cubicBezTo>
                      <a:cubicBezTo>
                        <a:pt x="2609272" y="2292927"/>
                        <a:pt x="2636981" y="2253672"/>
                        <a:pt x="2699326" y="2230581"/>
                      </a:cubicBezTo>
                      <a:cubicBezTo>
                        <a:pt x="2761671" y="2207490"/>
                        <a:pt x="2927926" y="2262908"/>
                        <a:pt x="3031835" y="2230581"/>
                      </a:cubicBezTo>
                      <a:cubicBezTo>
                        <a:pt x="3135744" y="2198254"/>
                        <a:pt x="3230417" y="1958109"/>
                        <a:pt x="3322781" y="2036618"/>
                      </a:cubicBezTo>
                      <a:cubicBezTo>
                        <a:pt x="3415145" y="2115127"/>
                        <a:pt x="3539835" y="2505363"/>
                        <a:pt x="3586017" y="2701636"/>
                      </a:cubicBezTo>
                      <a:cubicBezTo>
                        <a:pt x="3632199" y="2897909"/>
                        <a:pt x="3625272" y="3105727"/>
                        <a:pt x="3599872" y="3214254"/>
                      </a:cubicBezTo>
                      <a:cubicBezTo>
                        <a:pt x="3574472" y="3322781"/>
                        <a:pt x="3553690" y="3364344"/>
                        <a:pt x="3433617" y="3352799"/>
                      </a:cubicBezTo>
                      <a:cubicBezTo>
                        <a:pt x="3313544" y="3341254"/>
                        <a:pt x="3008744" y="3154217"/>
                        <a:pt x="2879435" y="3144981"/>
                      </a:cubicBezTo>
                      <a:cubicBezTo>
                        <a:pt x="2750126" y="3135745"/>
                        <a:pt x="2796308" y="3352799"/>
                        <a:pt x="2657763" y="3297381"/>
                      </a:cubicBezTo>
                      <a:cubicBezTo>
                        <a:pt x="2519218" y="3241963"/>
                        <a:pt x="2059708" y="2800927"/>
                        <a:pt x="2048163" y="2812472"/>
                      </a:cubicBezTo>
                      <a:cubicBezTo>
                        <a:pt x="2036618" y="2824017"/>
                        <a:pt x="2512290" y="3230418"/>
                        <a:pt x="2588490" y="3366654"/>
                      </a:cubicBezTo>
                      <a:cubicBezTo>
                        <a:pt x="2664690" y="3502890"/>
                        <a:pt x="2477654" y="3618345"/>
                        <a:pt x="2505363" y="3629890"/>
                      </a:cubicBezTo>
                      <a:cubicBezTo>
                        <a:pt x="2533072" y="3641436"/>
                        <a:pt x="2678544" y="3468254"/>
                        <a:pt x="2754744" y="3435927"/>
                      </a:cubicBezTo>
                      <a:cubicBezTo>
                        <a:pt x="2830944" y="3403600"/>
                        <a:pt x="2916381" y="3419764"/>
                        <a:pt x="2962563" y="3435927"/>
                      </a:cubicBezTo>
                      <a:cubicBezTo>
                        <a:pt x="3008745" y="3452090"/>
                        <a:pt x="3096490" y="3454399"/>
                        <a:pt x="3031835" y="3532908"/>
                      </a:cubicBezTo>
                      <a:cubicBezTo>
                        <a:pt x="2967180" y="3611417"/>
                        <a:pt x="2558471" y="3904672"/>
                        <a:pt x="2574635" y="3906981"/>
                      </a:cubicBezTo>
                      <a:cubicBezTo>
                        <a:pt x="2590799" y="3909290"/>
                        <a:pt x="2964872" y="3625272"/>
                        <a:pt x="3128817" y="3546763"/>
                      </a:cubicBezTo>
                      <a:cubicBezTo>
                        <a:pt x="3292762" y="3468254"/>
                        <a:pt x="3465944" y="3343563"/>
                        <a:pt x="3558308" y="3435927"/>
                      </a:cubicBezTo>
                      <a:cubicBezTo>
                        <a:pt x="3650672" y="3528291"/>
                        <a:pt x="3701472" y="3948545"/>
                        <a:pt x="3682999" y="4100945"/>
                      </a:cubicBezTo>
                      <a:cubicBezTo>
                        <a:pt x="3664526" y="4253345"/>
                        <a:pt x="3539836" y="4285672"/>
                        <a:pt x="3447472" y="4350327"/>
                      </a:cubicBezTo>
                      <a:cubicBezTo>
                        <a:pt x="3355108" y="4414982"/>
                        <a:pt x="3114963" y="4486563"/>
                        <a:pt x="3128817" y="4488872"/>
                      </a:cubicBezTo>
                      <a:cubicBezTo>
                        <a:pt x="3142672" y="4491181"/>
                        <a:pt x="3581399" y="4255654"/>
                        <a:pt x="3530599" y="4364181"/>
                      </a:cubicBezTo>
                      <a:cubicBezTo>
                        <a:pt x="3479799" y="4472708"/>
                        <a:pt x="3036453" y="5068454"/>
                        <a:pt x="2824017" y="5140036"/>
                      </a:cubicBezTo>
                      <a:cubicBezTo>
                        <a:pt x="2611581" y="5211618"/>
                        <a:pt x="2281381" y="4782127"/>
                        <a:pt x="2255981" y="4793672"/>
                      </a:cubicBezTo>
                      <a:cubicBezTo>
                        <a:pt x="2230581" y="4805217"/>
                        <a:pt x="2731653" y="5100781"/>
                        <a:pt x="2671617" y="5209308"/>
                      </a:cubicBezTo>
                      <a:cubicBezTo>
                        <a:pt x="2611581" y="5317835"/>
                        <a:pt x="2008908" y="5488709"/>
                        <a:pt x="1895763" y="5444836"/>
                      </a:cubicBezTo>
                      <a:cubicBezTo>
                        <a:pt x="1782618" y="5400963"/>
                        <a:pt x="2008908" y="4962236"/>
                        <a:pt x="1992744" y="4946072"/>
                      </a:cubicBezTo>
                      <a:cubicBezTo>
                        <a:pt x="1976580" y="4929908"/>
                        <a:pt x="1884217" y="5260109"/>
                        <a:pt x="1798781" y="5347854"/>
                      </a:cubicBezTo>
                      <a:cubicBezTo>
                        <a:pt x="1713345" y="5435600"/>
                        <a:pt x="1607126" y="5493327"/>
                        <a:pt x="1480126" y="5472545"/>
                      </a:cubicBezTo>
                      <a:cubicBezTo>
                        <a:pt x="1353126" y="5451763"/>
                        <a:pt x="1122217" y="5308599"/>
                        <a:pt x="1036781" y="5223163"/>
                      </a:cubicBezTo>
                      <a:cubicBezTo>
                        <a:pt x="951345" y="5137727"/>
                        <a:pt x="999835" y="4976091"/>
                        <a:pt x="967508" y="4959927"/>
                      </a:cubicBezTo>
                      <a:cubicBezTo>
                        <a:pt x="935181" y="4943763"/>
                        <a:pt x="907471" y="5091545"/>
                        <a:pt x="842817" y="5126181"/>
                      </a:cubicBezTo>
                      <a:cubicBezTo>
                        <a:pt x="778163" y="5160817"/>
                        <a:pt x="685799" y="5227781"/>
                        <a:pt x="579581" y="5167745"/>
                      </a:cubicBezTo>
                      <a:cubicBezTo>
                        <a:pt x="473363" y="5107709"/>
                        <a:pt x="267854" y="4904509"/>
                        <a:pt x="205508" y="4765963"/>
                      </a:cubicBezTo>
                      <a:cubicBezTo>
                        <a:pt x="143163" y="4627418"/>
                        <a:pt x="145472" y="4456545"/>
                        <a:pt x="205508" y="4336472"/>
                      </a:cubicBezTo>
                      <a:cubicBezTo>
                        <a:pt x="265544" y="4216399"/>
                        <a:pt x="565726" y="4045527"/>
                        <a:pt x="565726" y="4045527"/>
                      </a:cubicBezTo>
                      <a:lnTo>
                        <a:pt x="565726" y="4045527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"/>
                <p:cNvSpPr/>
                <p:nvPr/>
              </p:nvSpPr>
              <p:spPr>
                <a:xfrm>
                  <a:off x="5283000" y="3084480"/>
                  <a:ext cx="893880" cy="107640"/>
                </a:xfrm>
                <a:custGeom>
                  <a:avLst/>
                  <a:gdLst/>
                  <a:ahLst/>
                  <a:rect l="l" t="t" r="r" b="b"/>
                  <a:pathLst>
                    <a:path w="1177637" h="157018">
                      <a:moveTo>
                        <a:pt x="0" y="27709"/>
                      </a:moveTo>
                      <a:cubicBezTo>
                        <a:pt x="213591" y="92363"/>
                        <a:pt x="427182" y="157018"/>
                        <a:pt x="623455" y="152400"/>
                      </a:cubicBezTo>
                      <a:cubicBezTo>
                        <a:pt x="819728" y="147782"/>
                        <a:pt x="1177637" y="0"/>
                        <a:pt x="1177637" y="0"/>
                      </a:cubicBezTo>
                      <a:lnTo>
                        <a:pt x="1177637" y="0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6"/>
                <p:cNvSpPr/>
                <p:nvPr/>
              </p:nvSpPr>
              <p:spPr>
                <a:xfrm>
                  <a:off x="5214960" y="3214440"/>
                  <a:ext cx="1023840" cy="122040"/>
                </a:xfrm>
                <a:custGeom>
                  <a:avLst/>
                  <a:gdLst/>
                  <a:ahLst/>
                  <a:rect l="l" t="t" r="r" b="b"/>
                  <a:pathLst>
                    <a:path w="1177637" h="157018">
                      <a:moveTo>
                        <a:pt x="0" y="27709"/>
                      </a:moveTo>
                      <a:cubicBezTo>
                        <a:pt x="213591" y="92363"/>
                        <a:pt x="427182" y="157018"/>
                        <a:pt x="623455" y="152400"/>
                      </a:cubicBezTo>
                      <a:cubicBezTo>
                        <a:pt x="819728" y="147782"/>
                        <a:pt x="1177637" y="0"/>
                        <a:pt x="1177637" y="0"/>
                      </a:cubicBezTo>
                      <a:lnTo>
                        <a:pt x="1177637" y="0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Heart 7"/>
                <p:cNvSpPr/>
                <p:nvPr/>
              </p:nvSpPr>
              <p:spPr>
                <a:xfrm>
                  <a:off x="5594400" y="3460680"/>
                  <a:ext cx="271440" cy="196560"/>
                </a:xfrm>
                <a:custGeom>
                  <a:avLst/>
                  <a:gdLst/>
                  <a:ahLst/>
                  <a:rect l="l" t="t" r="r" b="b"/>
                  <a:pathLst>
                    <a:path w="357881" h="285607">
                      <a:moveTo>
                        <a:pt x="178941" y="71402"/>
                      </a:moveTo>
                      <a:cubicBezTo>
                        <a:pt x="253499" y="-95202"/>
                        <a:pt x="544277" y="71402"/>
                        <a:pt x="178941" y="285607"/>
                      </a:cubicBezTo>
                      <a:cubicBezTo>
                        <a:pt x="-186396" y="71402"/>
                        <a:pt x="104382" y="-95202"/>
                        <a:pt x="178941" y="7140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0"/>
                <p:cNvSpPr/>
                <p:nvPr/>
              </p:nvSpPr>
              <p:spPr>
                <a:xfrm>
                  <a:off x="5230800" y="3122640"/>
                  <a:ext cx="1198440" cy="850680"/>
                </a:xfrm>
                <a:custGeom>
                  <a:avLst/>
                  <a:gdLst/>
                  <a:ahLst/>
                  <a:rect l="l" t="t" r="r" b="b"/>
                  <a:pathLst>
                    <a:path w="1579418" h="1233054">
                      <a:moveTo>
                        <a:pt x="1579418" y="0"/>
                      </a:moveTo>
                      <a:cubicBezTo>
                        <a:pt x="1437409" y="165100"/>
                        <a:pt x="1295400" y="330200"/>
                        <a:pt x="1149927" y="457200"/>
                      </a:cubicBezTo>
                      <a:cubicBezTo>
                        <a:pt x="1004454" y="584200"/>
                        <a:pt x="785091" y="632691"/>
                        <a:pt x="706582" y="762000"/>
                      </a:cubicBezTo>
                      <a:cubicBezTo>
                        <a:pt x="628073" y="891309"/>
                        <a:pt x="692727" y="1233054"/>
                        <a:pt x="678872" y="1233054"/>
                      </a:cubicBezTo>
                      <a:cubicBezTo>
                        <a:pt x="665017" y="1233054"/>
                        <a:pt x="736599" y="884382"/>
                        <a:pt x="623454" y="762000"/>
                      </a:cubicBezTo>
                      <a:cubicBezTo>
                        <a:pt x="510309" y="639618"/>
                        <a:pt x="0" y="498764"/>
                        <a:pt x="0" y="498764"/>
                      </a:cubicBezTo>
                      <a:lnTo>
                        <a:pt x="0" y="498764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2"/>
                <p:cNvSpPr/>
                <p:nvPr/>
              </p:nvSpPr>
              <p:spPr>
                <a:xfrm>
                  <a:off x="5756040" y="4278240"/>
                  <a:ext cx="295200" cy="161640"/>
                </a:xfrm>
                <a:custGeom>
                  <a:avLst/>
                  <a:gdLst/>
                  <a:ahLst/>
                  <a:rect l="l" t="t" r="r" b="b"/>
                  <a:pathLst>
                    <a:path w="387927" h="235527">
                      <a:moveTo>
                        <a:pt x="0" y="0"/>
                      </a:moveTo>
                      <a:cubicBezTo>
                        <a:pt x="30018" y="49645"/>
                        <a:pt x="60037" y="99291"/>
                        <a:pt x="124691" y="138545"/>
                      </a:cubicBezTo>
                      <a:cubicBezTo>
                        <a:pt x="189345" y="177799"/>
                        <a:pt x="387927" y="235527"/>
                        <a:pt x="387927" y="235527"/>
                      </a:cubicBezTo>
                      <a:lnTo>
                        <a:pt x="387927" y="235527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0"/>
                <p:cNvSpPr/>
                <p:nvPr/>
              </p:nvSpPr>
              <p:spPr>
                <a:xfrm>
                  <a:off x="5214960" y="3263760"/>
                  <a:ext cx="1084320" cy="117360"/>
                </a:xfrm>
                <a:custGeom>
                  <a:avLst/>
                  <a:gdLst/>
                  <a:ahLst/>
                  <a:rect l="l" t="t" r="r" b="b"/>
                  <a:pathLst>
                    <a:path w="1177637" h="157018">
                      <a:moveTo>
                        <a:pt x="0" y="27709"/>
                      </a:moveTo>
                      <a:cubicBezTo>
                        <a:pt x="213591" y="92363"/>
                        <a:pt x="427182" y="157018"/>
                        <a:pt x="623455" y="152400"/>
                      </a:cubicBezTo>
                      <a:cubicBezTo>
                        <a:pt x="819728" y="147782"/>
                        <a:pt x="1177637" y="0"/>
                        <a:pt x="1177637" y="0"/>
                      </a:cubicBezTo>
                      <a:lnTo>
                        <a:pt x="1177637" y="0"/>
                      </a:ln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21"/>
              <p:cNvSpPr/>
              <p:nvPr/>
            </p:nvSpPr>
            <p:spPr>
              <a:xfrm>
                <a:off x="6569280" y="3460680"/>
                <a:ext cx="453960" cy="896760"/>
              </a:xfrm>
              <a:custGeom>
                <a:avLst/>
                <a:gdLst/>
                <a:ahLst/>
                <a:rect l="l" t="t" r="r" b="b"/>
                <a:pathLst>
                  <a:path w="598055" h="1302327">
                    <a:moveTo>
                      <a:pt x="254000" y="53109"/>
                    </a:moveTo>
                    <a:cubicBezTo>
                      <a:pt x="214745" y="85436"/>
                      <a:pt x="129309" y="182418"/>
                      <a:pt x="87745" y="247073"/>
                    </a:cubicBezTo>
                    <a:cubicBezTo>
                      <a:pt x="46181" y="311728"/>
                      <a:pt x="0" y="353291"/>
                      <a:pt x="4618" y="441036"/>
                    </a:cubicBezTo>
                    <a:cubicBezTo>
                      <a:pt x="9236" y="528781"/>
                      <a:pt x="96981" y="671945"/>
                      <a:pt x="115454" y="773545"/>
                    </a:cubicBezTo>
                    <a:cubicBezTo>
                      <a:pt x="133927" y="875145"/>
                      <a:pt x="126999" y="965200"/>
                      <a:pt x="115454" y="1050636"/>
                    </a:cubicBezTo>
                    <a:cubicBezTo>
                      <a:pt x="103909" y="1136072"/>
                      <a:pt x="2309" y="1269999"/>
                      <a:pt x="46182" y="1286163"/>
                    </a:cubicBezTo>
                    <a:cubicBezTo>
                      <a:pt x="90055" y="1302327"/>
                      <a:pt x="304800" y="1196109"/>
                      <a:pt x="378691" y="1147618"/>
                    </a:cubicBezTo>
                    <a:cubicBezTo>
                      <a:pt x="452582" y="1099127"/>
                      <a:pt x="459509" y="1059872"/>
                      <a:pt x="489527" y="995218"/>
                    </a:cubicBezTo>
                    <a:cubicBezTo>
                      <a:pt x="519545" y="930564"/>
                      <a:pt x="547255" y="861291"/>
                      <a:pt x="558800" y="759691"/>
                    </a:cubicBezTo>
                    <a:cubicBezTo>
                      <a:pt x="570345" y="658091"/>
                      <a:pt x="598055" y="503382"/>
                      <a:pt x="558800" y="385618"/>
                    </a:cubicBezTo>
                    <a:cubicBezTo>
                      <a:pt x="519546" y="267854"/>
                      <a:pt x="371764" y="106218"/>
                      <a:pt x="323273" y="53109"/>
                    </a:cubicBezTo>
                    <a:cubicBezTo>
                      <a:pt x="274782" y="0"/>
                      <a:pt x="293255" y="20782"/>
                      <a:pt x="254000" y="53109"/>
                    </a:cubicBezTo>
                    <a:close/>
                  </a:path>
                </a:pathLst>
              </a:custGeom>
              <a:solidFill>
                <a:srgbClr val="948a54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>
                <a:off x="6381720" y="3732120"/>
                <a:ext cx="299880" cy="635040"/>
              </a:xfrm>
              <a:custGeom>
                <a:avLst/>
                <a:gdLst/>
                <a:ahLst/>
                <a:rect l="l" t="t" r="r" b="b"/>
                <a:pathLst>
                  <a:path w="394854" h="921327">
                    <a:moveTo>
                      <a:pt x="214746" y="57727"/>
                    </a:moveTo>
                    <a:cubicBezTo>
                      <a:pt x="166255" y="115454"/>
                      <a:pt x="41564" y="360218"/>
                      <a:pt x="20782" y="445654"/>
                    </a:cubicBezTo>
                    <a:cubicBezTo>
                      <a:pt x="0" y="531090"/>
                      <a:pt x="85437" y="505690"/>
                      <a:pt x="90055" y="570345"/>
                    </a:cubicBezTo>
                    <a:cubicBezTo>
                      <a:pt x="94673" y="635000"/>
                      <a:pt x="46182" y="778164"/>
                      <a:pt x="48491" y="833582"/>
                    </a:cubicBezTo>
                    <a:cubicBezTo>
                      <a:pt x="50800" y="889000"/>
                      <a:pt x="66965" y="900545"/>
                      <a:pt x="103910" y="902854"/>
                    </a:cubicBezTo>
                    <a:cubicBezTo>
                      <a:pt x="140855" y="905163"/>
                      <a:pt x="223982" y="921327"/>
                      <a:pt x="270164" y="847436"/>
                    </a:cubicBezTo>
                    <a:cubicBezTo>
                      <a:pt x="316346" y="773545"/>
                      <a:pt x="367146" y="549563"/>
                      <a:pt x="381000" y="459509"/>
                    </a:cubicBezTo>
                    <a:cubicBezTo>
                      <a:pt x="394854" y="369455"/>
                      <a:pt x="364836" y="367145"/>
                      <a:pt x="353291" y="307109"/>
                    </a:cubicBezTo>
                    <a:cubicBezTo>
                      <a:pt x="341746" y="247073"/>
                      <a:pt x="327891" y="145473"/>
                      <a:pt x="311728" y="99291"/>
                    </a:cubicBezTo>
                    <a:cubicBezTo>
                      <a:pt x="295565" y="53109"/>
                      <a:pt x="263237" y="0"/>
                      <a:pt x="214746" y="57727"/>
                    </a:cubicBezTo>
                    <a:close/>
                  </a:path>
                </a:pathLst>
              </a:custGeom>
              <a:solidFill>
                <a:srgbClr val="c4bd97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>
                <a:off x="6122880" y="4064040"/>
                <a:ext cx="322200" cy="350640"/>
              </a:xfrm>
              <a:custGeom>
                <a:avLst/>
                <a:gdLst/>
                <a:ahLst/>
                <a:rect l="l" t="t" r="r" b="b"/>
                <a:pathLst>
                  <a:path w="424872" h="510310">
                    <a:moveTo>
                      <a:pt x="320964" y="20782"/>
                    </a:moveTo>
                    <a:cubicBezTo>
                      <a:pt x="364837" y="0"/>
                      <a:pt x="411018" y="53109"/>
                      <a:pt x="417945" y="117764"/>
                    </a:cubicBezTo>
                    <a:cubicBezTo>
                      <a:pt x="424872" y="182419"/>
                      <a:pt x="404091" y="344055"/>
                      <a:pt x="362527" y="408710"/>
                    </a:cubicBezTo>
                    <a:cubicBezTo>
                      <a:pt x="320964" y="473365"/>
                      <a:pt x="228600" y="501074"/>
                      <a:pt x="168564" y="505692"/>
                    </a:cubicBezTo>
                    <a:cubicBezTo>
                      <a:pt x="108528" y="510310"/>
                      <a:pt x="4618" y="480292"/>
                      <a:pt x="2309" y="436419"/>
                    </a:cubicBezTo>
                    <a:cubicBezTo>
                      <a:pt x="0" y="392546"/>
                      <a:pt x="103909" y="314037"/>
                      <a:pt x="154709" y="242455"/>
                    </a:cubicBezTo>
                    <a:cubicBezTo>
                      <a:pt x="205509" y="170873"/>
                      <a:pt x="277091" y="41564"/>
                      <a:pt x="320964" y="20782"/>
                    </a:cubicBezTo>
                    <a:close/>
                  </a:path>
                </a:pathLst>
              </a:custGeom>
              <a:solidFill>
                <a:srgbClr val="c4bd97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Oval 42"/>
            <p:cNvSpPr/>
            <p:nvPr/>
          </p:nvSpPr>
          <p:spPr>
            <a:xfrm>
              <a:off x="5715000" y="3929040"/>
              <a:ext cx="71280" cy="357120"/>
            </a:xfrm>
            <a:prstGeom prst="ellips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7"/>
          <p:cNvGrpSpPr/>
          <p:nvPr/>
        </p:nvGrpSpPr>
        <p:grpSpPr>
          <a:xfrm>
            <a:off x="5653800" y="4285800"/>
            <a:ext cx="1613160" cy="2369520"/>
            <a:chOff x="5653800" y="4285800"/>
            <a:chExt cx="1613160" cy="2369520"/>
          </a:xfrm>
        </p:grpSpPr>
        <p:sp>
          <p:nvSpPr>
            <p:cNvPr id="99" name="TextBox 51"/>
            <p:cNvSpPr/>
            <p:nvPr/>
          </p:nvSpPr>
          <p:spPr>
            <a:xfrm>
              <a:off x="5653800" y="62870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Third ventr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Straight Arrow Connector 55"/>
            <p:cNvCxnSpPr>
              <a:endCxn id="97" idx="4"/>
            </p:cNvCxnSpPr>
            <p:nvPr/>
          </p:nvCxnSpPr>
          <p:spPr>
            <a:xfrm flipH="1" flipV="1">
              <a:off x="5749200" y="4285800"/>
              <a:ext cx="37080" cy="1929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99680" y="4357800"/>
            <a:ext cx="81867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is a large right sided haemorrhage in the region of the basal ganglia, specifically the putamen, which is the commonest site for hypertensive haemorrh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haemorrhage has ruptured into the ventricular system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midline structures are displaced to the lef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1792440" y="357120"/>
            <a:ext cx="5844960" cy="3619440"/>
          </a:xfrm>
          <a:prstGeom prst="rect">
            <a:avLst/>
          </a:prstGeom>
          <a:ln w="0">
            <a:noFill/>
          </a:ln>
        </p:spPr>
      </p:pic>
      <p:sp>
        <p:nvSpPr>
          <p:cNvPr id="103" name="Left Arrow 7"/>
          <p:cNvSpPr/>
          <p:nvPr/>
        </p:nvSpPr>
        <p:spPr>
          <a:xfrm>
            <a:off x="4572000" y="22147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5"/>
          <p:cNvCxnSpPr/>
          <p:nvPr/>
        </p:nvCxnSpPr>
        <p:spPr>
          <a:xfrm>
            <a:off x="3643200" y="1356840"/>
            <a:ext cx="215280" cy="500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" name="Straight Arrow Connector 8"/>
          <p:cNvCxnSpPr/>
          <p:nvPr/>
        </p:nvCxnSpPr>
        <p:spPr>
          <a:xfrm flipH="1">
            <a:off x="4714200" y="1428480"/>
            <a:ext cx="214920" cy="500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Straight Arrow Connector 10"/>
          <p:cNvCxnSpPr/>
          <p:nvPr/>
        </p:nvCxnSpPr>
        <p:spPr>
          <a:xfrm>
            <a:off x="3785760" y="2499840"/>
            <a:ext cx="5007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840" y="35676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year before her death the patient had a right-sided hemiparetic attack, which resolved complet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the left side in the region of the specimen in the region of the putamen there is a cystic lesion with brownish discolo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the scar of a previous cerebral haemorrhage, which probably accounts for that episo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5" descr=""/>
          <p:cNvPicPr/>
          <p:nvPr/>
        </p:nvPicPr>
        <p:blipFill>
          <a:blip r:embed="rId1"/>
          <a:stretch/>
        </p:blipFill>
        <p:spPr>
          <a:xfrm>
            <a:off x="2014560" y="2928960"/>
            <a:ext cx="5540400" cy="3432240"/>
          </a:xfrm>
          <a:prstGeom prst="rect">
            <a:avLst/>
          </a:prstGeom>
          <a:ln w="0">
            <a:noFill/>
          </a:ln>
        </p:spPr>
      </p:pic>
      <p:sp>
        <p:nvSpPr>
          <p:cNvPr id="109" name="Oval 7"/>
          <p:cNvSpPr/>
          <p:nvPr/>
        </p:nvSpPr>
        <p:spPr>
          <a:xfrm>
            <a:off x="2928960" y="4572000"/>
            <a:ext cx="914400" cy="9144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ypertension causes abnormalities in vessel wa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e brain, the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small penetrating arterioles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re affec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changes include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lipohyalinosis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fibrinoid necrosis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, which weakens the arteriolar walls. Minute aneurysms (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Charcot-Bouchard aneurysms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) are often formed. The arterioles are vulnerable to rup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is case a rupture has occurred in one of the penetrating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lenticulostriate branches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of the middle cerebral artery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ther common sites for hypertensive bleeds are the thalamus, pons and cerebellar hemisphe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8:25:47Z</dcterms:created>
  <dc:creator>New Win User</dc:creator>
  <dc:description/>
  <dc:language>en-US</dc:language>
  <cp:lastModifiedBy>Sam</cp:lastModifiedBy>
  <dcterms:modified xsi:type="dcterms:W3CDTF">2011-09-10T22:57:04Z</dcterms:modified>
  <cp:revision>122</cp:revision>
  <dc:subject/>
  <dc:title>Intracerebral haemorrhage</dc:title>
</cp:coreProperties>
</file>