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499-DD17-4DD2-9919-2C8081A8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9AC-2325-4239-BA78-71BDECE9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986-AFB8-4725-9575-6FB83C69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418-B41A-4B94-B2E3-98BC3089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C73-F0DA-4EAA-8B61-B0ECCE6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9B6-64CF-4318-BA6C-77AE2757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2A2-83ED-4AF3-ABE8-455E3329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91C-C8F6-4241-A43D-490B2927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69A-783C-4EA6-BA53-7075AB24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728-6885-417C-9AB1-25BE6802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185-E17C-4013-B367-418EA36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86E-794A-4045-BA2D-5AA9B49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B6F-DCA2-49A4-B3F4-48E8570C9247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Cirrhosis of the l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13 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 XVIII:viii: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IMG_0013_6.jpg"/>
          <p:cNvPicPr/>
          <p:nvPr/>
        </p:nvPicPr>
        <p:blipFill>
          <a:blip r:embed="rId1"/>
          <a:stretch/>
        </p:blipFill>
        <p:spPr>
          <a:xfrm>
            <a:off x="2843280" y="2176560"/>
            <a:ext cx="3241440" cy="1949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843280" y="3849840"/>
            <a:ext cx="647640" cy="22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429160" y="1009800"/>
            <a:ext cx="2936880" cy="4944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6840" y="999720"/>
            <a:ext cx="45435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fragment of cirrhotic liver was sampled by liver biops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Fibrous septae </a:t>
            </a:r>
            <a:r>
              <a:rPr b="0" lang="en-ZA" sz="2400" spc="-1" strike="noStrike">
                <a:solidFill>
                  <a:srgbClr val="d99694"/>
                </a:solidFill>
                <a:latin typeface="Calibri"/>
              </a:rPr>
              <a:t>(staining red)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encircle regenerative nodules of liver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16"/>
          <p:cNvGrpSpPr/>
          <p:nvPr/>
        </p:nvGrpSpPr>
        <p:grpSpPr>
          <a:xfrm>
            <a:off x="5611680" y="1138320"/>
            <a:ext cx="2382840" cy="4984560"/>
            <a:chOff x="5611680" y="1138320"/>
            <a:chExt cx="2382840" cy="4984560"/>
          </a:xfrm>
        </p:grpSpPr>
        <p:sp>
          <p:nvSpPr>
            <p:cNvPr id="87" name="Freeform 5"/>
            <p:cNvSpPr/>
            <p:nvPr/>
          </p:nvSpPr>
          <p:spPr>
            <a:xfrm>
              <a:off x="7232760" y="1635120"/>
              <a:ext cx="620640" cy="1299960"/>
            </a:xfrm>
            <a:custGeom>
              <a:avLst/>
              <a:gdLst/>
              <a:ahLst/>
              <a:rect l="l" t="t" r="r" b="b"/>
              <a:pathLst>
                <a:path w="621146" h="1300018">
                  <a:moveTo>
                    <a:pt x="180109" y="0"/>
                  </a:moveTo>
                  <a:cubicBezTo>
                    <a:pt x="117763" y="85436"/>
                    <a:pt x="55418" y="170873"/>
                    <a:pt x="27709" y="263237"/>
                  </a:cubicBezTo>
                  <a:cubicBezTo>
                    <a:pt x="0" y="355601"/>
                    <a:pt x="9236" y="461818"/>
                    <a:pt x="13854" y="554182"/>
                  </a:cubicBezTo>
                  <a:cubicBezTo>
                    <a:pt x="18472" y="646546"/>
                    <a:pt x="25400" y="734292"/>
                    <a:pt x="55418" y="817419"/>
                  </a:cubicBezTo>
                  <a:cubicBezTo>
                    <a:pt x="85436" y="900546"/>
                    <a:pt x="110836" y="979055"/>
                    <a:pt x="193963" y="1052946"/>
                  </a:cubicBezTo>
                  <a:cubicBezTo>
                    <a:pt x="277090" y="1126837"/>
                    <a:pt x="487218" y="1221510"/>
                    <a:pt x="554182" y="1260764"/>
                  </a:cubicBezTo>
                  <a:cubicBezTo>
                    <a:pt x="621146" y="1300018"/>
                    <a:pt x="595745" y="1288473"/>
                    <a:pt x="595745" y="1288473"/>
                  </a:cubicBezTo>
                  <a:lnTo>
                    <a:pt x="595745" y="1288473"/>
                  </a:lnTo>
                </a:path>
              </a:pathLst>
            </a:custGeom>
            <a:noFill/>
            <a:ln w="284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"/>
            <p:cNvSpPr/>
            <p:nvPr/>
          </p:nvSpPr>
          <p:spPr>
            <a:xfrm>
              <a:off x="6068880" y="2941560"/>
              <a:ext cx="1773360" cy="314280"/>
            </a:xfrm>
            <a:custGeom>
              <a:avLst/>
              <a:gdLst/>
              <a:ahLst/>
              <a:rect l="l" t="t" r="r" b="b"/>
              <a:pathLst>
                <a:path w="1773382" h="314036">
                  <a:moveTo>
                    <a:pt x="0" y="203200"/>
                  </a:moveTo>
                  <a:cubicBezTo>
                    <a:pt x="72736" y="136236"/>
                    <a:pt x="145473" y="69272"/>
                    <a:pt x="207818" y="36945"/>
                  </a:cubicBezTo>
                  <a:cubicBezTo>
                    <a:pt x="270163" y="4618"/>
                    <a:pt x="316346" y="0"/>
                    <a:pt x="374073" y="9236"/>
                  </a:cubicBezTo>
                  <a:cubicBezTo>
                    <a:pt x="431800" y="18472"/>
                    <a:pt x="484909" y="87745"/>
                    <a:pt x="554182" y="92363"/>
                  </a:cubicBezTo>
                  <a:cubicBezTo>
                    <a:pt x="623455" y="96981"/>
                    <a:pt x="683491" y="20781"/>
                    <a:pt x="789709" y="36945"/>
                  </a:cubicBezTo>
                  <a:cubicBezTo>
                    <a:pt x="895927" y="53109"/>
                    <a:pt x="1071418" y="152400"/>
                    <a:pt x="1191491" y="189345"/>
                  </a:cubicBezTo>
                  <a:cubicBezTo>
                    <a:pt x="1311564" y="226290"/>
                    <a:pt x="1510145" y="258618"/>
                    <a:pt x="1510145" y="258618"/>
                  </a:cubicBezTo>
                  <a:lnTo>
                    <a:pt x="1773382" y="314036"/>
                  </a:lnTo>
                </a:path>
              </a:pathLst>
            </a:custGeom>
            <a:noFill/>
            <a:ln w="284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6885000" y="4641840"/>
              <a:ext cx="1066680" cy="1454040"/>
            </a:xfrm>
            <a:custGeom>
              <a:avLst/>
              <a:gdLst/>
              <a:ahLst/>
              <a:rect l="l" t="t" r="r" b="b"/>
              <a:pathLst>
                <a:path w="1066800" h="1454727">
                  <a:moveTo>
                    <a:pt x="1066800" y="0"/>
                  </a:moveTo>
                  <a:cubicBezTo>
                    <a:pt x="877454" y="30018"/>
                    <a:pt x="688109" y="60036"/>
                    <a:pt x="554182" y="138545"/>
                  </a:cubicBezTo>
                  <a:cubicBezTo>
                    <a:pt x="420255" y="217054"/>
                    <a:pt x="346363" y="350981"/>
                    <a:pt x="263236" y="471054"/>
                  </a:cubicBezTo>
                  <a:cubicBezTo>
                    <a:pt x="180109" y="591127"/>
                    <a:pt x="96982" y="741218"/>
                    <a:pt x="55418" y="858982"/>
                  </a:cubicBezTo>
                  <a:cubicBezTo>
                    <a:pt x="13855" y="976746"/>
                    <a:pt x="0" y="1087582"/>
                    <a:pt x="13855" y="1177636"/>
                  </a:cubicBezTo>
                  <a:cubicBezTo>
                    <a:pt x="27710" y="1267690"/>
                    <a:pt x="103910" y="1353127"/>
                    <a:pt x="138546" y="1399309"/>
                  </a:cubicBezTo>
                  <a:cubicBezTo>
                    <a:pt x="173182" y="1445491"/>
                    <a:pt x="197427" y="1450109"/>
                    <a:pt x="221673" y="1454727"/>
                  </a:cubicBezTo>
                </a:path>
              </a:pathLst>
            </a:custGeom>
            <a:noFill/>
            <a:ln w="284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5611680" y="1138320"/>
              <a:ext cx="1982880" cy="1071360"/>
            </a:xfrm>
            <a:custGeom>
              <a:avLst/>
              <a:gdLst/>
              <a:ahLst/>
              <a:rect l="l" t="t" r="r" b="b"/>
              <a:pathLst>
                <a:path w="1983509" h="1071418">
                  <a:moveTo>
                    <a:pt x="0" y="399473"/>
                  </a:moveTo>
                  <a:cubicBezTo>
                    <a:pt x="109682" y="456045"/>
                    <a:pt x="219364" y="512618"/>
                    <a:pt x="304800" y="593436"/>
                  </a:cubicBezTo>
                  <a:cubicBezTo>
                    <a:pt x="390236" y="674254"/>
                    <a:pt x="417945" y="810491"/>
                    <a:pt x="512618" y="884382"/>
                  </a:cubicBezTo>
                  <a:cubicBezTo>
                    <a:pt x="607291" y="958273"/>
                    <a:pt x="794327" y="1009073"/>
                    <a:pt x="872836" y="1036782"/>
                  </a:cubicBezTo>
                  <a:cubicBezTo>
                    <a:pt x="951345" y="1064491"/>
                    <a:pt x="951346" y="1071418"/>
                    <a:pt x="983673" y="1050636"/>
                  </a:cubicBezTo>
                  <a:cubicBezTo>
                    <a:pt x="1016000" y="1029854"/>
                    <a:pt x="1062182" y="983673"/>
                    <a:pt x="1066800" y="912091"/>
                  </a:cubicBezTo>
                  <a:cubicBezTo>
                    <a:pt x="1071418" y="840509"/>
                    <a:pt x="990600" y="644236"/>
                    <a:pt x="1011382" y="621145"/>
                  </a:cubicBezTo>
                  <a:cubicBezTo>
                    <a:pt x="1032164" y="598054"/>
                    <a:pt x="1136073" y="725054"/>
                    <a:pt x="1191491" y="773545"/>
                  </a:cubicBezTo>
                  <a:cubicBezTo>
                    <a:pt x="1246909" y="822036"/>
                    <a:pt x="1302327" y="900546"/>
                    <a:pt x="1343891" y="912091"/>
                  </a:cubicBezTo>
                  <a:cubicBezTo>
                    <a:pt x="1385455" y="923636"/>
                    <a:pt x="1406237" y="898236"/>
                    <a:pt x="1440873" y="842818"/>
                  </a:cubicBezTo>
                  <a:cubicBezTo>
                    <a:pt x="1475509" y="787400"/>
                    <a:pt x="1528618" y="683491"/>
                    <a:pt x="1551709" y="579582"/>
                  </a:cubicBezTo>
                  <a:cubicBezTo>
                    <a:pt x="1574800" y="475673"/>
                    <a:pt x="1577109" y="314036"/>
                    <a:pt x="1579418" y="219363"/>
                  </a:cubicBezTo>
                  <a:cubicBezTo>
                    <a:pt x="1581727" y="124690"/>
                    <a:pt x="1512455" y="0"/>
                    <a:pt x="1565564" y="11545"/>
                  </a:cubicBezTo>
                  <a:cubicBezTo>
                    <a:pt x="1618673" y="23090"/>
                    <a:pt x="1831109" y="237836"/>
                    <a:pt x="1898073" y="288636"/>
                  </a:cubicBezTo>
                  <a:cubicBezTo>
                    <a:pt x="1965037" y="339436"/>
                    <a:pt x="1983509" y="281709"/>
                    <a:pt x="1967345" y="316345"/>
                  </a:cubicBezTo>
                  <a:cubicBezTo>
                    <a:pt x="1951181" y="350981"/>
                    <a:pt x="1876136" y="423717"/>
                    <a:pt x="1801091" y="496454"/>
                  </a:cubicBezTo>
                </a:path>
              </a:pathLst>
            </a:custGeom>
            <a:noFill/>
            <a:ln w="284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6109920" y="4091040"/>
              <a:ext cx="1884600" cy="715680"/>
            </a:xfrm>
            <a:custGeom>
              <a:avLst/>
              <a:gdLst/>
              <a:ahLst/>
              <a:rect l="l" t="t" r="r" b="b"/>
              <a:pathLst>
                <a:path w="1884218" h="715818">
                  <a:moveTo>
                    <a:pt x="0" y="715818"/>
                  </a:moveTo>
                  <a:cubicBezTo>
                    <a:pt x="142009" y="688109"/>
                    <a:pt x="284018" y="660400"/>
                    <a:pt x="401781" y="632691"/>
                  </a:cubicBezTo>
                  <a:cubicBezTo>
                    <a:pt x="519544" y="604982"/>
                    <a:pt x="614217" y="565728"/>
                    <a:pt x="706581" y="549564"/>
                  </a:cubicBezTo>
                  <a:cubicBezTo>
                    <a:pt x="798945" y="533400"/>
                    <a:pt x="884381" y="574964"/>
                    <a:pt x="955963" y="535709"/>
                  </a:cubicBezTo>
                  <a:cubicBezTo>
                    <a:pt x="1027545" y="496454"/>
                    <a:pt x="1094508" y="378691"/>
                    <a:pt x="1136072" y="314036"/>
                  </a:cubicBezTo>
                  <a:cubicBezTo>
                    <a:pt x="1177636" y="249381"/>
                    <a:pt x="1156854" y="198582"/>
                    <a:pt x="1205345" y="147782"/>
                  </a:cubicBezTo>
                  <a:cubicBezTo>
                    <a:pt x="1253836" y="96982"/>
                    <a:pt x="1397000" y="0"/>
                    <a:pt x="1427018" y="9236"/>
                  </a:cubicBezTo>
                  <a:cubicBezTo>
                    <a:pt x="1457036" y="18472"/>
                    <a:pt x="1353127" y="166255"/>
                    <a:pt x="1385454" y="203200"/>
                  </a:cubicBezTo>
                  <a:cubicBezTo>
                    <a:pt x="1417781" y="240146"/>
                    <a:pt x="1537854" y="237836"/>
                    <a:pt x="1620981" y="230909"/>
                  </a:cubicBezTo>
                  <a:cubicBezTo>
                    <a:pt x="1704108" y="223982"/>
                    <a:pt x="1884218" y="161636"/>
                    <a:pt x="1884218" y="161636"/>
                  </a:cubicBezTo>
                  <a:lnTo>
                    <a:pt x="1884218" y="161636"/>
                  </a:lnTo>
                </a:path>
              </a:pathLst>
            </a:custGeom>
            <a:noFill/>
            <a:ln w="284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5943240" y="5662800"/>
              <a:ext cx="969840" cy="460080"/>
            </a:xfrm>
            <a:custGeom>
              <a:avLst/>
              <a:gdLst/>
              <a:ahLst/>
              <a:rect l="l" t="t" r="r" b="b"/>
              <a:pathLst>
                <a:path w="969818" h="461818">
                  <a:moveTo>
                    <a:pt x="0" y="101600"/>
                  </a:moveTo>
                  <a:cubicBezTo>
                    <a:pt x="131618" y="72736"/>
                    <a:pt x="263236" y="43872"/>
                    <a:pt x="360218" y="32327"/>
                  </a:cubicBezTo>
                  <a:cubicBezTo>
                    <a:pt x="457200" y="20782"/>
                    <a:pt x="501073" y="0"/>
                    <a:pt x="581891" y="32327"/>
                  </a:cubicBezTo>
                  <a:cubicBezTo>
                    <a:pt x="662709" y="64654"/>
                    <a:pt x="780473" y="154709"/>
                    <a:pt x="845127" y="226291"/>
                  </a:cubicBezTo>
                  <a:cubicBezTo>
                    <a:pt x="909782" y="297873"/>
                    <a:pt x="939800" y="379845"/>
                    <a:pt x="969818" y="461818"/>
                  </a:cubicBezTo>
                </a:path>
              </a:pathLst>
            </a:custGeom>
            <a:noFill/>
            <a:ln w="2844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5429520" y="428040"/>
            <a:ext cx="3239640" cy="5864400"/>
            <a:chOff x="5429520" y="428040"/>
            <a:chExt cx="3239640" cy="5864400"/>
          </a:xfrm>
        </p:grpSpPr>
        <p:sp>
          <p:nvSpPr>
            <p:cNvPr id="94" name="Oval 13"/>
            <p:cNvSpPr/>
            <p:nvPr/>
          </p:nvSpPr>
          <p:spPr>
            <a:xfrm rot="21045600">
              <a:off x="5866920" y="3105000"/>
              <a:ext cx="2129040" cy="1396800"/>
            </a:xfrm>
            <a:prstGeom prst="ellipse">
              <a:avLst/>
            </a:prstGeom>
            <a:noFill/>
            <a:ln w="255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4"/>
            <p:cNvSpPr/>
            <p:nvPr/>
          </p:nvSpPr>
          <p:spPr>
            <a:xfrm rot="21045600">
              <a:off x="6919560" y="4772160"/>
              <a:ext cx="1647720" cy="1396800"/>
            </a:xfrm>
            <a:prstGeom prst="ellipse">
              <a:avLst/>
            </a:prstGeom>
            <a:noFill/>
            <a:ln w="255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5"/>
            <p:cNvSpPr/>
            <p:nvPr/>
          </p:nvSpPr>
          <p:spPr>
            <a:xfrm rot="21045600">
              <a:off x="5530320" y="555480"/>
              <a:ext cx="1701720" cy="1396800"/>
            </a:xfrm>
            <a:prstGeom prst="ellipse">
              <a:avLst/>
            </a:prstGeom>
            <a:noFill/>
            <a:ln w="255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429160" y="1009800"/>
            <a:ext cx="2936880" cy="4944960"/>
          </a:xfrm>
          <a:prstGeom prst="rect">
            <a:avLst/>
          </a:prstGeom>
          <a:ln w="0">
            <a:noFill/>
          </a:ln>
        </p:spPr>
      </p:pic>
      <p:sp>
        <p:nvSpPr>
          <p:cNvPr id="98" name="Hexagon 2"/>
          <p:cNvSpPr/>
          <p:nvPr/>
        </p:nvSpPr>
        <p:spPr>
          <a:xfrm rot="5400000">
            <a:off x="5798160" y="2986560"/>
            <a:ext cx="1973160" cy="1657440"/>
          </a:xfrm>
          <a:prstGeom prst="hexagon">
            <a:avLst>
              <a:gd name="adj" fmla="val 24995"/>
              <a:gd name="vf" fmla="val 115470"/>
            </a:avLst>
          </a:prstGeom>
          <a:noFill/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6715080" y="3714840"/>
            <a:ext cx="200160" cy="142920"/>
          </a:xfrm>
          <a:prstGeom prst="ellipse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normal liver lobule structure is distor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ortal tracts have largely been obliterated by the fibros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 obstructed portal circulation leads to </a:t>
            </a:r>
            <a:r>
              <a:rPr b="0" i="1" lang="en-ZA" sz="2200" spc="-1" strike="noStrike">
                <a:solidFill>
                  <a:srgbClr val="000000"/>
                </a:solidFill>
                <a:latin typeface="Calibri"/>
              </a:rPr>
              <a:t>portal hypertension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central venule of each liver lobule has disappea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 disrupted lobular circulation leads to </a:t>
            </a:r>
            <a:r>
              <a:rPr b="0" i="1" lang="en-ZA" sz="2200" spc="-1" strike="noStrike">
                <a:solidFill>
                  <a:srgbClr val="000000"/>
                </a:solidFill>
                <a:latin typeface="Calibri"/>
              </a:rPr>
              <a:t>hepatic dysfunction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26"/>
          <p:cNvGrpSpPr/>
          <p:nvPr/>
        </p:nvGrpSpPr>
        <p:grpSpPr>
          <a:xfrm>
            <a:off x="5643720" y="2599920"/>
            <a:ext cx="2254680" cy="2093760"/>
            <a:chOff x="5643720" y="2599920"/>
            <a:chExt cx="2254680" cy="2093760"/>
          </a:xfrm>
        </p:grpSpPr>
        <p:grpSp>
          <p:nvGrpSpPr>
            <p:cNvPr id="102" name="Group 23"/>
            <p:cNvGrpSpPr/>
            <p:nvPr/>
          </p:nvGrpSpPr>
          <p:grpSpPr>
            <a:xfrm>
              <a:off x="6628320" y="2599920"/>
              <a:ext cx="531000" cy="303120"/>
              <a:chOff x="6628320" y="2599920"/>
              <a:chExt cx="531000" cy="303120"/>
            </a:xfrm>
          </p:grpSpPr>
          <p:sp>
            <p:nvSpPr>
              <p:cNvPr id="103" name="Oval 14"/>
              <p:cNvSpPr/>
              <p:nvPr/>
            </p:nvSpPr>
            <p:spPr>
              <a:xfrm>
                <a:off x="6684840" y="2801880"/>
                <a:ext cx="161640" cy="46080"/>
              </a:xfrm>
              <a:prstGeom prst="ellips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7"/>
              <p:cNvGrpSpPr/>
              <p:nvPr/>
            </p:nvGrpSpPr>
            <p:grpSpPr>
              <a:xfrm>
                <a:off x="6628320" y="2599920"/>
                <a:ext cx="531000" cy="303120"/>
                <a:chOff x="6628320" y="2599920"/>
                <a:chExt cx="531000" cy="303120"/>
              </a:xfrm>
            </p:grpSpPr>
            <p:sp>
              <p:nvSpPr>
                <p:cNvPr id="105" name="Oval 11"/>
                <p:cNvSpPr/>
                <p:nvPr/>
              </p:nvSpPr>
              <p:spPr>
                <a:xfrm>
                  <a:off x="6743520" y="2688840"/>
                  <a:ext cx="114120" cy="10116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Oval 16"/>
                <p:cNvSpPr/>
                <p:nvPr/>
              </p:nvSpPr>
              <p:spPr>
                <a:xfrm>
                  <a:off x="6916680" y="2744280"/>
                  <a:ext cx="160200" cy="45720"/>
                </a:xfrm>
                <a:prstGeom prst="ellipse">
                  <a:avLst/>
                </a:prstGeom>
                <a:noFill/>
                <a:ln w="25560">
                  <a:solidFill>
                    <a:srgbClr val="7793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Oval 20"/>
                <p:cNvSpPr/>
                <p:nvPr/>
              </p:nvSpPr>
              <p:spPr>
                <a:xfrm rot="20979000">
                  <a:off x="6643440" y="2643120"/>
                  <a:ext cx="500040" cy="216720"/>
                </a:xfrm>
                <a:prstGeom prst="ellipse">
                  <a:avLst/>
                </a:prstGeom>
                <a:noFill/>
                <a:ln w="25560">
                  <a:solidFill>
                    <a:srgbClr val="948a5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" name="Group 24"/>
            <p:cNvGrpSpPr/>
            <p:nvPr/>
          </p:nvGrpSpPr>
          <p:grpSpPr>
            <a:xfrm>
              <a:off x="7341120" y="4358160"/>
              <a:ext cx="557280" cy="335520"/>
              <a:chOff x="7341120" y="4358160"/>
              <a:chExt cx="557280" cy="335520"/>
            </a:xfrm>
          </p:grpSpPr>
          <p:sp>
            <p:nvSpPr>
              <p:cNvPr id="109" name="Oval 10"/>
              <p:cNvSpPr/>
              <p:nvPr/>
            </p:nvSpPr>
            <p:spPr>
              <a:xfrm>
                <a:off x="7635960" y="4492440"/>
                <a:ext cx="115920" cy="101520"/>
              </a:xfrm>
              <a:prstGeom prst="ellipse">
                <a:avLst/>
              </a:prstGeom>
              <a:noFill/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23"/>
              <p:cNvGrpSpPr/>
              <p:nvPr/>
            </p:nvGrpSpPr>
            <p:grpSpPr>
              <a:xfrm>
                <a:off x="7341120" y="4358160"/>
                <a:ext cx="557280" cy="335520"/>
                <a:chOff x="7341120" y="4358160"/>
                <a:chExt cx="557280" cy="335520"/>
              </a:xfrm>
            </p:grpSpPr>
            <p:sp>
              <p:nvSpPr>
                <p:cNvPr id="111" name="Oval 13"/>
                <p:cNvSpPr/>
                <p:nvPr/>
              </p:nvSpPr>
              <p:spPr>
                <a:xfrm>
                  <a:off x="7692840" y="4437000"/>
                  <a:ext cx="115920" cy="55440"/>
                </a:xfrm>
                <a:prstGeom prst="ellipse">
                  <a:avLst/>
                </a:prstGeom>
                <a:noFill/>
                <a:ln w="2556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15"/>
                <p:cNvSpPr/>
                <p:nvPr/>
              </p:nvSpPr>
              <p:spPr>
                <a:xfrm>
                  <a:off x="7405560" y="4549680"/>
                  <a:ext cx="162000" cy="44280"/>
                </a:xfrm>
                <a:prstGeom prst="ellipse">
                  <a:avLst/>
                </a:prstGeom>
                <a:noFill/>
                <a:ln w="25560">
                  <a:solidFill>
                    <a:srgbClr val="7793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21"/>
                <p:cNvSpPr/>
                <p:nvPr/>
              </p:nvSpPr>
              <p:spPr>
                <a:xfrm rot="20602800">
                  <a:off x="7357680" y="4428720"/>
                  <a:ext cx="523800" cy="193680"/>
                </a:xfrm>
                <a:prstGeom prst="ellipse">
                  <a:avLst/>
                </a:prstGeom>
                <a:noFill/>
                <a:ln w="25560">
                  <a:solidFill>
                    <a:srgbClr val="948a5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" name="Group 25"/>
            <p:cNvGrpSpPr/>
            <p:nvPr/>
          </p:nvGrpSpPr>
          <p:grpSpPr>
            <a:xfrm>
              <a:off x="5643720" y="4357800"/>
              <a:ext cx="357120" cy="182520"/>
              <a:chOff x="5643720" y="4357800"/>
              <a:chExt cx="357120" cy="182520"/>
            </a:xfrm>
          </p:grpSpPr>
          <p:sp>
            <p:nvSpPr>
              <p:cNvPr id="115" name="Oval 6"/>
              <p:cNvSpPr/>
              <p:nvPr/>
            </p:nvSpPr>
            <p:spPr>
              <a:xfrm rot="5400000">
                <a:off x="5767560" y="4427640"/>
                <a:ext cx="90360" cy="42840"/>
              </a:xfrm>
              <a:prstGeom prst="ellipse">
                <a:avLst/>
              </a:prstGeom>
              <a:noFill/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9"/>
              <p:cNvSpPr/>
              <p:nvPr/>
            </p:nvSpPr>
            <p:spPr>
              <a:xfrm rot="5400000">
                <a:off x="5836680" y="4450680"/>
                <a:ext cx="127080" cy="33120"/>
              </a:xfrm>
              <a:prstGeom prst="ellipse">
                <a:avLst/>
              </a:prstGeom>
              <a:noFill/>
              <a:ln w="25560">
                <a:solidFill>
                  <a:srgbClr val="7793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5400000">
                <a:off x="5683320" y="4427640"/>
                <a:ext cx="90360" cy="42840"/>
              </a:xfrm>
              <a:prstGeom prst="ellipse">
                <a:avLst/>
              </a:prstGeom>
              <a:noFill/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22"/>
              <p:cNvSpPr/>
              <p:nvPr/>
            </p:nvSpPr>
            <p:spPr>
              <a:xfrm>
                <a:off x="5643720" y="4357800"/>
                <a:ext cx="357120" cy="182520"/>
              </a:xfrm>
              <a:prstGeom prst="ellipse">
                <a:avLst/>
              </a:prstGeom>
              <a:noFill/>
              <a:ln w="25560">
                <a:solidFill>
                  <a:srgbClr val="948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A few notes on  </a:t>
            </a:r>
            <a:br>
              <a:rPr sz="4400"/>
            </a:b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hepatocellular carcinoma (HC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Content Placeholder 4" descr=""/>
          <p:cNvPicPr/>
          <p:nvPr/>
        </p:nvPicPr>
        <p:blipFill>
          <a:blip r:embed="rId1"/>
          <a:stretch/>
        </p:blipFill>
        <p:spPr>
          <a:xfrm>
            <a:off x="857160" y="4149720"/>
            <a:ext cx="3071880" cy="2048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CC often presents as a single large liver mass or may have a multifocal orig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t often but not always arises in a cirrhotic liv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Accumulation of DNA mutations during repeated cycles of regenerative cell division is an important factor in the pathogenesis of HCC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liv2.jpg"/>
          <p:cNvPicPr/>
          <p:nvPr/>
        </p:nvPicPr>
        <p:blipFill>
          <a:blip r:embed="rId2"/>
          <a:stretch/>
        </p:blipFill>
        <p:spPr>
          <a:xfrm>
            <a:off x="857160" y="2043000"/>
            <a:ext cx="3071880" cy="204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3419640" y="3865680"/>
            <a:ext cx="4870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Aetiology and local epidem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most important causes of both cirrhosis and HCC are alcohol and chronic viral hepatitis (B &amp; 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ub-Saharan Africa has historically had a high prevalence of hepatitis B (± 10%) and consequently a high incidence of HCC (29 per 100 000 in South Africa, 113 per 100 000 in Moçambique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this context HCC presents in young adults (20 - 40 years, more often male) who have acquired hepatitis B in childhood or even </a:t>
            </a: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in utero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inclusion of the hepatitis B vaccine in the childhood immunisation programme in South Africa since 1995 will almost certainly reduce viral cirrhosis and HCC over ti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Related specimens in the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Calibri"/>
              </a:rPr>
              <a:t>XVIII:viii:39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typical fatty liver from a patient with high alcohol intake. Early changes of cirrhosis were seen on microscop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Calibri"/>
              </a:rPr>
              <a:t>XVIII:viii:34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edominantly micronodular cirrhosis typical of alcoholic liver dise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Calibri"/>
              </a:rPr>
              <a:t>XVIII:ix:4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patocellular carcinoma occurring as a single large nodule with a few daughter nod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liv1.jpg"/>
          <p:cNvPicPr/>
          <p:nvPr/>
        </p:nvPicPr>
        <p:blipFill>
          <a:blip r:embed="rId1"/>
          <a:stretch/>
        </p:blipFill>
        <p:spPr>
          <a:xfrm>
            <a:off x="6143760" y="3214800"/>
            <a:ext cx="1888920" cy="1428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iv2.jpg"/>
          <p:cNvPicPr/>
          <p:nvPr/>
        </p:nvPicPr>
        <p:blipFill>
          <a:blip r:embed="rId2"/>
          <a:stretch/>
        </p:blipFill>
        <p:spPr>
          <a:xfrm>
            <a:off x="6143760" y="4714920"/>
            <a:ext cx="2100240" cy="1396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liv3yellow.jpg"/>
          <p:cNvPicPr/>
          <p:nvPr/>
        </p:nvPicPr>
        <p:blipFill>
          <a:blip r:embed="rId3"/>
          <a:stretch/>
        </p:blipFill>
        <p:spPr>
          <a:xfrm>
            <a:off x="6143760" y="1428840"/>
            <a:ext cx="1758960" cy="173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7397640" y="1484280"/>
            <a:ext cx="487440" cy="171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7550280" y="4481640"/>
            <a:ext cx="487080" cy="171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6173640" y="5921280"/>
            <a:ext cx="48600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References &amp; 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Kew, MC. Progress towards the comprehensive control of hepatitis B in Africa: a view from South Africa. Gut, 1996; 38 (Suppl 2):S31-S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o reinforce what you have learned here, look at the first 19 images of the section on Hepatic Pathology in WebPath      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http://library.med.utah.edu/WebPath/LIVEHTML/LIVERIDX.html#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643280" y="2004840"/>
            <a:ext cx="4384800" cy="250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" descr="IMG_0013_6.jpg"/>
          <p:cNvPicPr/>
          <p:nvPr/>
        </p:nvPicPr>
        <p:blipFill>
          <a:blip r:embed="rId2"/>
          <a:stretch/>
        </p:blipFill>
        <p:spPr>
          <a:xfrm>
            <a:off x="398520" y="2000160"/>
            <a:ext cx="4173480" cy="251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396720" y="4281480"/>
            <a:ext cx="646200" cy="2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atient was a 31 year old coloured man with a 3 month history of abdominal swelling, epigastric pain, weight loss and jaund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drank 3 bottles of wine a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n examination he had gross ascites and hepatomega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week after admission he had an episode of haematemesis and gastroscopy showed that he was bleeding from oesophageal vari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espite sclerotherapy he had repeated episodes of bleeding and developed signs of liver and respiratory fail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Some laboratory investig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hemistry</a:t>
            </a: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lbumin 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ST and ALP 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otal and conjugated bilirubin 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lpha-foeto protein ↑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Vir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patitis B surface antigen 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Pat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28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t autopsy the liver weighed 2530g (normal ± 1500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t is diffusely riddled with nodules, compatible with cirrh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IMG_0013_6.jpg"/>
          <p:cNvPicPr/>
          <p:nvPr/>
        </p:nvPicPr>
        <p:blipFill>
          <a:blip r:embed="rId1"/>
          <a:stretch/>
        </p:blipFill>
        <p:spPr>
          <a:xfrm>
            <a:off x="1785960" y="2500200"/>
            <a:ext cx="5429160" cy="32673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3"/>
          <p:cNvGrpSpPr/>
          <p:nvPr/>
        </p:nvGrpSpPr>
        <p:grpSpPr>
          <a:xfrm>
            <a:off x="1937880" y="3000240"/>
            <a:ext cx="4689360" cy="368280"/>
            <a:chOff x="1937880" y="3000240"/>
            <a:chExt cx="4689360" cy="368280"/>
          </a:xfrm>
        </p:grpSpPr>
        <p:sp>
          <p:nvSpPr>
            <p:cNvPr id="58" name="TextBox 8"/>
            <p:cNvSpPr/>
            <p:nvPr/>
          </p:nvSpPr>
          <p:spPr>
            <a:xfrm>
              <a:off x="5507640" y="30002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Calibri"/>
                </a:rPr>
                <a:t>Right l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9"/>
            <p:cNvSpPr/>
            <p:nvPr/>
          </p:nvSpPr>
          <p:spPr>
            <a:xfrm>
              <a:off x="1937880" y="300024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Calibri"/>
                </a:rPr>
                <a:t>Left l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794120" y="4336920"/>
            <a:ext cx="2166840" cy="1125720"/>
            <a:chOff x="4794120" y="4336920"/>
            <a:chExt cx="2166840" cy="1125720"/>
          </a:xfrm>
        </p:grpSpPr>
        <p:sp>
          <p:nvSpPr>
            <p:cNvPr id="61" name="TextBox 7"/>
            <p:cNvSpPr/>
            <p:nvPr/>
          </p:nvSpPr>
          <p:spPr>
            <a:xfrm>
              <a:off x="5533560" y="4786200"/>
              <a:ext cx="142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c4bd97"/>
                  </a:solidFill>
                  <a:latin typeface="Calibri"/>
                </a:rPr>
                <a:t>Gall bladd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c4bd97"/>
                  </a:solidFill>
                  <a:latin typeface="Calibri"/>
                </a:rPr>
                <a:t>fos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4794120" y="4336920"/>
              <a:ext cx="723960" cy="1125720"/>
            </a:xfrm>
            <a:custGeom>
              <a:avLst/>
              <a:gdLst/>
              <a:ahLst/>
              <a:rect l="l" t="t" r="r" b="b"/>
              <a:pathLst>
                <a:path w="725055" h="1126836">
                  <a:moveTo>
                    <a:pt x="0" y="138545"/>
                  </a:moveTo>
                  <a:cubicBezTo>
                    <a:pt x="60036" y="236681"/>
                    <a:pt x="120073" y="334818"/>
                    <a:pt x="152400" y="429491"/>
                  </a:cubicBezTo>
                  <a:cubicBezTo>
                    <a:pt x="184727" y="524164"/>
                    <a:pt x="187036" y="625764"/>
                    <a:pt x="193963" y="706582"/>
                  </a:cubicBezTo>
                  <a:cubicBezTo>
                    <a:pt x="200890" y="787400"/>
                    <a:pt x="175490" y="858982"/>
                    <a:pt x="193963" y="914400"/>
                  </a:cubicBezTo>
                  <a:cubicBezTo>
                    <a:pt x="212436" y="969818"/>
                    <a:pt x="251691" y="1006764"/>
                    <a:pt x="304800" y="1039091"/>
                  </a:cubicBezTo>
                  <a:cubicBezTo>
                    <a:pt x="357909" y="1071418"/>
                    <a:pt x="445654" y="1126836"/>
                    <a:pt x="512618" y="1108363"/>
                  </a:cubicBezTo>
                  <a:cubicBezTo>
                    <a:pt x="579582" y="1089890"/>
                    <a:pt x="688109" y="1025236"/>
                    <a:pt x="706582" y="928254"/>
                  </a:cubicBezTo>
                  <a:cubicBezTo>
                    <a:pt x="725055" y="831272"/>
                    <a:pt x="676563" y="611908"/>
                    <a:pt x="623454" y="526472"/>
                  </a:cubicBezTo>
                  <a:cubicBezTo>
                    <a:pt x="570345" y="441036"/>
                    <a:pt x="457200" y="457200"/>
                    <a:pt x="387927" y="415636"/>
                  </a:cubicBezTo>
                  <a:cubicBezTo>
                    <a:pt x="318654" y="374072"/>
                    <a:pt x="258618" y="346364"/>
                    <a:pt x="207818" y="277091"/>
                  </a:cubicBezTo>
                  <a:cubicBezTo>
                    <a:pt x="157018" y="207818"/>
                    <a:pt x="83127" y="0"/>
                    <a:pt x="83127" y="0"/>
                  </a:cubicBezTo>
                  <a:lnTo>
                    <a:pt x="83127" y="0"/>
                  </a:lnTo>
                </a:path>
              </a:pathLst>
            </a:custGeom>
            <a:noFill/>
            <a:ln w="25560">
              <a:solidFill>
                <a:srgbClr val="c4bd9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11"/>
          <p:cNvSpPr/>
          <p:nvPr/>
        </p:nvSpPr>
        <p:spPr>
          <a:xfrm>
            <a:off x="3295440" y="58579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Calibri"/>
              </a:rPr>
              <a:t>Inferior view of the 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3645360" y="357192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ffffff"/>
                </a:solidFill>
                <a:latin typeface="Calibri"/>
              </a:rPr>
              <a:t>Quad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ffffff"/>
                </a:solidFill>
                <a:latin typeface="Calibri"/>
              </a:rPr>
              <a:t>l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4553280" y="3566880"/>
            <a:ext cx="2433240" cy="789840"/>
            <a:chOff x="4553280" y="3566880"/>
            <a:chExt cx="2433240" cy="789840"/>
          </a:xfrm>
        </p:grpSpPr>
        <p:sp>
          <p:nvSpPr>
            <p:cNvPr id="66" name="Oval 15"/>
            <p:cNvSpPr/>
            <p:nvPr/>
          </p:nvSpPr>
          <p:spPr>
            <a:xfrm rot="1464000">
              <a:off x="4677840" y="3605040"/>
              <a:ext cx="331560" cy="675000"/>
            </a:xfrm>
            <a:prstGeom prst="ellipse">
              <a:avLst/>
            </a:prstGeom>
            <a:noFill/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6"/>
            <p:cNvSpPr/>
            <p:nvPr/>
          </p:nvSpPr>
          <p:spPr>
            <a:xfrm>
              <a:off x="5147640" y="3714120"/>
              <a:ext cx="18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4f81bd"/>
                  </a:solidFill>
                  <a:latin typeface="Calibri"/>
                </a:rPr>
                <a:t>Intra-hepat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4f81bd"/>
                  </a:solidFill>
                  <a:latin typeface="Calibri"/>
                </a:rPr>
                <a:t>inferior vena ca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6" descr=""/>
          <p:cNvPicPr/>
          <p:nvPr/>
        </p:nvPicPr>
        <p:blipFill>
          <a:blip r:embed="rId2"/>
          <a:stretch/>
        </p:blipFill>
        <p:spPr>
          <a:xfrm>
            <a:off x="1785960" y="5538960"/>
            <a:ext cx="6476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000080" y="2176560"/>
            <a:ext cx="6728040" cy="3840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85840" y="571680"/>
            <a:ext cx="850104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n the cut surface it can be seen that the nodules are mostly &gt;3mm and up to 1cm in size, so this is predominantly a macronodular cirrh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224000" y="1571760"/>
            <a:ext cx="642924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0004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 close up of an area in the right lobe shows that quite a few nodules have a suspicious fleshy appea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9"/>
          <p:cNvGrpSpPr/>
          <p:nvPr/>
        </p:nvGrpSpPr>
        <p:grpSpPr>
          <a:xfrm>
            <a:off x="2786040" y="1856880"/>
            <a:ext cx="2319120" cy="2769480"/>
            <a:chOff x="2786040" y="1856880"/>
            <a:chExt cx="2319120" cy="2769480"/>
          </a:xfrm>
        </p:grpSpPr>
        <p:grpSp>
          <p:nvGrpSpPr>
            <p:cNvPr id="74" name="Group 7"/>
            <p:cNvGrpSpPr/>
            <p:nvPr/>
          </p:nvGrpSpPr>
          <p:grpSpPr>
            <a:xfrm>
              <a:off x="2786040" y="1856880"/>
              <a:ext cx="2319120" cy="1391040"/>
              <a:chOff x="2786040" y="1856880"/>
              <a:chExt cx="2319120" cy="1391040"/>
            </a:xfrm>
          </p:grpSpPr>
          <p:sp>
            <p:nvSpPr>
              <p:cNvPr id="75" name="Right Arrow 4"/>
              <p:cNvSpPr/>
              <p:nvPr/>
            </p:nvSpPr>
            <p:spPr>
              <a:xfrm flipV="1" rot="1930800">
                <a:off x="2762280" y="1977480"/>
                <a:ext cx="466560" cy="45720"/>
              </a:xfrm>
              <a:prstGeom prst="rightArrow">
                <a:avLst>
                  <a:gd name="adj1" fmla="val 50000"/>
                  <a:gd name="adj2" fmla="val 50315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ight Arrow 5"/>
              <p:cNvSpPr/>
              <p:nvPr/>
            </p:nvSpPr>
            <p:spPr>
              <a:xfrm rot="1930200">
                <a:off x="2969640" y="3087720"/>
                <a:ext cx="442800" cy="45720"/>
              </a:xfrm>
              <a:prstGeom prst="rightArrow">
                <a:avLst>
                  <a:gd name="adj1" fmla="val 50000"/>
                  <a:gd name="adj2" fmla="val 50353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ight Arrow 6"/>
              <p:cNvSpPr/>
              <p:nvPr/>
            </p:nvSpPr>
            <p:spPr>
              <a:xfrm rot="1930200">
                <a:off x="4694400" y="2611440"/>
                <a:ext cx="431640" cy="45720"/>
              </a:xfrm>
              <a:prstGeom prst="rightArrow">
                <a:avLst>
                  <a:gd name="adj1" fmla="val 50000"/>
                  <a:gd name="adj2" fmla="val 50352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Right Arrow 8"/>
            <p:cNvSpPr/>
            <p:nvPr/>
          </p:nvSpPr>
          <p:spPr>
            <a:xfrm rot="1930200">
              <a:off x="3908520" y="4469040"/>
              <a:ext cx="431640" cy="45720"/>
            </a:xfrm>
            <a:prstGeom prst="rightArrow">
              <a:avLst>
                <a:gd name="adj1" fmla="val 50000"/>
                <a:gd name="adj2" fmla="val 50352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Hist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icroscopy confirmed the macroscopic appearance of cirrh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addition there was extensive replacement by poorly differentiated hepatocellular carcino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A few notes on cirrhos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Cirrhosis is a response to </a:t>
            </a:r>
            <a:r>
              <a:rPr b="0" i="1" lang="en-ZA" sz="2200" spc="-1" strike="noStrike">
                <a:solidFill>
                  <a:srgbClr val="000000"/>
                </a:solidFill>
                <a:latin typeface="Calibri"/>
              </a:rPr>
              <a:t>diffuse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 injury of the liver parenchy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It is characterised by two main proces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Calibri"/>
              </a:rPr>
              <a:t>constrictive fibrous scarring (</a:t>
            </a:r>
            <a:r>
              <a:rPr b="1" lang="en-ZA" sz="1900" spc="-1" strike="noStrike">
                <a:solidFill>
                  <a:srgbClr val="000000"/>
                </a:solidFill>
                <a:latin typeface="Calibri"/>
              </a:rPr>
              <a:t>fibrosis</a:t>
            </a:r>
            <a:r>
              <a:rPr b="0" lang="en-ZA" sz="1900" spc="-1" strike="noStrike">
                <a:solidFill>
                  <a:srgbClr val="000000"/>
                </a:solidFill>
                <a:latin typeface="Calibri"/>
              </a:rPr>
              <a:t>) and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900" spc="-1" strike="noStrike">
                <a:solidFill>
                  <a:srgbClr val="000000"/>
                </a:solidFill>
                <a:latin typeface="Calibri"/>
              </a:rPr>
              <a:t>regenerative activity</a:t>
            </a:r>
            <a:r>
              <a:rPr b="0" lang="en-ZA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which together result in the  nodular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 architecture of the entire liver and its vasculature is disrupt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9" descr=""/>
          <p:cNvPicPr/>
          <p:nvPr/>
        </p:nvPicPr>
        <p:blipFill>
          <a:blip r:embed="rId1"/>
          <a:stretch/>
        </p:blipFill>
        <p:spPr>
          <a:xfrm>
            <a:off x="457200" y="2709720"/>
            <a:ext cx="40384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09:44:38Z</dcterms:created>
  <dc:creator>New Win User</dc:creator>
  <dc:description/>
  <dc:language>en-US</dc:language>
  <cp:lastModifiedBy>Sam</cp:lastModifiedBy>
  <dcterms:modified xsi:type="dcterms:W3CDTF">2011-09-10T21:59:31Z</dcterms:modified>
  <cp:revision>178</cp:revision>
  <dc:subject/>
  <dc:title>Cirrhosis</dc:title>
</cp:coreProperties>
</file>