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520-2AC3-4CA8-8CB9-0D37B008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A60-EF72-41E3-A330-81F194D8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34C-AF54-4F86-A678-257F88F8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9B4-C7DC-4C1A-A405-F951EA9E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1BD-8093-48AA-A412-93DA5F3C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2BA-5328-4C75-9A3C-BCFADBE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9E6-1C40-4B86-ACA5-25B0C0D4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F7E-054E-49BC-B2C5-1350A3B1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432-A863-4DBA-BE6C-785E5BA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D84-6995-4F7F-AADE-C449175E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983-D733-4260-8376-11C2387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DDD-3356-4063-A4B4-593B4DD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8727-7B87-45C9-B22C-6F3005B638F5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Tuberculous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5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500" spc="-1" strike="noStrike">
                <a:solidFill>
                  <a:srgbClr val="898989"/>
                </a:solidFill>
                <a:latin typeface="Calibri"/>
              </a:rPr>
              <a:t>Case  10  2009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500" spc="-1" strike="noStrike">
                <a:solidFill>
                  <a:srgbClr val="898989"/>
                </a:solidFill>
                <a:latin typeface="Calibri"/>
              </a:rPr>
              <a:t>Ref.  PM243/86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IMG_0005_2.tif"/>
          <p:cNvPicPr/>
          <p:nvPr/>
        </p:nvPicPr>
        <p:blipFill>
          <a:blip r:embed="rId1"/>
          <a:srcRect l="0" t="0" r="44022" b="0"/>
          <a:stretch/>
        </p:blipFill>
        <p:spPr>
          <a:xfrm>
            <a:off x="3564000" y="2276640"/>
            <a:ext cx="1566720" cy="21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936960" y="4419720"/>
            <a:ext cx="82080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00400" y="999720"/>
            <a:ext cx="3686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Calibri"/>
              </a:rPr>
              <a:t>The mid-horizontal cut shows the resulting mild </a:t>
            </a:r>
            <a:r>
              <a:rPr b="1" lang="en-ZA" sz="2600" spc="-1" strike="noStrike">
                <a:solidFill>
                  <a:srgbClr val="000000"/>
                </a:solidFill>
                <a:latin typeface="Calibri"/>
              </a:rPr>
              <a:t>hydrocephalus</a:t>
            </a:r>
            <a:r>
              <a:rPr b="0" lang="en-ZA" sz="2600" spc="-1" strike="noStrike">
                <a:solidFill>
                  <a:srgbClr val="000000"/>
                </a:solidFill>
                <a:latin typeface="Calibri"/>
              </a:rPr>
              <a:t>:  there is slight dilation of the lateral ventric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Calibri"/>
              </a:rPr>
              <a:t>There is also necrotic disintegration of rostrum of corpus callosum, adjacent gyri and septum pellucid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609480" y="725400"/>
            <a:ext cx="4176720" cy="552132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1643040" y="1214280"/>
            <a:ext cx="1714680" cy="15004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2357280" y="2571840"/>
            <a:ext cx="785880" cy="1357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icroscopy showed severe cerebral oede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e meninges were numerous granulomata and a heavy lymphocytic infiltrate. Some necrotising granulomata extended into the cortical substance of the brain, seen macroscopically as tuber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Other cases of neurotubercu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857160" y="1646280"/>
            <a:ext cx="1928880" cy="2512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14280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XII:viii:19   Cerebral tuberculous abs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a case of disseminated tuberculosis with classical basal tuberculous meningitis and obstructive hydrocephal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ubject was a 2 year old coloured boy from poor socio-economic circum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had fever and convulsions and was drowsy and confus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also showed drooping of the right side of the mouth and a dragging left le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was thought to have a complicated meningitis, possibly tuberculo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then developed acute hydrocephal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t surgery very high c.s.f. pressure was noted and an external ventricular drain (“shunt”) was inser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had persistent hyponatraemia, probably due to inappropriate ADH secre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demised two weeks later despite anti-tuberculous and supportive treat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specimen comprises the lower half of the brain and portions of the lu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619280" y="1568520"/>
            <a:ext cx="59720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571320"/>
            <a:ext cx="3828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cut surface of the lung shows segmental consolidation due to extensive tuberculous pneumon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 well as enlarged hilar nodes with caseous necr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IMG_0005_2.tif"/>
          <p:cNvPicPr/>
          <p:nvPr/>
        </p:nvPicPr>
        <p:blipFill>
          <a:blip r:embed="rId1"/>
          <a:srcRect l="50005" t="0" r="0" b="2769"/>
          <a:stretch/>
        </p:blipFill>
        <p:spPr>
          <a:xfrm>
            <a:off x="4627440" y="523800"/>
            <a:ext cx="4016520" cy="59184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6"/>
          <p:cNvGrpSpPr/>
          <p:nvPr/>
        </p:nvGrpSpPr>
        <p:grpSpPr>
          <a:xfrm>
            <a:off x="4648320" y="514440"/>
            <a:ext cx="3268440" cy="5815080"/>
            <a:chOff x="4648320" y="514440"/>
            <a:chExt cx="3268440" cy="5815080"/>
          </a:xfrm>
        </p:grpSpPr>
        <p:sp>
          <p:nvSpPr>
            <p:cNvPr id="57" name="Freeform 11"/>
            <p:cNvSpPr/>
            <p:nvPr/>
          </p:nvSpPr>
          <p:spPr>
            <a:xfrm>
              <a:off x="5764320" y="514440"/>
              <a:ext cx="2152440" cy="3173400"/>
            </a:xfrm>
            <a:custGeom>
              <a:avLst/>
              <a:gdLst/>
              <a:ahLst/>
              <a:rect l="l" t="t" r="r" b="b"/>
              <a:pathLst>
                <a:path w="2153264" h="3173361">
                  <a:moveTo>
                    <a:pt x="238432" y="592394"/>
                  </a:moveTo>
                  <a:cubicBezTo>
                    <a:pt x="476864" y="405581"/>
                    <a:pt x="1243780" y="63910"/>
                    <a:pt x="1551038" y="31955"/>
                  </a:cubicBezTo>
                  <a:cubicBezTo>
                    <a:pt x="1858296" y="0"/>
                    <a:pt x="2010696" y="120446"/>
                    <a:pt x="2081980" y="400665"/>
                  </a:cubicBezTo>
                  <a:cubicBezTo>
                    <a:pt x="2153264" y="680884"/>
                    <a:pt x="2118851" y="1285568"/>
                    <a:pt x="1978741" y="1713271"/>
                  </a:cubicBezTo>
                  <a:cubicBezTo>
                    <a:pt x="1838631" y="2140974"/>
                    <a:pt x="1403554" y="2760407"/>
                    <a:pt x="1241322" y="2966884"/>
                  </a:cubicBezTo>
                  <a:cubicBezTo>
                    <a:pt x="1079090" y="3173361"/>
                    <a:pt x="1076632" y="3131575"/>
                    <a:pt x="1005348" y="2952136"/>
                  </a:cubicBezTo>
                  <a:cubicBezTo>
                    <a:pt x="934064" y="2772697"/>
                    <a:pt x="894735" y="2140975"/>
                    <a:pt x="813619" y="1890252"/>
                  </a:cubicBezTo>
                  <a:cubicBezTo>
                    <a:pt x="732503" y="1639529"/>
                    <a:pt x="634180" y="1570703"/>
                    <a:pt x="518651" y="1447800"/>
                  </a:cubicBezTo>
                  <a:cubicBezTo>
                    <a:pt x="403122" y="1324897"/>
                    <a:pt x="164689" y="1300317"/>
                    <a:pt x="120444" y="1152833"/>
                  </a:cubicBezTo>
                  <a:cubicBezTo>
                    <a:pt x="76199" y="1005349"/>
                    <a:pt x="0" y="779207"/>
                    <a:pt x="238432" y="592394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4648320" y="4454640"/>
              <a:ext cx="2678040" cy="1874880"/>
            </a:xfrm>
            <a:custGeom>
              <a:avLst/>
              <a:gdLst/>
              <a:ahLst/>
              <a:rect l="l" t="t" r="r" b="b"/>
              <a:pathLst>
                <a:path w="2679289" h="1875503">
                  <a:moveTo>
                    <a:pt x="1575618" y="162232"/>
                  </a:moveTo>
                  <a:cubicBezTo>
                    <a:pt x="1961534" y="324464"/>
                    <a:pt x="2448231" y="1098755"/>
                    <a:pt x="2563760" y="1371600"/>
                  </a:cubicBezTo>
                  <a:cubicBezTo>
                    <a:pt x="2679289" y="1644445"/>
                    <a:pt x="2413819" y="1723103"/>
                    <a:pt x="2268793" y="1799303"/>
                  </a:cubicBezTo>
                  <a:cubicBezTo>
                    <a:pt x="2123767" y="1875503"/>
                    <a:pt x="1836173" y="1853381"/>
                    <a:pt x="1693605" y="1828800"/>
                  </a:cubicBezTo>
                  <a:cubicBezTo>
                    <a:pt x="1551037" y="1804219"/>
                    <a:pt x="1605115" y="1678858"/>
                    <a:pt x="1413386" y="1651819"/>
                  </a:cubicBezTo>
                  <a:cubicBezTo>
                    <a:pt x="1221657" y="1624780"/>
                    <a:pt x="766915" y="1740310"/>
                    <a:pt x="543231" y="1666568"/>
                  </a:cubicBezTo>
                  <a:cubicBezTo>
                    <a:pt x="319547" y="1592826"/>
                    <a:pt x="120444" y="1420762"/>
                    <a:pt x="71283" y="1209368"/>
                  </a:cubicBezTo>
                  <a:cubicBezTo>
                    <a:pt x="22122" y="997974"/>
                    <a:pt x="0" y="572729"/>
                    <a:pt x="248264" y="398206"/>
                  </a:cubicBezTo>
                  <a:cubicBezTo>
                    <a:pt x="496528" y="223683"/>
                    <a:pt x="1189702" y="0"/>
                    <a:pt x="1575618" y="162232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6286680" y="2214720"/>
            <a:ext cx="1089000" cy="4071960"/>
            <a:chOff x="6286680" y="2214720"/>
            <a:chExt cx="1089000" cy="4071960"/>
          </a:xfrm>
        </p:grpSpPr>
        <p:sp>
          <p:nvSpPr>
            <p:cNvPr id="60" name="Oval 17"/>
            <p:cNvSpPr/>
            <p:nvPr/>
          </p:nvSpPr>
          <p:spPr>
            <a:xfrm>
              <a:off x="6556320" y="2214720"/>
              <a:ext cx="819360" cy="14288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6286680" y="5358240"/>
              <a:ext cx="928800" cy="928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4649760" y="514440"/>
            <a:ext cx="111780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29120" y="785880"/>
            <a:ext cx="3757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brain is swollen; the gyri are flatte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eninges are clouded by exudate and there are pinpoint tubercles scattered within th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eningitis is most florid at the base of the brain (though we don’t have the vertex for comparis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IMG_0005_2.tif"/>
          <p:cNvPicPr/>
          <p:nvPr/>
        </p:nvPicPr>
        <p:blipFill>
          <a:blip r:embed="rId1"/>
          <a:srcRect l="0" t="0" r="44022" b="0"/>
          <a:stretch/>
        </p:blipFill>
        <p:spPr>
          <a:xfrm>
            <a:off x="700200" y="785880"/>
            <a:ext cx="3943080" cy="534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492360" y="5732640"/>
            <a:ext cx="111780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2pm243_86.jpg"/>
          <p:cNvPicPr/>
          <p:nvPr/>
        </p:nvPicPr>
        <p:blipFill>
          <a:blip r:embed="rId1"/>
          <a:stretch/>
        </p:blipFill>
        <p:spPr>
          <a:xfrm>
            <a:off x="642960" y="1214280"/>
            <a:ext cx="7772400" cy="5181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860040" y="642960"/>
            <a:ext cx="550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ubercles are seen more easily in this close-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3357720" y="2286000"/>
            <a:ext cx="2357280" cy="3429000"/>
            <a:chOff x="3357720" y="2286000"/>
            <a:chExt cx="2357280" cy="3429000"/>
          </a:xfrm>
        </p:grpSpPr>
        <p:grpSp>
          <p:nvGrpSpPr>
            <p:cNvPr id="70" name="Group 5"/>
            <p:cNvGrpSpPr/>
            <p:nvPr/>
          </p:nvGrpSpPr>
          <p:grpSpPr>
            <a:xfrm>
              <a:off x="3357720" y="2286000"/>
              <a:ext cx="2357280" cy="2786040"/>
              <a:chOff x="3357720" y="2286000"/>
              <a:chExt cx="2357280" cy="2786040"/>
            </a:xfrm>
          </p:grpSpPr>
          <p:sp>
            <p:nvSpPr>
              <p:cNvPr id="71" name="Oval 2"/>
              <p:cNvSpPr/>
              <p:nvPr/>
            </p:nvSpPr>
            <p:spPr>
              <a:xfrm>
                <a:off x="3357720" y="3000240"/>
                <a:ext cx="571320" cy="5713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3"/>
              <p:cNvSpPr/>
              <p:nvPr/>
            </p:nvSpPr>
            <p:spPr>
              <a:xfrm>
                <a:off x="4357800" y="2286000"/>
                <a:ext cx="642960" cy="6429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4"/>
              <p:cNvSpPr/>
              <p:nvPr/>
            </p:nvSpPr>
            <p:spPr>
              <a:xfrm>
                <a:off x="5143680" y="4500720"/>
                <a:ext cx="571320" cy="5713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Oval 7"/>
            <p:cNvSpPr/>
            <p:nvPr/>
          </p:nvSpPr>
          <p:spPr>
            <a:xfrm>
              <a:off x="4214880" y="4929120"/>
              <a:ext cx="785520" cy="785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7297560" y="121428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43680" y="1071720"/>
            <a:ext cx="35431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outlet foramina of the fourth ventricle at the base of the brain are occluded by exud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onsequently, circulation of c.s.f. out of the internal ventricular system to the subarachnoid space around the brain is obstruc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6" descr="1pm243_86.jpg"/>
          <p:cNvPicPr/>
          <p:nvPr/>
        </p:nvPicPr>
        <p:blipFill>
          <a:blip r:embed="rId1"/>
          <a:stretch/>
        </p:blipFill>
        <p:spPr>
          <a:xfrm>
            <a:off x="285840" y="1285920"/>
            <a:ext cx="4876560" cy="439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013280" y="12682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10:32Z</dcterms:created>
  <dc:creator>New Win User</dc:creator>
  <dc:description/>
  <dc:language>en-US</dc:language>
  <cp:lastModifiedBy>Sam</cp:lastModifiedBy>
  <dcterms:modified xsi:type="dcterms:W3CDTF">2011-09-10T22:46:28Z</dcterms:modified>
  <cp:revision>173</cp:revision>
  <dc:subject/>
  <dc:title>Tuberculous meningitis</dc:title>
</cp:coreProperties>
</file>