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A9D-DB60-4A2C-8B51-55626DCD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5A5-193F-406E-8A73-EAAA21F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DCB-974D-4F26-9BE2-1DD3CBE7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1E1D-BBA2-449D-A57D-D5191E5C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C1F-F50F-4867-B486-654403BA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A17-AF45-498D-8A35-4CBA25E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C35-05D4-4378-B40D-136F295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9F3-4ED7-43E1-B796-C78D3D38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2CF-977F-4B82-A6E3-50F35468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B0B-BE56-4985-8C16-D14E491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F72-6166-40C3-BC40-C90E160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61E-BBFB-44D8-93E3-CE650E19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B961-DC0A-4C73-BCD7-BE73BEEE3DAF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MImg&amp;_imagekey=B6T0R-4Y0T970-1-N&amp;_cdi=4869&amp;_user=635696&amp;_pii=S0301008209002020&amp;_origin=gateway&amp;_coverDate=06%2F30%2F2010&amp;_sk=999089997&amp;view=c&amp;wchp=dGLbVlW-zSkWb&amp;md5=516bd546ef9b0704bf462b7fb9deb8f3&amp;ie=/sdarticle.pdf" TargetMode="External"/><Relationship Id="rId2" Type="http://schemas.openxmlformats.org/officeDocument/2006/relationships/hyperlink" Target="http://www.sciencedirect.com/science?_ob=MImg&amp;_imagekey=B6WHP-4W50JXJ-5-13&amp;_cdi=6856&amp;_user=635696&amp;_pii=S0967586809000538&amp;_origin=gateway&amp;_coverDate=07%2F31%2F2009&amp;_sk=999839992&amp;view=c&amp;wchp=dGLbVlz-zSkzS&amp;md5=54817495a372a9212fc61f159e9f17c2&amp;ie=/sdarticle.pdf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MiamiCaptionURL&amp;_method=retrieve&amp;_udi=B6T0R-4Y0T970-1&amp;_image=fig1&amp;_ba=1&amp;_user=635696&amp;_coverDate=06%2F30%2F2010&amp;_rdoc=1&amp;_fmt=full&amp;_orig=gateway&amp;_cdi=4869&amp;_issn=03010082&amp;_pii=S0301008209002020&amp;view=c&amp;_acct=C000033878&amp;_version=1&amp;_urlVersion=0&amp;_userid=635696&amp;md5=dd54d9245b801a364fbbd3075ce7c577" TargetMode="External"/><Relationship Id="rId2" Type="http://schemas.openxmlformats.org/officeDocument/2006/relationships/hyperlink" Target="http://www.sciencedirect.com/science?_ob=MiamiCaptionURL&amp;_method=retrieve&amp;_udi=B6T0R-4Y0T970-1&amp;_image=fig1&amp;_ba=1&amp;_user=635696&amp;_coverDate=06%2F30%2F2010&amp;_rdoc=1&amp;_fmt=full&amp;_orig=gateway&amp;_cdi=4869&amp;_issn=03010082&amp;_pii=S0301008209002020&amp;view=c&amp;_acct=C000033878&amp;_version=1&amp;_urlVersion=0&amp;_userid=635696&amp;md5=dd54d9245b801a364fbbd3075ce7c577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NEUROCYSTICERC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6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C14 2010-062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2987640" y="1949400"/>
            <a:ext cx="3029040" cy="2455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924360" y="414972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Image used with 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C:\Documents and Settings\Administrator\Desktop\ARCHIVE - UCT\DIGITAL PATH MUSEUM\0629-2010 cysticercosis\0269 macr4a.jpg"/>
          <p:cNvPicPr/>
          <p:nvPr/>
        </p:nvPicPr>
        <p:blipFill>
          <a:blip r:embed="rId1"/>
          <a:srcRect l="0" t="4436" r="0" b="15691"/>
          <a:stretch/>
        </p:blipFill>
        <p:spPr>
          <a:xfrm>
            <a:off x="2000160" y="571680"/>
            <a:ext cx="5357880" cy="3814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28760" y="464328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mage  also shows why the cysticercus cyst sometimes appears empty in fixed tissue (on the left) or in CT/MR images – it is simply that  the protoscolex  is out of the plane of section. (Or it may be dislodged during handling of a specim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102200" y="39718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granulomatous inflammatory reaction develops around the embedded decaying paras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yst content becomes a densely proteinaceous debris, forming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ystic granulom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ilst at the same time undergoing resorption &amp; shrink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ltimately the inflammatory reaction is cleared away, leaving a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calcified nodu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istrator\Desktop\ARCHIVE - UCT\DIGITAL PATH MUSEUM\0629-2010 cysticercosis\granulcyst370_88b.TIF"/>
          <p:cNvPicPr/>
          <p:nvPr/>
        </p:nvPicPr>
        <p:blipFill>
          <a:blip r:embed="rId1"/>
          <a:stretch/>
        </p:blipFill>
        <p:spPr>
          <a:xfrm>
            <a:off x="642960" y="785880"/>
            <a:ext cx="3790800" cy="245088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1000080" y="1785960"/>
            <a:ext cx="1071720" cy="107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Administrator\Desktop\ARCHIVE - UCT\DIGITAL PATH MUSEUM\0629-2010 cysticercosis\mineral464_86.TIF"/>
          <p:cNvPicPr/>
          <p:nvPr/>
        </p:nvPicPr>
        <p:blipFill>
          <a:blip r:embed="rId2"/>
          <a:srcRect l="0" t="5668" r="0" b="13208"/>
          <a:stretch/>
        </p:blipFill>
        <p:spPr>
          <a:xfrm>
            <a:off x="642960" y="3286080"/>
            <a:ext cx="3786120" cy="3071880"/>
          </a:xfrm>
          <a:prstGeom prst="rect">
            <a:avLst/>
          </a:prstGeom>
          <a:ln w="0">
            <a:noFill/>
          </a:ln>
        </p:spPr>
      </p:pic>
      <p:sp>
        <p:nvSpPr>
          <p:cNvPr id="90" name="Oval 7"/>
          <p:cNvSpPr/>
          <p:nvPr/>
        </p:nvSpPr>
        <p:spPr>
          <a:xfrm>
            <a:off x="1928880" y="4429080"/>
            <a:ext cx="1071360" cy="10717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2763000" y="27036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UHSPA1988-0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881440" y="601668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UHS1986-04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2"/>
          <p:cNvCxnSpPr/>
          <p:nvPr/>
        </p:nvCxnSpPr>
        <p:spPr>
          <a:xfrm flipH="1">
            <a:off x="3779640" y="2420640"/>
            <a:ext cx="28800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2"/>
          <p:cNvSpPr/>
          <p:nvPr/>
        </p:nvSpPr>
        <p:spPr>
          <a:xfrm>
            <a:off x="611280" y="64022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ages used with  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C:\Documents and Settings\Administrator\Desktop\ARCHIVE - UCT\DIGITAL PATH MUSEUM\0629-2010 cysticercosis\bladder_CTMuswa.TIF"/>
          <p:cNvPicPr/>
          <p:nvPr/>
        </p:nvPicPr>
        <p:blipFill>
          <a:blip r:embed="rId1"/>
          <a:srcRect l="0" t="2494" r="52503" b="0"/>
          <a:stretch/>
        </p:blipFill>
        <p:spPr>
          <a:xfrm>
            <a:off x="826920" y="2347920"/>
            <a:ext cx="3000600" cy="373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Administrator\Desktop\ARCHIVE - UCT\DIGITAL PATH MUSEUM\0629-2010 cysticercosis\bladderMRT1.TIF"/>
          <p:cNvPicPr/>
          <p:nvPr/>
        </p:nvPicPr>
        <p:blipFill>
          <a:blip r:embed="rId2"/>
          <a:srcRect l="2077" t="6779" r="2685" b="3353"/>
          <a:stretch/>
        </p:blipFill>
        <p:spPr>
          <a:xfrm>
            <a:off x="5286240" y="2286000"/>
            <a:ext cx="3224520" cy="371484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3"/>
          <p:cNvGrpSpPr/>
          <p:nvPr/>
        </p:nvGrpSpPr>
        <p:grpSpPr>
          <a:xfrm>
            <a:off x="3000240" y="3357720"/>
            <a:ext cx="4643640" cy="1571400"/>
            <a:chOff x="3000240" y="3357720"/>
            <a:chExt cx="4643640" cy="1571400"/>
          </a:xfrm>
        </p:grpSpPr>
        <p:grpSp>
          <p:nvGrpSpPr>
            <p:cNvPr id="101" name="Group 20"/>
            <p:cNvGrpSpPr/>
            <p:nvPr/>
          </p:nvGrpSpPr>
          <p:grpSpPr>
            <a:xfrm>
              <a:off x="3000240" y="3429000"/>
              <a:ext cx="4215240" cy="1500120"/>
              <a:chOff x="3000240" y="3429000"/>
              <a:chExt cx="4215240" cy="1500120"/>
            </a:xfrm>
          </p:grpSpPr>
          <p:sp>
            <p:nvSpPr>
              <p:cNvPr id="102" name="TextBox 9"/>
              <p:cNvSpPr/>
              <p:nvPr/>
            </p:nvSpPr>
            <p:spPr>
              <a:xfrm>
                <a:off x="3932280" y="357156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1800" spc="-1" strike="noStrike">
                    <a:solidFill>
                      <a:srgbClr val="ff0000"/>
                    </a:solidFill>
                    <a:latin typeface="Calibri"/>
                  </a:rPr>
                  <a:t>cysticerc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"/>
              <p:cNvSpPr/>
              <p:nvPr/>
            </p:nvSpPr>
            <p:spPr>
              <a:xfrm>
                <a:off x="3214440" y="3929040"/>
                <a:ext cx="357120" cy="3571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>
                <a:off x="3000240" y="4572000"/>
                <a:ext cx="357120" cy="3571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3"/>
              <p:cNvSpPr/>
              <p:nvPr/>
            </p:nvSpPr>
            <p:spPr>
              <a:xfrm>
                <a:off x="6858360" y="4000320"/>
                <a:ext cx="357120" cy="3571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4"/>
              <p:cNvSpPr/>
              <p:nvPr/>
            </p:nvSpPr>
            <p:spPr>
              <a:xfrm>
                <a:off x="6358320" y="3429000"/>
                <a:ext cx="357120" cy="3571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Oval 22"/>
            <p:cNvSpPr/>
            <p:nvPr/>
          </p:nvSpPr>
          <p:spPr>
            <a:xfrm>
              <a:off x="7286760" y="3357720"/>
              <a:ext cx="3571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2999880" y="4214880"/>
            <a:ext cx="2215080" cy="928440"/>
            <a:chOff x="2999880" y="4214880"/>
            <a:chExt cx="2215080" cy="928440"/>
          </a:xfrm>
        </p:grpSpPr>
        <p:sp>
          <p:nvSpPr>
            <p:cNvPr id="109" name="TextBox 10"/>
            <p:cNvSpPr/>
            <p:nvPr/>
          </p:nvSpPr>
          <p:spPr>
            <a:xfrm>
              <a:off x="3929040" y="4214880"/>
              <a:ext cx="128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b050"/>
                  </a:solidFill>
                  <a:latin typeface="Calibri"/>
                </a:rPr>
                <a:t>nodular calc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Straight Arrow Connector 16"/>
            <p:cNvCxnSpPr/>
            <p:nvPr/>
          </p:nvCxnSpPr>
          <p:spPr>
            <a:xfrm flipH="1" flipV="1">
              <a:off x="2999880" y="4928760"/>
              <a:ext cx="72000" cy="214920"/>
            </a:xfrm>
            <a:prstGeom prst="straightConnector1">
              <a:avLst/>
            </a:prstGeom>
            <a:ln w="2232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111" name="Straight Arrow Connector 17"/>
            <p:cNvCxnSpPr/>
            <p:nvPr/>
          </p:nvCxnSpPr>
          <p:spPr>
            <a:xfrm flipH="1" flipV="1">
              <a:off x="3071160" y="4857120"/>
              <a:ext cx="72000" cy="214920"/>
            </a:xfrm>
            <a:prstGeom prst="straightConnector1">
              <a:avLst/>
            </a:prstGeom>
            <a:ln w="22320">
              <a:solidFill>
                <a:srgbClr val="00b050"/>
              </a:solidFill>
              <a:miter/>
              <a:tailEnd len="med" type="triangle" w="med"/>
            </a:ln>
          </p:spPr>
        </p:cxnSp>
      </p:grpSp>
      <p:sp>
        <p:nvSpPr>
          <p:cNvPr id="112" name="Rectangle 4"/>
          <p:cNvSpPr/>
          <p:nvPr/>
        </p:nvSpPr>
        <p:spPr>
          <a:xfrm>
            <a:off x="6165720" y="570564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UHS NEURO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64000" y="64641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Images used with 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Administrator\Desktop\ARCHIVE - UCT\DIGITAL PATH MUSEUM\0629-2010 cysticercosis\oldparasite_xray.TIF"/>
          <p:cNvPicPr/>
          <p:nvPr/>
        </p:nvPicPr>
        <p:blipFill>
          <a:blip r:embed="rId1"/>
          <a:stretch/>
        </p:blipFill>
        <p:spPr>
          <a:xfrm>
            <a:off x="2143080" y="714240"/>
            <a:ext cx="4429080" cy="3957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785880" y="514368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X-ray showing multiple calcific nodules was undertaken in a case of trauma.  Calcified cysticerci are by far the commonest cause of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3637800" y="436392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renchay Hospital Neuropath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348000" y="467532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Image used with 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48320" y="713880"/>
            <a:ext cx="4038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ysticerci embedded in tissue seldom exceed 2cm in dia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But those occurring in or on the edge of spaces e.g. sulci, ventricles and cisterns of the brain can reach a much larger size (up to 8cm) and may be multi-loculated These ‘extraparenchymal’ lesions often present with obstructive hydrocephal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C:\Documents and Settings\Administrator\Desktop\ARCHIVE - UCT\DIGITAL PATH MUSEUM\0629-2010 cysticercosis\vIVcysts606_82.TIF"/>
          <p:cNvPicPr/>
          <p:nvPr/>
        </p:nvPicPr>
        <p:blipFill>
          <a:blip r:embed="rId1"/>
          <a:stretch/>
        </p:blipFill>
        <p:spPr>
          <a:xfrm>
            <a:off x="500040" y="3571920"/>
            <a:ext cx="3714840" cy="269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Administrator\Desktop\ARCHIVE - UCT\DIGITAL PATH MUSEUM\0629-2010 cysticercosis\cyst370_88b.TIF"/>
          <p:cNvPicPr/>
          <p:nvPr/>
        </p:nvPicPr>
        <p:blipFill>
          <a:blip r:embed="rId2"/>
          <a:stretch/>
        </p:blipFill>
        <p:spPr>
          <a:xfrm>
            <a:off x="500040" y="647640"/>
            <a:ext cx="371484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"/>
          <p:cNvGrpSpPr/>
          <p:nvPr/>
        </p:nvGrpSpPr>
        <p:grpSpPr>
          <a:xfrm>
            <a:off x="4357080" y="5643720"/>
            <a:ext cx="4358160" cy="642600"/>
            <a:chOff x="4357080" y="5643720"/>
            <a:chExt cx="4358160" cy="642600"/>
          </a:xfrm>
        </p:grpSpPr>
        <p:sp>
          <p:nvSpPr>
            <p:cNvPr id="122" name="TextBox 6"/>
            <p:cNvSpPr/>
            <p:nvPr/>
          </p:nvSpPr>
          <p:spPr>
            <a:xfrm>
              <a:off x="5000400" y="5643720"/>
              <a:ext cx="37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31859c"/>
                  </a:solidFill>
                  <a:latin typeface="Arial"/>
                </a:rPr>
                <a:t>A large solitary cyst being removed from the 4</a:t>
              </a:r>
              <a:r>
                <a:rPr b="0" lang="en-ZA" sz="1800" spc="-1" strike="noStrike" baseline="30000">
                  <a:solidFill>
                    <a:srgbClr val="31859c"/>
                  </a:solidFill>
                  <a:latin typeface="Arial"/>
                </a:rPr>
                <a:t>th</a:t>
              </a:r>
              <a:r>
                <a:rPr b="0" lang="en-ZA" sz="1800" spc="-1" strike="noStrike">
                  <a:solidFill>
                    <a:srgbClr val="31859c"/>
                  </a:solidFill>
                  <a:latin typeface="Arial"/>
                </a:rPr>
                <a:t> ventr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Straight Arrow Connector 10"/>
            <p:cNvCxnSpPr/>
            <p:nvPr/>
          </p:nvCxnSpPr>
          <p:spPr>
            <a:xfrm flipH="1" flipV="1">
              <a:off x="4357080" y="5928840"/>
              <a:ext cx="500760" cy="2160"/>
            </a:xfrm>
            <a:prstGeom prst="straightConnector1">
              <a:avLst/>
            </a:prstGeom>
            <a:ln w="25560">
              <a:solidFill>
                <a:srgbClr val="31859c"/>
              </a:solidFill>
              <a:miter/>
              <a:tailEnd len="med" type="arrow" w="med"/>
            </a:ln>
          </p:spPr>
        </p:cxnSp>
      </p:grpSp>
      <p:sp>
        <p:nvSpPr>
          <p:cNvPr id="124" name="Rectangle 2"/>
          <p:cNvSpPr/>
          <p:nvPr/>
        </p:nvSpPr>
        <p:spPr>
          <a:xfrm>
            <a:off x="2447640" y="593892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SUHSPA1982-06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49440" y="312408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SUHSPA1988-03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84360" y="6308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ages used with  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684360" y="57168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 rare, progressive and virtually untreatable form of neurocysticercosis is cysticercus granulomatous meningitis (or subarachnoid neurocysticercos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 fatal case of basal cysticercus meningitis is shown below, with a corresponding MR im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Administrator\Desktop\ARCHIVE - UCT\DIGITAL PATH MUSEUM\0629-2010 cysticercosis\basalcysticerc119_86b.TIF"/>
          <p:cNvPicPr/>
          <p:nvPr/>
        </p:nvPicPr>
        <p:blipFill>
          <a:blip r:embed="rId1"/>
          <a:stretch/>
        </p:blipFill>
        <p:spPr>
          <a:xfrm>
            <a:off x="793800" y="2241720"/>
            <a:ext cx="3752640" cy="361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Administrator\Desktop\ARCHIVE - UCT\DIGITAL PATH MUSEUM\0629-2010 cysticercosis\Thomas1746corT1.jpg"/>
          <p:cNvPicPr/>
          <p:nvPr/>
        </p:nvPicPr>
        <p:blipFill>
          <a:blip r:embed="rId2"/>
          <a:stretch/>
        </p:blipFill>
        <p:spPr>
          <a:xfrm>
            <a:off x="4714920" y="2278080"/>
            <a:ext cx="3500280" cy="3584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"/>
          <p:cNvSpPr/>
          <p:nvPr/>
        </p:nvSpPr>
        <p:spPr>
          <a:xfrm>
            <a:off x="2689560" y="551808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UHSPA 1989-01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454800" y="55180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SUHS NEURO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276720" y="595008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ages used with  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South African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484280"/>
            <a:ext cx="7210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revalence of antibodies to Taenia solium infections is low in urban South Africans but rises to ± 10% in rural populations, with the highest prevalence (</a:t>
            </a:r>
            <a:r>
              <a:rPr b="0" lang="en-ZA" sz="2400" spc="-1" strike="noStrike">
                <a:solidFill>
                  <a:srgbClr val="ff0000"/>
                </a:solidFill>
                <a:latin typeface="Calibri"/>
              </a:rPr>
              <a:t>20%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) in the </a:t>
            </a:r>
            <a:r>
              <a:rPr b="0" lang="en-ZA" sz="2400" spc="-1" strike="noStrike">
                <a:solidFill>
                  <a:srgbClr val="ff0000"/>
                </a:solidFill>
                <a:latin typeface="Calibri"/>
              </a:rPr>
              <a:t>Eastern Cape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(esp. former Transk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ost likely linked to the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lack of human sanitation  combined with the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ommon practice of free-range pig far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2004  it was estimated that there were 34 500 neurocysticercosis-associated cases of epilepsy in the Eastern Ca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Natural history &amp;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lthough cysticidal drugs  (</a:t>
            </a:r>
            <a:r>
              <a:rPr b="0" lang="en-ZA" sz="2200" spc="-1" strike="noStrike">
                <a:solidFill>
                  <a:srgbClr val="ff0000"/>
                </a:solidFill>
                <a:latin typeface="Calibri"/>
              </a:rPr>
              <a:t>praziquantil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ZA" sz="2200" spc="-1" strike="noStrike">
                <a:solidFill>
                  <a:srgbClr val="ff0000"/>
                </a:solidFill>
                <a:latin typeface="Calibri"/>
              </a:rPr>
              <a:t>albendazole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) are effective in neurocysticercosis they must be used with caution as they can exacerbate acute inflammation and scarr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st cases of parenchymal neurocysticercosis run a benign course with seizures decreasing with time as the cysticerci naturally regress. Use of cysticidal drugs is therefore not routine. Anti-epileptic drugs may be required for months or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Large extra-parenchymal cysts may call for ventriculoperitoneal shunting and/or surgery, but many cases respond to cysticidals used in combination with corticosteroi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espite cysticidal treatment, meningeal cysticercosis has a poor outcome due to meningeal fibrosis, hydrocephalus and brain infarcts secondary to vascul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Siddhartha Mahanty S &amp; Garcia HH. Cysticercosis and neurocysticercosis as pathogens affecting the nervous system.  Progress in Neurobiology. 2010; 91(2): 172-18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ciencedirect.com/science?_ob=MImg&amp;_imagekey=B6T0R-4Y0T970-1-N&amp;_cdi=4869&amp;_user=635696&amp;_pii=S0301008209002020&amp;_origin=gateway&amp;_coverDate=06%2F30%2F2010&amp;_sk=999089997&amp;view=c&amp;wchp=dGLbVlW-zSkWb&amp;md5=516bd546ef9b0704bf462b7fb9deb8f3&amp;ie=/sdarticl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Sinha S &amp; Sharma BS. Neurocysticercosis: a review of current status and management. J Clin Neurosci. 2009;16(7): 867-76. </a:t>
            </a:r>
            <a:r>
              <a:rPr b="0" lang="en-ZA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ciencedirect.com/science?_ob=MImg&amp;_imagekey=B6WHP-4W50JXJ-5-13&amp;_cdi=6856&amp;_user=635696&amp;_pii=S0967586809000538&amp;_origin=gateway&amp;_coverDate=07%2F31%2F2009&amp;_sk=999839992&amp;view=c&amp;wchp=dGLbVlz-zSkzS&amp;md5=54817495a372a9212fc61f159e9f17c2&amp;ie=/sdarticl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fojane NA, Appleton CC, Krecek RC, Michael LM, Willingham AL. The current status of neurocysticercosis in Eastern and Southern Africa. Acta Trop. 2003;87(1): 25-33.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Calibri"/>
              </a:rPr>
              <a:t>http://www.sciencedirect.com/science?_ob=MImg&amp;_imagekey=B6T1R-485XS3Y-2-1&amp;_cdi=4897&amp;_user=635696&amp;_pii=S0001706X03000524&amp;_origin=gateway&amp;_coverDate=06%2F30%2F2003&amp;_sk=999129998&amp;view=c&amp;wchp=dGLbVtb-zSkWb&amp;md5=bcf8aa685c7d1b71799f42f3768f6350&amp;ie=/sdarticl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arabin H, Krecek RC, Cowan LD, Michael L, Foyaca-Sibat H, Nash T, Willingham AL. Estimation of the cost of Taenia solium cysticercosis in Eastern Cape Province, South Africa. Trop Med Int Health. 2006;11(6): 906-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31859c"/>
                </a:solidFill>
                <a:latin typeface="Calibri"/>
              </a:rPr>
              <a:t>Other examples from our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4" descr=""/>
          <p:cNvPicPr/>
          <p:nvPr/>
        </p:nvPicPr>
        <p:blipFill>
          <a:blip r:embed="rId1"/>
          <a:stretch/>
        </p:blipFill>
        <p:spPr>
          <a:xfrm>
            <a:off x="1077840" y="1603440"/>
            <a:ext cx="2797200" cy="451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14000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95b3d7"/>
                </a:solidFill>
                <a:latin typeface="Calibri"/>
              </a:rPr>
              <a:t>XI:ii: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This patient had a 3 month history of generalised seizures and confusion. She was completely mute and unresponsive. She died quite suddenly following a generalised convul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t autopsy there were innumerable cysticerci throughout the brain. Shown is a slice at the level of the basal ganglia, and a section of midbrain. Many of the cysticerci still contain their protoscolices. They are mainly in the grey matter but there are a few in the white mat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bject was a 29 year old man who had been assaulted with a bric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became comatose and died 3 days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forensic post mortem was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ntent Placeholder 4" descr=""/>
          <p:cNvPicPr/>
          <p:nvPr/>
        </p:nvPicPr>
        <p:blipFill>
          <a:blip r:embed="rId1"/>
          <a:stretch/>
        </p:blipFill>
        <p:spPr>
          <a:xfrm>
            <a:off x="401760" y="1484280"/>
            <a:ext cx="4078080" cy="2563920"/>
          </a:xfrm>
          <a:prstGeom prst="rect">
            <a:avLst/>
          </a:prstGeom>
          <a:ln w="0">
            <a:noFill/>
          </a:ln>
        </p:spPr>
      </p:pic>
      <p:pic>
        <p:nvPicPr>
          <p:cNvPr id="143" name="Content Placeholder 5" descr=""/>
          <p:cNvPicPr/>
          <p:nvPr/>
        </p:nvPicPr>
        <p:blipFill>
          <a:blip r:embed="rId2"/>
          <a:stretch/>
        </p:blipFill>
        <p:spPr>
          <a:xfrm>
            <a:off x="4573440" y="1492200"/>
            <a:ext cx="4137120" cy="2559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684360" y="4292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95b3d7"/>
                </a:solidFill>
                <a:latin typeface="Calibri"/>
              </a:rPr>
              <a:t>XI:ii:5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this case there is also a very heavy infestation of cysticerci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embedded in the parenchyma, as well as many projecting from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the surface leptomeninges and into the lateral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Post mortem 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ecimen is an axial slice of the brain through the basal ganglia and thalam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aemorrhagic lesion with swelling of the brain parenchyma can be seen in the left temporo-parietal area; this is the acute contusion injury from the assa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995720" y="1600200"/>
            <a:ext cx="334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An incidental f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seen in the specimen are several scattered cysts about 0.5cm in dia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cyst in the head of the caudate nucleus contains the single protoscolex characteristic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aenia soli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4995720" y="1600200"/>
            <a:ext cx="33433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0"/>
          <p:cNvGrpSpPr/>
          <p:nvPr/>
        </p:nvGrpSpPr>
        <p:grpSpPr>
          <a:xfrm>
            <a:off x="6143760" y="1571760"/>
            <a:ext cx="928440" cy="4572000"/>
            <a:chOff x="6143760" y="1571760"/>
            <a:chExt cx="928440" cy="4572000"/>
          </a:xfrm>
        </p:grpSpPr>
        <p:sp>
          <p:nvSpPr>
            <p:cNvPr id="58" name="Oval 5"/>
            <p:cNvSpPr/>
            <p:nvPr/>
          </p:nvSpPr>
          <p:spPr>
            <a:xfrm>
              <a:off x="6643800" y="1571760"/>
              <a:ext cx="3571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6715080" y="5786640"/>
              <a:ext cx="3571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6143760" y="5429520"/>
              <a:ext cx="3571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6715080" y="2786040"/>
              <a:ext cx="3571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Oval 11"/>
          <p:cNvSpPr/>
          <p:nvPr/>
        </p:nvSpPr>
        <p:spPr>
          <a:xfrm>
            <a:off x="6643800" y="27147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istrator\Desktop\ARCHIVE - UCT\DIGITAL PATH MUSEUM\0629-2010 cysticercosis\0269 macr1b.jpg"/>
          <p:cNvPicPr/>
          <p:nvPr/>
        </p:nvPicPr>
        <p:blipFill>
          <a:blip r:embed="rId1"/>
          <a:srcRect l="26504" t="0" r="25612" b="31120"/>
          <a:stretch/>
        </p:blipFill>
        <p:spPr>
          <a:xfrm>
            <a:off x="282600" y="428760"/>
            <a:ext cx="3860640" cy="37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214200" y="45720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enlargement of the cysticercus cyst one can see the protoscolex protruding into the cyst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4262400" y="428760"/>
            <a:ext cx="4673520" cy="5761800"/>
            <a:chOff x="4262400" y="428760"/>
            <a:chExt cx="4673520" cy="5761800"/>
          </a:xfrm>
        </p:grpSpPr>
        <p:pic>
          <p:nvPicPr>
            <p:cNvPr id="66" name="Picture 1" descr="C:\Documents and Settings\Administrator\Desktop\ARCHIVE - UCT\DIGITAL PATH MUSEUM\0629-2010 cysticercosis\cest150_79mi.TIF"/>
            <p:cNvPicPr/>
            <p:nvPr/>
          </p:nvPicPr>
          <p:blipFill>
            <a:blip r:embed="rId2"/>
            <a:stretch/>
          </p:blipFill>
          <p:spPr>
            <a:xfrm>
              <a:off x="4262400" y="428760"/>
              <a:ext cx="4673520" cy="37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4"/>
            <p:cNvSpPr/>
            <p:nvPr/>
          </p:nvSpPr>
          <p:spPr>
            <a:xfrm>
              <a:off x="4357440" y="4572000"/>
              <a:ext cx="4500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000000"/>
                  </a:solidFill>
                  <a:latin typeface="Calibri"/>
                </a:rPr>
                <a:t>This is an H &amp; E stained section through a cysticercus cyst, magnified x 25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000000"/>
                  </a:solidFill>
                  <a:latin typeface="Calibri"/>
                </a:rPr>
                <a:t>The protoscolex is invaginated into a  cavity lined by a germinal tissue membra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"/>
          <p:cNvSpPr/>
          <p:nvPr/>
        </p:nvSpPr>
        <p:spPr>
          <a:xfrm>
            <a:off x="7170480" y="390672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HSPA1979-0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219640" y="90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age used with  per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8301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ingle or multiple decaying cysticerci in the brain parenchyma are </a:t>
            </a:r>
            <a:r>
              <a:rPr b="0" lang="en-ZA" sz="2400" spc="-1" strike="noStrike">
                <a:solidFill>
                  <a:srgbClr val="ff0000"/>
                </a:solidFill>
                <a:latin typeface="Calibri"/>
              </a:rPr>
              <a:t>epileptogenic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Neurocysticercosis is a very important cause of epilepsy in children and adults in South Af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is lesion is the result of an aberration in the life cycle of the tapeworm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Taenia soli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://www.sciencedirect.com/science?_ob=MiamiCaptionURL&amp;_method=retrieve&amp;_udi=B6T0R-4Y0T970-1&amp;_image=fig1&amp;_ba=1&amp;_user=635696&amp;_coverDate=06%2F30%2F2010&amp;_rdoc=1&amp;_fmt=full&amp;_orig=gateway&amp;_cdi=4869&amp;_issn=03010082&amp;_pii=S0301008209002020&amp;view=c&amp;_acct=C000033878&amp;_version=1&amp;_urlVersion=0&amp;_userid=635696&amp;md5=dd54d9245b801a364fbbd3075ce7c57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ere a man has ingested tape worm eggs shed in the faeces of another person, or possibly his own fae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hexacanth larva is released from the egg and penetrates the small bow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in days of settling in its favoured site (brain or muscle), the larva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amorphoses into the metacestode or cysticer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 the wrong intermediate host the metacestode has hit a dead end. Its demise begins with fluid accumulation within the germinal membrane, forming the parasitic cy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1859c"/>
                </a:solidFill>
                <a:latin typeface="Calibri"/>
              </a:rPr>
              <a:t>Terminology 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Infection with the adult T. solium worm is known as </a:t>
            </a:r>
            <a:r>
              <a:rPr b="0" lang="en-ZA" sz="2800" spc="-1" strike="noStrike">
                <a:solidFill>
                  <a:srgbClr val="ff0000"/>
                </a:solidFill>
                <a:latin typeface="Calibri"/>
              </a:rPr>
              <a:t>taeniasis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Infection with T. solium larvae is known as </a:t>
            </a:r>
            <a:r>
              <a:rPr b="0" lang="en-ZA" sz="2800" spc="-1" strike="noStrike">
                <a:solidFill>
                  <a:srgbClr val="ff0000"/>
                </a:solidFill>
                <a:latin typeface="Calibri"/>
              </a:rPr>
              <a:t>cysticercosis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if infection occurs in the brain, neurocysticerc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965160" y="3068640"/>
            <a:ext cx="1755720" cy="3024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2771640" y="494172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his is part of a tapeworm removed from the bowel of a 19 year old man. (He died of acute  complications of neurocysticercosis.)  Ref PM 59/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C:\Documents and Settings\Administrator\Desktop\ARCHIVE - UCT\DIGITAL PATH MUSEUM\0629-2010 cysticercosis\0269 macr4a.jpg"/>
          <p:cNvPicPr/>
          <p:nvPr/>
        </p:nvPicPr>
        <p:blipFill>
          <a:blip r:embed="rId1"/>
          <a:srcRect l="0" t="4436" r="0" b="15691"/>
          <a:stretch/>
        </p:blipFill>
        <p:spPr>
          <a:xfrm>
            <a:off x="2000160" y="571680"/>
            <a:ext cx="5357880" cy="3814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428760" y="4643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ysticercus cyst or encysted metacestode (in cerebellum of our original patient.)  Note the faint rim of discoloration, representing the inflammatory respon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5"/>
          <p:cNvCxnSpPr/>
          <p:nvPr/>
        </p:nvCxnSpPr>
        <p:spPr>
          <a:xfrm>
            <a:off x="5214960" y="2565000"/>
            <a:ext cx="28656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102200" y="397188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9:06:28Z</dcterms:created>
  <dc:creator>Jane</dc:creator>
  <dc:description/>
  <dc:language>en-US</dc:language>
  <cp:lastModifiedBy> Research Commons, UCT Libraries</cp:lastModifiedBy>
  <dcterms:modified xsi:type="dcterms:W3CDTF">2011-11-23T11:10:47Z</dcterms:modified>
  <cp:revision>96</cp:revision>
  <dc:subject/>
  <dc:title>Cysticercosis</dc:title>
</cp:coreProperties>
</file>