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3FD9-40EA-4A13-A861-859D3948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795-1BEC-4435-9F09-20D2D3CE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C580-74E5-45C6-B7ED-6A1587FD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216-7043-4B78-8553-65F07E39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5CE-6D16-42CD-A3EA-4F68A2FD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56D-9371-4973-B736-A03D9704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0EAF-67DD-4C7B-8FBD-B3A58C7F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251-2822-4530-AB56-30E8A1C9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B4C-FDC0-4C13-AE46-1D82B203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8B9-646A-4C3E-BA3A-2F750580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ACC-9FFE-40AD-B671-B2A9866A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156C-3FD1-47A3-88CB-3A8E97E7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0EA4-F8D0-43D5-87AA-F7954EA87788}" type="slidenum">
              <a:rPr b="0" lang="en-Z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740720" y="6130800"/>
            <a:ext cx="1117440" cy="393840"/>
          </a:xfrm>
          <a:prstGeom prst="rect">
            <a:avLst/>
          </a:prstGeom>
          <a:ln w="0">
            <a:noFill/>
          </a:ln>
        </p:spPr>
      </p:pic>
      <p:sp>
        <p:nvSpPr>
          <p:cNvPr id="6" name="TextBox 2"/>
          <p:cNvSpPr/>
          <p:nvPr/>
        </p:nvSpPr>
        <p:spPr>
          <a:xfrm>
            <a:off x="7192080" y="652464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Epidural haemat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76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900" spc="-1" strike="noStrike">
                <a:solidFill>
                  <a:srgbClr val="898989"/>
                </a:solidFill>
                <a:latin typeface="Calibri"/>
              </a:rPr>
              <a:t>Digital Pathology Collec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900" spc="-1" strike="noStrike">
                <a:solidFill>
                  <a:srgbClr val="898989"/>
                </a:solidFill>
                <a:latin typeface="Calibri"/>
              </a:rPr>
              <a:t>Case 5  2009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900" spc="-1" strike="noStrike">
                <a:solidFill>
                  <a:srgbClr val="898989"/>
                </a:solidFill>
                <a:latin typeface="Calibri"/>
              </a:rPr>
              <a:t>Ref.  XII:ii:1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3600360" y="2065320"/>
            <a:ext cx="190836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Epidural and subdural haemorhages are both extra-axial bleeds, occurring outside of the brain subst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400" spc="-1" strike="noStrike">
                <a:solidFill>
                  <a:srgbClr val="000000"/>
                </a:solidFill>
                <a:latin typeface="Calibri"/>
              </a:rPr>
              <a:t>Sub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dural haemorrhage differs from epidural haemorrhage, with regard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clinical scenario (who is at risk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source of the haemorrhage (what vessels bleed?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clinical and pathological progression of the ble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See these cases of </a:t>
            </a:r>
            <a:r>
              <a:rPr b="1" i="1" lang="en-ZA" sz="2800" spc="-1" strike="noStrike">
                <a:solidFill>
                  <a:srgbClr val="000000"/>
                </a:solidFill>
                <a:latin typeface="Calibri"/>
              </a:rPr>
              <a:t>sub</a:t>
            </a: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dural haemorrhage in the collection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189000" y="189000"/>
            <a:ext cx="884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363600" y="558720"/>
            <a:ext cx="849780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 selection of cases from the Digital Pathology Collection by the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epartment of Clinical Laboratory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s licensed unde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reative Commons Attribution-NonCommercial-ShareAlike 2.5 South Africa Lic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full Digital Pathology Collection is accessible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www.digitalpathology.uct.ac.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f you would like to use an image or other item from our site that is not labelled with the Creative Commons Licence Logo, please contact the curator for permi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529080" y="804960"/>
            <a:ext cx="194148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This is an example of a traumatic vascular injury in the central nervous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Unfortunately there is no clinical data for the speci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2357280" y="581040"/>
            <a:ext cx="4365720" cy="573876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7029720" y="907920"/>
            <a:ext cx="15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ff0000"/>
                </a:solidFill>
                <a:latin typeface="Arial"/>
              </a:rPr>
              <a:t>Click her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ff0000"/>
                </a:solidFill>
                <a:latin typeface="Arial"/>
              </a:rPr>
              <a:t>3D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571400"/>
            <a:ext cx="31860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 side view of the specimen shows a fracture in the left parietal reg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IMG_0003_1.jpg"/>
          <p:cNvPicPr/>
          <p:nvPr/>
        </p:nvPicPr>
        <p:blipFill>
          <a:blip r:embed="rId1"/>
          <a:stretch/>
        </p:blipFill>
        <p:spPr>
          <a:xfrm>
            <a:off x="3714840" y="1143000"/>
            <a:ext cx="4935600" cy="456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7524720" y="1163520"/>
            <a:ext cx="111780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is is a common site for a skull frac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pterion is the weakest part of the skull </a:t>
            </a:r>
            <a:r>
              <a:rPr b="0" lang="en-ZA" sz="1600" spc="-1" strike="noStrike">
                <a:solidFill>
                  <a:srgbClr val="000000"/>
                </a:solidFill>
                <a:latin typeface="Calibri"/>
              </a:rPr>
              <a:t>http://en.wikipedia.org/wiki/Pter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anterior branch of the middle meningeal artery runs through the dura beneath the pter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IMG_0003_1.jpg"/>
          <p:cNvPicPr/>
          <p:nvPr/>
        </p:nvPicPr>
        <p:blipFill>
          <a:blip r:embed="rId1"/>
          <a:stretch/>
        </p:blipFill>
        <p:spPr>
          <a:xfrm>
            <a:off x="4643280" y="1341360"/>
            <a:ext cx="4038840" cy="3732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7559640" y="1341360"/>
            <a:ext cx="111600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000400" y="500040"/>
            <a:ext cx="3686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skull fracture has resulted in laceration of  artery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followed by a massive arterial haemorrh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haematoma which formed has a smooth convex profi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haematoma would have compressed the underlying brain, resulting in pressure effects leading to the patients dea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66840" y="507960"/>
            <a:ext cx="439092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428800" y="428760"/>
            <a:ext cx="335772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On the opposite undamaged side of our specimen the pterion can be seen as a thin, almost transparent area of sku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grooves made by branches of the middle meningeal are seen on the inner skull in the same 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(The grooves of the anterior and posterior meningeal arteries can also be seen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684360" y="351000"/>
            <a:ext cx="4505040" cy="592128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36"/>
          <p:cNvGrpSpPr/>
          <p:nvPr/>
        </p:nvGrpSpPr>
        <p:grpSpPr>
          <a:xfrm>
            <a:off x="3338640" y="1427040"/>
            <a:ext cx="1482480" cy="4100760"/>
            <a:chOff x="3338640" y="1427040"/>
            <a:chExt cx="1482480" cy="4100760"/>
          </a:xfrm>
        </p:grpSpPr>
        <p:grpSp>
          <p:nvGrpSpPr>
            <p:cNvPr id="60" name="Group 34"/>
            <p:cNvGrpSpPr/>
            <p:nvPr/>
          </p:nvGrpSpPr>
          <p:grpSpPr>
            <a:xfrm>
              <a:off x="3492720" y="1427040"/>
              <a:ext cx="1328400" cy="1122120"/>
              <a:chOff x="3492720" y="1427040"/>
              <a:chExt cx="1328400" cy="1122120"/>
            </a:xfrm>
          </p:grpSpPr>
          <p:sp>
            <p:nvSpPr>
              <p:cNvPr id="61" name="Freeform 16"/>
              <p:cNvSpPr/>
              <p:nvPr/>
            </p:nvSpPr>
            <p:spPr>
              <a:xfrm>
                <a:off x="3836880" y="1427040"/>
                <a:ext cx="984240" cy="1122120"/>
              </a:xfrm>
              <a:custGeom>
                <a:avLst/>
                <a:gdLst/>
                <a:ahLst/>
                <a:rect l="l" t="t" r="r" b="b"/>
                <a:pathLst>
                  <a:path w="983673" h="1122218">
                    <a:moveTo>
                      <a:pt x="0" y="0"/>
                    </a:moveTo>
                    <a:cubicBezTo>
                      <a:pt x="18473" y="13855"/>
                      <a:pt x="40635" y="23825"/>
                      <a:pt x="55418" y="41564"/>
                    </a:cubicBezTo>
                    <a:cubicBezTo>
                      <a:pt x="64767" y="52783"/>
                      <a:pt x="61759" y="70604"/>
                      <a:pt x="69273" y="83127"/>
                    </a:cubicBezTo>
                    <a:cubicBezTo>
                      <a:pt x="75994" y="94328"/>
                      <a:pt x="89736" y="99968"/>
                      <a:pt x="96982" y="110837"/>
                    </a:cubicBezTo>
                    <a:cubicBezTo>
                      <a:pt x="145896" y="184208"/>
                      <a:pt x="94722" y="156266"/>
                      <a:pt x="166255" y="180109"/>
                    </a:cubicBezTo>
                    <a:cubicBezTo>
                      <a:pt x="175491" y="193964"/>
                      <a:pt x="182190" y="209899"/>
                      <a:pt x="193964" y="221673"/>
                    </a:cubicBezTo>
                    <a:cubicBezTo>
                      <a:pt x="205738" y="233447"/>
                      <a:pt x="225125" y="236380"/>
                      <a:pt x="235527" y="249382"/>
                    </a:cubicBezTo>
                    <a:cubicBezTo>
                      <a:pt x="289265" y="316555"/>
                      <a:pt x="200263" y="274574"/>
                      <a:pt x="290946" y="304800"/>
                    </a:cubicBezTo>
                    <a:cubicBezTo>
                      <a:pt x="295564" y="323273"/>
                      <a:pt x="294238" y="344375"/>
                      <a:pt x="304800" y="360218"/>
                    </a:cubicBezTo>
                    <a:cubicBezTo>
                      <a:pt x="314036" y="374073"/>
                      <a:pt x="333362" y="377525"/>
                      <a:pt x="346364" y="387927"/>
                    </a:cubicBezTo>
                    <a:cubicBezTo>
                      <a:pt x="402510" y="432845"/>
                      <a:pt x="339574" y="407012"/>
                      <a:pt x="429491" y="429491"/>
                    </a:cubicBezTo>
                    <a:cubicBezTo>
                      <a:pt x="449938" y="460162"/>
                      <a:pt x="466759" y="491281"/>
                      <a:pt x="498764" y="512618"/>
                    </a:cubicBezTo>
                    <a:cubicBezTo>
                      <a:pt x="510915" y="520719"/>
                      <a:pt x="526473" y="521855"/>
                      <a:pt x="540327" y="526473"/>
                    </a:cubicBezTo>
                    <a:cubicBezTo>
                      <a:pt x="550540" y="557111"/>
                      <a:pt x="557055" y="617963"/>
                      <a:pt x="595746" y="637309"/>
                    </a:cubicBezTo>
                    <a:cubicBezTo>
                      <a:pt x="621870" y="650371"/>
                      <a:pt x="678873" y="665018"/>
                      <a:pt x="678873" y="665018"/>
                    </a:cubicBezTo>
                    <a:cubicBezTo>
                      <a:pt x="683491" y="678873"/>
                      <a:pt x="688715" y="692540"/>
                      <a:pt x="692727" y="706582"/>
                    </a:cubicBezTo>
                    <a:cubicBezTo>
                      <a:pt x="697958" y="724891"/>
                      <a:pt x="698066" y="744969"/>
                      <a:pt x="706582" y="762000"/>
                    </a:cubicBezTo>
                    <a:cubicBezTo>
                      <a:pt x="721475" y="791786"/>
                      <a:pt x="751469" y="813534"/>
                      <a:pt x="762000" y="845127"/>
                    </a:cubicBezTo>
                    <a:cubicBezTo>
                      <a:pt x="766618" y="858982"/>
                      <a:pt x="765528" y="876364"/>
                      <a:pt x="775855" y="886691"/>
                    </a:cubicBezTo>
                    <a:cubicBezTo>
                      <a:pt x="799403" y="910239"/>
                      <a:pt x="858982" y="942109"/>
                      <a:pt x="858982" y="942109"/>
                    </a:cubicBezTo>
                    <a:cubicBezTo>
                      <a:pt x="863600" y="960582"/>
                      <a:pt x="864321" y="980496"/>
                      <a:pt x="872836" y="997527"/>
                    </a:cubicBezTo>
                    <a:cubicBezTo>
                      <a:pt x="882707" y="1017269"/>
                      <a:pt x="927425" y="1043157"/>
                      <a:pt x="942109" y="1052946"/>
                    </a:cubicBezTo>
                    <a:cubicBezTo>
                      <a:pt x="975546" y="1103101"/>
                      <a:pt x="962371" y="1079616"/>
                      <a:pt x="983673" y="1122218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7"/>
              <p:cNvSpPr/>
              <p:nvPr/>
            </p:nvSpPr>
            <p:spPr>
              <a:xfrm>
                <a:off x="3492720" y="1707840"/>
                <a:ext cx="857160" cy="263520"/>
              </a:xfrm>
              <a:custGeom>
                <a:avLst/>
                <a:gdLst/>
                <a:ahLst/>
                <a:rect l="l" t="t" r="r" b="b"/>
                <a:pathLst>
                  <a:path w="857281" h="263875">
                    <a:moveTo>
                      <a:pt x="12154" y="24311"/>
                    </a:moveTo>
                    <a:cubicBezTo>
                      <a:pt x="46981" y="128791"/>
                      <a:pt x="0" y="0"/>
                      <a:pt x="53718" y="107438"/>
                    </a:cubicBezTo>
                    <a:cubicBezTo>
                      <a:pt x="60249" y="120500"/>
                      <a:pt x="55688" y="140514"/>
                      <a:pt x="67572" y="149002"/>
                    </a:cubicBezTo>
                    <a:cubicBezTo>
                      <a:pt x="91339" y="165979"/>
                      <a:pt x="122990" y="167475"/>
                      <a:pt x="150699" y="176711"/>
                    </a:cubicBezTo>
                    <a:cubicBezTo>
                      <a:pt x="266874" y="215436"/>
                      <a:pt x="177672" y="189708"/>
                      <a:pt x="427790" y="204420"/>
                    </a:cubicBezTo>
                    <a:cubicBezTo>
                      <a:pt x="446263" y="209038"/>
                      <a:pt x="465707" y="210774"/>
                      <a:pt x="483209" y="218275"/>
                    </a:cubicBezTo>
                    <a:cubicBezTo>
                      <a:pt x="520680" y="234334"/>
                      <a:pt x="523222" y="258042"/>
                      <a:pt x="566336" y="259838"/>
                    </a:cubicBezTo>
                    <a:cubicBezTo>
                      <a:pt x="663234" y="263875"/>
                      <a:pt x="760299" y="259838"/>
                      <a:pt x="857281" y="259838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35"/>
            <p:cNvGrpSpPr/>
            <p:nvPr/>
          </p:nvGrpSpPr>
          <p:grpSpPr>
            <a:xfrm>
              <a:off x="3338640" y="4348800"/>
              <a:ext cx="1011600" cy="1179000"/>
              <a:chOff x="3338640" y="4348800"/>
              <a:chExt cx="1011600" cy="1179000"/>
            </a:xfrm>
          </p:grpSpPr>
          <p:sp>
            <p:nvSpPr>
              <p:cNvPr id="64" name="Freeform 21"/>
              <p:cNvSpPr/>
              <p:nvPr/>
            </p:nvSpPr>
            <p:spPr>
              <a:xfrm>
                <a:off x="3338640" y="4669200"/>
                <a:ext cx="956160" cy="166320"/>
              </a:xfrm>
              <a:custGeom>
                <a:avLst/>
                <a:gdLst/>
                <a:ahLst/>
                <a:rect l="l" t="t" r="r" b="b"/>
                <a:pathLst>
                  <a:path w="955606" h="167714">
                    <a:moveTo>
                      <a:pt x="0" y="0"/>
                    </a:moveTo>
                    <a:cubicBezTo>
                      <a:pt x="55418" y="4618"/>
                      <a:pt x="111401" y="4712"/>
                      <a:pt x="166255" y="13854"/>
                    </a:cubicBezTo>
                    <a:cubicBezTo>
                      <a:pt x="195065" y="18656"/>
                      <a:pt x="221046" y="34479"/>
                      <a:pt x="249382" y="41563"/>
                    </a:cubicBezTo>
                    <a:cubicBezTo>
                      <a:pt x="267855" y="46181"/>
                      <a:pt x="286562" y="49947"/>
                      <a:pt x="304800" y="55418"/>
                    </a:cubicBezTo>
                    <a:cubicBezTo>
                      <a:pt x="304878" y="55442"/>
                      <a:pt x="408670" y="90042"/>
                      <a:pt x="429491" y="96982"/>
                    </a:cubicBezTo>
                    <a:lnTo>
                      <a:pt x="471055" y="110836"/>
                    </a:lnTo>
                    <a:cubicBezTo>
                      <a:pt x="587825" y="91375"/>
                      <a:pt x="556481" y="89393"/>
                      <a:pt x="706582" y="110836"/>
                    </a:cubicBezTo>
                    <a:cubicBezTo>
                      <a:pt x="721039" y="112901"/>
                      <a:pt x="734104" y="120679"/>
                      <a:pt x="748146" y="124691"/>
                    </a:cubicBezTo>
                    <a:cubicBezTo>
                      <a:pt x="766455" y="129922"/>
                      <a:pt x="784893" y="134811"/>
                      <a:pt x="803564" y="138545"/>
                    </a:cubicBezTo>
                    <a:cubicBezTo>
                      <a:pt x="831110" y="144054"/>
                      <a:pt x="859269" y="146306"/>
                      <a:pt x="886691" y="152400"/>
                    </a:cubicBezTo>
                    <a:cubicBezTo>
                      <a:pt x="955606" y="167714"/>
                      <a:pt x="906387" y="166254"/>
                      <a:pt x="942110" y="16625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2"/>
              <p:cNvSpPr/>
              <p:nvPr/>
            </p:nvSpPr>
            <p:spPr>
              <a:xfrm>
                <a:off x="3751560" y="4348800"/>
                <a:ext cx="543240" cy="499680"/>
              </a:xfrm>
              <a:custGeom>
                <a:avLst/>
                <a:gdLst/>
                <a:ahLst/>
                <a:rect l="l" t="t" r="r" b="b"/>
                <a:pathLst>
                  <a:path w="543361" h="500282">
                    <a:moveTo>
                      <a:pt x="30743" y="15373"/>
                    </a:moveTo>
                    <a:cubicBezTo>
                      <a:pt x="133136" y="117763"/>
                      <a:pt x="0" y="0"/>
                      <a:pt x="141579" y="70791"/>
                    </a:cubicBezTo>
                    <a:cubicBezTo>
                      <a:pt x="159104" y="79554"/>
                      <a:pt x="166840" y="101487"/>
                      <a:pt x="183143" y="112355"/>
                    </a:cubicBezTo>
                    <a:cubicBezTo>
                      <a:pt x="195294" y="120456"/>
                      <a:pt x="210852" y="121591"/>
                      <a:pt x="224707" y="126209"/>
                    </a:cubicBezTo>
                    <a:cubicBezTo>
                      <a:pt x="238561" y="135445"/>
                      <a:pt x="251377" y="146471"/>
                      <a:pt x="266270" y="153918"/>
                    </a:cubicBezTo>
                    <a:cubicBezTo>
                      <a:pt x="279332" y="160449"/>
                      <a:pt x="296430" y="158650"/>
                      <a:pt x="307834" y="167773"/>
                    </a:cubicBezTo>
                    <a:cubicBezTo>
                      <a:pt x="320836" y="178175"/>
                      <a:pt x="325141" y="196334"/>
                      <a:pt x="335543" y="209336"/>
                    </a:cubicBezTo>
                    <a:cubicBezTo>
                      <a:pt x="343703" y="219536"/>
                      <a:pt x="355092" y="226846"/>
                      <a:pt x="363252" y="237046"/>
                    </a:cubicBezTo>
                    <a:cubicBezTo>
                      <a:pt x="373654" y="250048"/>
                      <a:pt x="377959" y="268207"/>
                      <a:pt x="390961" y="278609"/>
                    </a:cubicBezTo>
                    <a:cubicBezTo>
                      <a:pt x="402365" y="287732"/>
                      <a:pt x="418670" y="287846"/>
                      <a:pt x="432525" y="292464"/>
                    </a:cubicBezTo>
                    <a:cubicBezTo>
                      <a:pt x="437143" y="306318"/>
                      <a:pt x="442837" y="319859"/>
                      <a:pt x="446379" y="334027"/>
                    </a:cubicBezTo>
                    <a:cubicBezTo>
                      <a:pt x="452090" y="356872"/>
                      <a:pt x="447172" y="383707"/>
                      <a:pt x="460234" y="403300"/>
                    </a:cubicBezTo>
                    <a:cubicBezTo>
                      <a:pt x="468335" y="415451"/>
                      <a:pt x="487943" y="412537"/>
                      <a:pt x="501797" y="417155"/>
                    </a:cubicBezTo>
                    <a:cubicBezTo>
                      <a:pt x="511034" y="431009"/>
                      <a:pt x="522060" y="443825"/>
                      <a:pt x="529507" y="458718"/>
                    </a:cubicBezTo>
                    <a:cubicBezTo>
                      <a:pt x="536038" y="471780"/>
                      <a:pt x="543361" y="500282"/>
                      <a:pt x="543361" y="500282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3"/>
              <p:cNvSpPr/>
              <p:nvPr/>
            </p:nvSpPr>
            <p:spPr>
              <a:xfrm>
                <a:off x="3449520" y="4821480"/>
                <a:ext cx="859320" cy="137880"/>
              </a:xfrm>
              <a:custGeom>
                <a:avLst/>
                <a:gdLst/>
                <a:ahLst/>
                <a:rect l="l" t="t" r="r" b="b"/>
                <a:pathLst>
                  <a:path w="858982" h="138545">
                    <a:moveTo>
                      <a:pt x="0" y="110836"/>
                    </a:moveTo>
                    <a:cubicBezTo>
                      <a:pt x="4618" y="96982"/>
                      <a:pt x="4731" y="80677"/>
                      <a:pt x="13854" y="69273"/>
                    </a:cubicBezTo>
                    <a:cubicBezTo>
                      <a:pt x="24256" y="56270"/>
                      <a:pt x="40525" y="49010"/>
                      <a:pt x="55418" y="41563"/>
                    </a:cubicBezTo>
                    <a:cubicBezTo>
                      <a:pt x="94104" y="22220"/>
                      <a:pt x="158232" y="18959"/>
                      <a:pt x="193963" y="13854"/>
                    </a:cubicBezTo>
                    <a:cubicBezTo>
                      <a:pt x="207818" y="9236"/>
                      <a:pt x="220923" y="0"/>
                      <a:pt x="235527" y="0"/>
                    </a:cubicBezTo>
                    <a:cubicBezTo>
                      <a:pt x="270353" y="0"/>
                      <a:pt x="290632" y="27552"/>
                      <a:pt x="318654" y="41563"/>
                    </a:cubicBezTo>
                    <a:cubicBezTo>
                      <a:pt x="331716" y="48094"/>
                      <a:pt x="345714" y="53712"/>
                      <a:pt x="360218" y="55418"/>
                    </a:cubicBezTo>
                    <a:cubicBezTo>
                      <a:pt x="424593" y="62992"/>
                      <a:pt x="489527" y="64655"/>
                      <a:pt x="554182" y="69273"/>
                    </a:cubicBezTo>
                    <a:cubicBezTo>
                      <a:pt x="562833" y="95226"/>
                      <a:pt x="567821" y="138545"/>
                      <a:pt x="609600" y="138545"/>
                    </a:cubicBezTo>
                    <a:cubicBezTo>
                      <a:pt x="638808" y="138545"/>
                      <a:pt x="692727" y="110836"/>
                      <a:pt x="692727" y="110836"/>
                    </a:cubicBezTo>
                    <a:cubicBezTo>
                      <a:pt x="746053" y="30847"/>
                      <a:pt x="703785" y="69273"/>
                      <a:pt x="858982" y="69273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4"/>
              <p:cNvSpPr/>
              <p:nvPr/>
            </p:nvSpPr>
            <p:spPr>
              <a:xfrm>
                <a:off x="3587760" y="4974120"/>
                <a:ext cx="735480" cy="401400"/>
              </a:xfrm>
              <a:custGeom>
                <a:avLst/>
                <a:gdLst/>
                <a:ahLst/>
                <a:rect l="l" t="t" r="r" b="b"/>
                <a:pathLst>
                  <a:path w="735751" h="401782">
                    <a:moveTo>
                      <a:pt x="0" y="401782"/>
                    </a:moveTo>
                    <a:cubicBezTo>
                      <a:pt x="9236" y="387927"/>
                      <a:pt x="20262" y="375111"/>
                      <a:pt x="27709" y="360218"/>
                    </a:cubicBezTo>
                    <a:cubicBezTo>
                      <a:pt x="34240" y="347156"/>
                      <a:pt x="32441" y="330058"/>
                      <a:pt x="41564" y="318654"/>
                    </a:cubicBezTo>
                    <a:cubicBezTo>
                      <a:pt x="51966" y="305652"/>
                      <a:pt x="69273" y="300181"/>
                      <a:pt x="83128" y="290945"/>
                    </a:cubicBezTo>
                    <a:cubicBezTo>
                      <a:pt x="92364" y="277091"/>
                      <a:pt x="96380" y="257643"/>
                      <a:pt x="110837" y="249382"/>
                    </a:cubicBezTo>
                    <a:cubicBezTo>
                      <a:pt x="131282" y="237699"/>
                      <a:pt x="156642" y="237483"/>
                      <a:pt x="180109" y="235527"/>
                    </a:cubicBezTo>
                    <a:cubicBezTo>
                      <a:pt x="267673" y="228230"/>
                      <a:pt x="355600" y="226291"/>
                      <a:pt x="443346" y="221673"/>
                    </a:cubicBezTo>
                    <a:cubicBezTo>
                      <a:pt x="466437" y="198582"/>
                      <a:pt x="507249" y="184611"/>
                      <a:pt x="512618" y="152400"/>
                    </a:cubicBezTo>
                    <a:cubicBezTo>
                      <a:pt x="517236" y="124691"/>
                      <a:pt x="501017" y="81152"/>
                      <a:pt x="526473" y="69273"/>
                    </a:cubicBezTo>
                    <a:cubicBezTo>
                      <a:pt x="585211" y="41862"/>
                      <a:pt x="655782" y="60036"/>
                      <a:pt x="720437" y="55418"/>
                    </a:cubicBezTo>
                    <a:cubicBezTo>
                      <a:pt x="735751" y="9473"/>
                      <a:pt x="734291" y="28458"/>
                      <a:pt x="734291" y="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6"/>
              <p:cNvSpPr/>
              <p:nvPr/>
            </p:nvSpPr>
            <p:spPr>
              <a:xfrm>
                <a:off x="3657600" y="5164560"/>
                <a:ext cx="692640" cy="363240"/>
              </a:xfrm>
              <a:custGeom>
                <a:avLst/>
                <a:gdLst/>
                <a:ahLst/>
                <a:rect l="l" t="t" r="r" b="b"/>
                <a:pathLst>
                  <a:path w="692727" h="363484">
                    <a:moveTo>
                      <a:pt x="0" y="363484"/>
                    </a:moveTo>
                    <a:cubicBezTo>
                      <a:pt x="113" y="363468"/>
                      <a:pt x="115788" y="352843"/>
                      <a:pt x="138545" y="335775"/>
                    </a:cubicBezTo>
                    <a:cubicBezTo>
                      <a:pt x="164669" y="316182"/>
                      <a:pt x="184727" y="289593"/>
                      <a:pt x="207818" y="266502"/>
                    </a:cubicBezTo>
                    <a:cubicBezTo>
                      <a:pt x="221673" y="252647"/>
                      <a:pt x="233079" y="235807"/>
                      <a:pt x="249382" y="224938"/>
                    </a:cubicBezTo>
                    <a:cubicBezTo>
                      <a:pt x="263236" y="215702"/>
                      <a:pt x="274521" y="199966"/>
                      <a:pt x="290945" y="197229"/>
                    </a:cubicBezTo>
                    <a:cubicBezTo>
                      <a:pt x="359427" y="185815"/>
                      <a:pt x="429491" y="187993"/>
                      <a:pt x="498764" y="183375"/>
                    </a:cubicBezTo>
                    <a:lnTo>
                      <a:pt x="526473" y="100247"/>
                    </a:lnTo>
                    <a:cubicBezTo>
                      <a:pt x="531091" y="86393"/>
                      <a:pt x="526473" y="63302"/>
                      <a:pt x="540327" y="58684"/>
                    </a:cubicBezTo>
                    <a:cubicBezTo>
                      <a:pt x="554182" y="54066"/>
                      <a:pt x="567723" y="48371"/>
                      <a:pt x="581891" y="44829"/>
                    </a:cubicBezTo>
                    <a:cubicBezTo>
                      <a:pt x="604736" y="39118"/>
                      <a:pt x="628073" y="35593"/>
                      <a:pt x="651164" y="30975"/>
                    </a:cubicBezTo>
                    <a:cubicBezTo>
                      <a:pt x="682138" y="0"/>
                      <a:pt x="665811" y="3265"/>
                      <a:pt x="692727" y="3265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Group 33"/>
          <p:cNvGrpSpPr/>
          <p:nvPr/>
        </p:nvGrpSpPr>
        <p:grpSpPr>
          <a:xfrm>
            <a:off x="3367080" y="2313000"/>
            <a:ext cx="1536840" cy="1427040"/>
            <a:chOff x="3367080" y="2313000"/>
            <a:chExt cx="1536840" cy="1427040"/>
          </a:xfrm>
        </p:grpSpPr>
        <p:sp>
          <p:nvSpPr>
            <p:cNvPr id="70" name="Freeform 28"/>
            <p:cNvSpPr/>
            <p:nvPr/>
          </p:nvSpPr>
          <p:spPr>
            <a:xfrm>
              <a:off x="3879720" y="2313000"/>
              <a:ext cx="484200" cy="473040"/>
            </a:xfrm>
            <a:custGeom>
              <a:avLst/>
              <a:gdLst/>
              <a:ahLst/>
              <a:rect l="l" t="t" r="r" b="b"/>
              <a:pathLst>
                <a:path w="484909" h="473722">
                  <a:moveTo>
                    <a:pt x="0" y="0"/>
                  </a:moveTo>
                  <a:cubicBezTo>
                    <a:pt x="9236" y="27709"/>
                    <a:pt x="3407" y="66925"/>
                    <a:pt x="27709" y="83127"/>
                  </a:cubicBezTo>
                  <a:cubicBezTo>
                    <a:pt x="41563" y="92363"/>
                    <a:pt x="54379" y="103389"/>
                    <a:pt x="69272" y="110836"/>
                  </a:cubicBezTo>
                  <a:cubicBezTo>
                    <a:pt x="92552" y="122476"/>
                    <a:pt x="144059" y="131888"/>
                    <a:pt x="166254" y="138546"/>
                  </a:cubicBezTo>
                  <a:cubicBezTo>
                    <a:pt x="194230" y="146939"/>
                    <a:pt x="249382" y="166255"/>
                    <a:pt x="249382" y="166255"/>
                  </a:cubicBezTo>
                  <a:cubicBezTo>
                    <a:pt x="257285" y="189965"/>
                    <a:pt x="267924" y="234035"/>
                    <a:pt x="290945" y="249382"/>
                  </a:cubicBezTo>
                  <a:cubicBezTo>
                    <a:pt x="306788" y="259944"/>
                    <a:pt x="327890" y="258618"/>
                    <a:pt x="346363" y="263236"/>
                  </a:cubicBezTo>
                  <a:cubicBezTo>
                    <a:pt x="364836" y="281709"/>
                    <a:pt x="393521" y="293871"/>
                    <a:pt x="401782" y="318655"/>
                  </a:cubicBezTo>
                  <a:cubicBezTo>
                    <a:pt x="436603" y="423120"/>
                    <a:pt x="389633" y="294357"/>
                    <a:pt x="443345" y="401782"/>
                  </a:cubicBezTo>
                  <a:cubicBezTo>
                    <a:pt x="479315" y="473722"/>
                    <a:pt x="430788" y="416934"/>
                    <a:pt x="484909" y="471055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2"/>
            <p:cNvGrpSpPr/>
            <p:nvPr/>
          </p:nvGrpSpPr>
          <p:grpSpPr>
            <a:xfrm>
              <a:off x="3367080" y="2644200"/>
              <a:ext cx="1536840" cy="1095840"/>
              <a:chOff x="3367080" y="2644200"/>
              <a:chExt cx="1536840" cy="1095840"/>
            </a:xfrm>
          </p:grpSpPr>
          <p:sp>
            <p:nvSpPr>
              <p:cNvPr id="72" name="Freeform 11"/>
              <p:cNvSpPr/>
              <p:nvPr/>
            </p:nvSpPr>
            <p:spPr>
              <a:xfrm>
                <a:off x="3892680" y="2854080"/>
                <a:ext cx="512640" cy="372960"/>
              </a:xfrm>
              <a:custGeom>
                <a:avLst/>
                <a:gdLst/>
                <a:ahLst/>
                <a:rect l="l" t="t" r="r" b="b"/>
                <a:pathLst>
                  <a:path w="512618" h="374073">
                    <a:moveTo>
                      <a:pt x="0" y="0"/>
                    </a:moveTo>
                    <a:cubicBezTo>
                      <a:pt x="42718" y="48491"/>
                      <a:pt x="85436" y="96982"/>
                      <a:pt x="152400" y="152400"/>
                    </a:cubicBezTo>
                    <a:cubicBezTo>
                      <a:pt x="219364" y="207818"/>
                      <a:pt x="341746" y="295564"/>
                      <a:pt x="401782" y="332509"/>
                    </a:cubicBezTo>
                    <a:cubicBezTo>
                      <a:pt x="461818" y="369454"/>
                      <a:pt x="512618" y="374073"/>
                      <a:pt x="512618" y="374073"/>
                    </a:cubicBezTo>
                    <a:lnTo>
                      <a:pt x="512618" y="374073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" name="Group 30"/>
              <p:cNvGrpSpPr/>
              <p:nvPr/>
            </p:nvGrpSpPr>
            <p:grpSpPr>
              <a:xfrm>
                <a:off x="3367080" y="2644200"/>
                <a:ext cx="1536840" cy="1095840"/>
                <a:chOff x="3367080" y="2644200"/>
                <a:chExt cx="1536840" cy="1095840"/>
              </a:xfrm>
            </p:grpSpPr>
            <p:sp>
              <p:nvSpPr>
                <p:cNvPr id="74" name="Freeform 10"/>
                <p:cNvSpPr/>
                <p:nvPr/>
              </p:nvSpPr>
              <p:spPr>
                <a:xfrm>
                  <a:off x="3504960" y="2839320"/>
                  <a:ext cx="468360" cy="408240"/>
                </a:xfrm>
                <a:custGeom>
                  <a:avLst/>
                  <a:gdLst/>
                  <a:ahLst/>
                  <a:rect l="l" t="t" r="r" b="b"/>
                  <a:pathLst>
                    <a:path w="468745" h="408710">
                      <a:moveTo>
                        <a:pt x="0" y="1"/>
                      </a:moveTo>
                      <a:cubicBezTo>
                        <a:pt x="39254" y="0"/>
                        <a:pt x="78509" y="0"/>
                        <a:pt x="110836" y="41564"/>
                      </a:cubicBezTo>
                      <a:cubicBezTo>
                        <a:pt x="143163" y="83128"/>
                        <a:pt x="140855" y="191656"/>
                        <a:pt x="193964" y="249383"/>
                      </a:cubicBezTo>
                      <a:cubicBezTo>
                        <a:pt x="247073" y="307110"/>
                        <a:pt x="390237" y="367146"/>
                        <a:pt x="429491" y="387928"/>
                      </a:cubicBezTo>
                      <a:cubicBezTo>
                        <a:pt x="468745" y="408710"/>
                        <a:pt x="449118" y="391392"/>
                        <a:pt x="429491" y="374074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12"/>
                <p:cNvSpPr/>
                <p:nvPr/>
              </p:nvSpPr>
              <p:spPr>
                <a:xfrm>
                  <a:off x="3838680" y="3311280"/>
                  <a:ext cx="399960" cy="428760"/>
                </a:xfrm>
                <a:custGeom>
                  <a:avLst/>
                  <a:gdLst/>
                  <a:ahLst/>
                  <a:rect l="l" t="t" r="r" b="b"/>
                  <a:pathLst>
                    <a:path w="401782" h="429491">
                      <a:moveTo>
                        <a:pt x="0" y="429491"/>
                      </a:moveTo>
                      <a:cubicBezTo>
                        <a:pt x="103909" y="348673"/>
                        <a:pt x="207818" y="267855"/>
                        <a:pt x="263236" y="221673"/>
                      </a:cubicBezTo>
                      <a:cubicBezTo>
                        <a:pt x="318654" y="175491"/>
                        <a:pt x="309418" y="189345"/>
                        <a:pt x="332509" y="152400"/>
                      </a:cubicBezTo>
                      <a:cubicBezTo>
                        <a:pt x="355600" y="115455"/>
                        <a:pt x="401782" y="0"/>
                        <a:pt x="401782" y="0"/>
                      </a:cubicBezTo>
                      <a:lnTo>
                        <a:pt x="401782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27"/>
                <p:cNvSpPr/>
                <p:nvPr/>
              </p:nvSpPr>
              <p:spPr>
                <a:xfrm>
                  <a:off x="3367080" y="3185640"/>
                  <a:ext cx="1536840" cy="508320"/>
                </a:xfrm>
                <a:custGeom>
                  <a:avLst/>
                  <a:gdLst/>
                  <a:ahLst/>
                  <a:rect l="l" t="t" r="r" b="b"/>
                  <a:pathLst>
                    <a:path w="1537854" h="507526">
                      <a:moveTo>
                        <a:pt x="0" y="0"/>
                      </a:moveTo>
                      <a:cubicBezTo>
                        <a:pt x="4618" y="18473"/>
                        <a:pt x="2786" y="39924"/>
                        <a:pt x="13854" y="55419"/>
                      </a:cubicBezTo>
                      <a:cubicBezTo>
                        <a:pt x="44571" y="98423"/>
                        <a:pt x="79802" y="99615"/>
                        <a:pt x="124690" y="110837"/>
                      </a:cubicBezTo>
                      <a:cubicBezTo>
                        <a:pt x="145263" y="141695"/>
                        <a:pt x="151909" y="157550"/>
                        <a:pt x="180109" y="180110"/>
                      </a:cubicBezTo>
                      <a:cubicBezTo>
                        <a:pt x="193111" y="190512"/>
                        <a:pt x="205723" y="203034"/>
                        <a:pt x="221672" y="207819"/>
                      </a:cubicBezTo>
                      <a:cubicBezTo>
                        <a:pt x="252950" y="217202"/>
                        <a:pt x="286327" y="217055"/>
                        <a:pt x="318654" y="221673"/>
                      </a:cubicBezTo>
                      <a:cubicBezTo>
                        <a:pt x="477746" y="181902"/>
                        <a:pt x="281694" y="237514"/>
                        <a:pt x="415636" y="180110"/>
                      </a:cubicBezTo>
                      <a:cubicBezTo>
                        <a:pt x="432757" y="172772"/>
                        <a:pt x="527997" y="154866"/>
                        <a:pt x="540327" y="152400"/>
                      </a:cubicBezTo>
                      <a:cubicBezTo>
                        <a:pt x="554181" y="143164"/>
                        <a:pt x="571488" y="137693"/>
                        <a:pt x="581890" y="124691"/>
                      </a:cubicBezTo>
                      <a:cubicBezTo>
                        <a:pt x="591013" y="113287"/>
                        <a:pt x="581254" y="84939"/>
                        <a:pt x="595745" y="83128"/>
                      </a:cubicBezTo>
                      <a:cubicBezTo>
                        <a:pt x="737877" y="65362"/>
                        <a:pt x="882072" y="73891"/>
                        <a:pt x="1025236" y="69273"/>
                      </a:cubicBezTo>
                      <a:cubicBezTo>
                        <a:pt x="1062181" y="64655"/>
                        <a:pt x="1100151" y="65215"/>
                        <a:pt x="1136072" y="55419"/>
                      </a:cubicBezTo>
                      <a:cubicBezTo>
                        <a:pt x="1152136" y="51038"/>
                        <a:pt x="1161053" y="29218"/>
                        <a:pt x="1177636" y="27710"/>
                      </a:cubicBezTo>
                      <a:cubicBezTo>
                        <a:pt x="1214716" y="24339"/>
                        <a:pt x="1251527" y="36946"/>
                        <a:pt x="1288472" y="41564"/>
                      </a:cubicBezTo>
                      <a:cubicBezTo>
                        <a:pt x="1293090" y="55419"/>
                        <a:pt x="1298785" y="68960"/>
                        <a:pt x="1302327" y="83128"/>
                      </a:cubicBezTo>
                      <a:cubicBezTo>
                        <a:pt x="1308038" y="105973"/>
                        <a:pt x="1304745" y="131815"/>
                        <a:pt x="1316181" y="152400"/>
                      </a:cubicBezTo>
                      <a:cubicBezTo>
                        <a:pt x="1328868" y="175237"/>
                        <a:pt x="1371600" y="207819"/>
                        <a:pt x="1371600" y="207819"/>
                      </a:cubicBezTo>
                      <a:cubicBezTo>
                        <a:pt x="1374189" y="218176"/>
                        <a:pt x="1390789" y="290599"/>
                        <a:pt x="1399309" y="304800"/>
                      </a:cubicBezTo>
                      <a:cubicBezTo>
                        <a:pt x="1406030" y="316001"/>
                        <a:pt x="1417782" y="323273"/>
                        <a:pt x="1427018" y="332510"/>
                      </a:cubicBezTo>
                      <a:cubicBezTo>
                        <a:pt x="1431636" y="346364"/>
                        <a:pt x="1436860" y="360031"/>
                        <a:pt x="1440872" y="374073"/>
                      </a:cubicBezTo>
                      <a:cubicBezTo>
                        <a:pt x="1446103" y="392382"/>
                        <a:pt x="1444165" y="413648"/>
                        <a:pt x="1454727" y="429491"/>
                      </a:cubicBezTo>
                      <a:cubicBezTo>
                        <a:pt x="1463963" y="443345"/>
                        <a:pt x="1482436" y="447964"/>
                        <a:pt x="1496290" y="457200"/>
                      </a:cubicBezTo>
                      <a:cubicBezTo>
                        <a:pt x="1513066" y="507526"/>
                        <a:pt x="1495541" y="498764"/>
                        <a:pt x="1537854" y="498764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29"/>
                <p:cNvSpPr/>
                <p:nvPr/>
              </p:nvSpPr>
              <p:spPr>
                <a:xfrm>
                  <a:off x="3935520" y="2644200"/>
                  <a:ext cx="708120" cy="574920"/>
                </a:xfrm>
                <a:custGeom>
                  <a:avLst/>
                  <a:gdLst/>
                  <a:ahLst/>
                  <a:rect l="l" t="t" r="r" b="b"/>
                  <a:pathLst>
                    <a:path w="709503" h="575523">
                      <a:moveTo>
                        <a:pt x="0" y="1267"/>
                      </a:moveTo>
                      <a:cubicBezTo>
                        <a:pt x="36945" y="5885"/>
                        <a:pt x="76812" y="0"/>
                        <a:pt x="110836" y="15122"/>
                      </a:cubicBezTo>
                      <a:cubicBezTo>
                        <a:pt x="124181" y="21053"/>
                        <a:pt x="112807" y="48197"/>
                        <a:pt x="124691" y="56685"/>
                      </a:cubicBezTo>
                      <a:cubicBezTo>
                        <a:pt x="148459" y="73662"/>
                        <a:pt x="207818" y="84394"/>
                        <a:pt x="207818" y="84394"/>
                      </a:cubicBezTo>
                      <a:cubicBezTo>
                        <a:pt x="314318" y="155396"/>
                        <a:pt x="258096" y="134338"/>
                        <a:pt x="374073" y="153667"/>
                      </a:cubicBezTo>
                      <a:cubicBezTo>
                        <a:pt x="405522" y="169392"/>
                        <a:pt x="443638" y="185585"/>
                        <a:pt x="471054" y="209085"/>
                      </a:cubicBezTo>
                      <a:cubicBezTo>
                        <a:pt x="554729" y="280807"/>
                        <a:pt x="491666" y="252902"/>
                        <a:pt x="568036" y="278358"/>
                      </a:cubicBezTo>
                      <a:cubicBezTo>
                        <a:pt x="568940" y="281975"/>
                        <a:pt x="588519" y="366308"/>
                        <a:pt x="595745" y="375340"/>
                      </a:cubicBezTo>
                      <a:cubicBezTo>
                        <a:pt x="615277" y="399755"/>
                        <a:pt x="651493" y="407777"/>
                        <a:pt x="678873" y="416904"/>
                      </a:cubicBezTo>
                      <a:cubicBezTo>
                        <a:pt x="683491" y="444613"/>
                        <a:pt x="686633" y="472609"/>
                        <a:pt x="692727" y="500031"/>
                      </a:cubicBezTo>
                      <a:cubicBezTo>
                        <a:pt x="709503" y="575523"/>
                        <a:pt x="706582" y="511073"/>
                        <a:pt x="706582" y="569304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" name="Oval 31"/>
          <p:cNvSpPr/>
          <p:nvPr/>
        </p:nvSpPr>
        <p:spPr>
          <a:xfrm>
            <a:off x="4429080" y="3071880"/>
            <a:ext cx="500040" cy="8571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357360" y="999720"/>
            <a:ext cx="53290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Note the location of the haematoma, it lies between the dura and the internal surface of the skull  i.e. it is </a:t>
            </a:r>
            <a:r>
              <a:rPr b="1" i="1" lang="en-ZA" sz="2400" spc="-1" strike="noStrike">
                <a:solidFill>
                  <a:srgbClr val="000000"/>
                </a:solidFill>
                <a:latin typeface="Calibri"/>
              </a:rPr>
              <a:t>epi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dural or </a:t>
            </a:r>
            <a:r>
              <a:rPr b="1" i="1" lang="en-ZA" sz="2400" spc="-1" strike="noStrike">
                <a:solidFill>
                  <a:srgbClr val="000000"/>
                </a:solidFill>
                <a:latin typeface="Calibri"/>
              </a:rPr>
              <a:t>extra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dural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(Under arterial pressure the expanding haematoma  stripped the dura from the periosteum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Contrast this with a </a:t>
            </a:r>
            <a:r>
              <a:rPr b="1" i="1" lang="en-ZA" sz="2400" spc="-1" strike="noStrike">
                <a:solidFill>
                  <a:srgbClr val="000000"/>
                </a:solidFill>
                <a:latin typeface="Calibri"/>
              </a:rPr>
              <a:t>sub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dural haematoma, which would collect between the dura and the surface of the b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" descr="IMG_0015_1.tif"/>
          <p:cNvPicPr/>
          <p:nvPr/>
        </p:nvPicPr>
        <p:blipFill>
          <a:blip r:embed="rId1"/>
          <a:srcRect l="0" t="0" r="52154" b="0"/>
          <a:stretch/>
        </p:blipFill>
        <p:spPr>
          <a:xfrm>
            <a:off x="928800" y="714240"/>
            <a:ext cx="2000160" cy="551052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7"/>
          <p:cNvGrpSpPr/>
          <p:nvPr/>
        </p:nvGrpSpPr>
        <p:grpSpPr>
          <a:xfrm>
            <a:off x="1219320" y="1143000"/>
            <a:ext cx="1674720" cy="2297520"/>
            <a:chOff x="1219320" y="1143000"/>
            <a:chExt cx="1674720" cy="2297520"/>
          </a:xfrm>
        </p:grpSpPr>
        <p:sp>
          <p:nvSpPr>
            <p:cNvPr id="82" name="TextBox 4"/>
            <p:cNvSpPr/>
            <p:nvPr/>
          </p:nvSpPr>
          <p:spPr>
            <a:xfrm>
              <a:off x="1219320" y="307224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d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5"/>
            <p:cNvSpPr/>
            <p:nvPr/>
          </p:nvSpPr>
          <p:spPr>
            <a:xfrm>
              <a:off x="2148120" y="1143000"/>
              <a:ext cx="70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ffffff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ffffff"/>
                  </a:solidFill>
                  <a:latin typeface="Arial"/>
                </a:rPr>
                <a:t>sk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6"/>
            <p:cNvSpPr/>
            <p:nvPr/>
          </p:nvSpPr>
          <p:spPr>
            <a:xfrm>
              <a:off x="1509480" y="221472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ff0000"/>
                  </a:solidFill>
                  <a:latin typeface="Arial"/>
                </a:rPr>
                <a:t>haemato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900000" y="5932440"/>
            <a:ext cx="8636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n epidural haemorrhage can expand rapidly and is a neurosurgical emerg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Decompression is required, usually by craniotom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2:55:28Z</dcterms:created>
  <dc:creator>New Win User</dc:creator>
  <dc:description/>
  <dc:language>en-US</dc:language>
  <cp:lastModifiedBy>Sam</cp:lastModifiedBy>
  <dcterms:modified xsi:type="dcterms:W3CDTF">2011-09-10T22:18:17Z</dcterms:modified>
  <cp:revision>48</cp:revision>
  <dc:subject/>
  <dc:title>Epidural haematoma</dc:title>
</cp:coreProperties>
</file>