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8C16D-7059-4FD2-969E-CE2F48C4D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C25F9-C42B-4430-8811-356CC90B7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75E5F-EB4F-43B0-82E7-15D84C467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41062-D8A2-46CF-B945-5EB980EC1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1C055-EF2D-4699-B4FB-62D85CEFC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94EAB-6D2E-4F24-ADD6-93BE931EF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C9082-0925-45F2-8984-B9228B897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7FC1B-A549-4509-8C98-F94E9CE54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52C43-D953-4B54-8429-28474EBC6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3C4C6-1FEB-4E4C-823F-988B8E6BF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95136-ACB6-4ADE-8522-A23466FD5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6A138-F5CC-4F66-9FD2-EF873721B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83850-163C-447B-AE31-F57622E531F3}" type="slidenum">
              <a:rPr b="0" lang="en-Z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7" descr=""/>
          <p:cNvPicPr/>
          <p:nvPr/>
        </p:nvPicPr>
        <p:blipFill>
          <a:blip r:embed="rId2"/>
          <a:stretch/>
        </p:blipFill>
        <p:spPr>
          <a:xfrm>
            <a:off x="7740720" y="6130800"/>
            <a:ext cx="1117440" cy="393840"/>
          </a:xfrm>
          <a:prstGeom prst="rect">
            <a:avLst/>
          </a:prstGeom>
          <a:ln w="0">
            <a:noFill/>
          </a:ln>
        </p:spPr>
      </p:pic>
      <p:sp>
        <p:nvSpPr>
          <p:cNvPr id="6" name="TextBox 2"/>
          <p:cNvSpPr/>
          <p:nvPr/>
        </p:nvSpPr>
        <p:spPr>
          <a:xfrm>
            <a:off x="7192080" y="652464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200" spc="-1" strike="noStrike">
                <a:solidFill>
                  <a:srgbClr val="000000"/>
                </a:solidFill>
                <a:latin typeface="Arial"/>
              </a:rPr>
              <a:t>University of Cape T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4360" y="907920"/>
            <a:ext cx="7772400" cy="136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376092"/>
                </a:solidFill>
                <a:latin typeface="Calibri"/>
              </a:rPr>
              <a:t>Primary pulmonary tuberculo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403280" y="4581000"/>
            <a:ext cx="6400800" cy="19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898989"/>
                </a:solidFill>
                <a:latin typeface="Calibri"/>
              </a:rPr>
              <a:t>Digital Pathology Colle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898989"/>
                </a:solidFill>
                <a:latin typeface="Calibri"/>
              </a:rPr>
              <a:t>Case 2  200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898989"/>
                </a:solidFill>
                <a:latin typeface="Calibri"/>
              </a:rPr>
              <a:t>Ref.  V:viii:2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Content Placeholder 4" descr="fCOW 005.jpg"/>
          <p:cNvPicPr/>
          <p:nvPr/>
        </p:nvPicPr>
        <p:blipFill>
          <a:blip r:embed="rId1"/>
          <a:srcRect l="0" t="2375" r="0" b="4722"/>
          <a:stretch/>
        </p:blipFill>
        <p:spPr>
          <a:xfrm>
            <a:off x="3492360" y="2112840"/>
            <a:ext cx="1871640" cy="23180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" descr=""/>
          <p:cNvPicPr/>
          <p:nvPr/>
        </p:nvPicPr>
        <p:blipFill>
          <a:blip r:embed="rId2"/>
          <a:stretch/>
        </p:blipFill>
        <p:spPr>
          <a:xfrm>
            <a:off x="3492360" y="2112840"/>
            <a:ext cx="630360" cy="2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Calibri"/>
              </a:rPr>
              <a:t>There is no clinical history recorde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Calibri"/>
              </a:rPr>
              <a:t>The specimen consists of the hilum and lungs of an infant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5" descr=""/>
          <p:cNvPicPr/>
          <p:nvPr/>
        </p:nvPicPr>
        <p:blipFill>
          <a:blip r:embed="rId1"/>
          <a:stretch/>
        </p:blipFill>
        <p:spPr>
          <a:xfrm>
            <a:off x="4429080" y="571680"/>
            <a:ext cx="4464000" cy="62863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456840" y="857160"/>
            <a:ext cx="361476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Calibri"/>
              </a:rPr>
              <a:t>In the lower lobe of the left lung on its medial aspect there is a caseous focus, the Ghon focu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Calibri"/>
              </a:rPr>
              <a:t>There is prominent caseation of the draining tracheobronchial and mediastinal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Calibri"/>
              </a:rPr>
              <a:t>The Ghon focus in the lung together with the involved hilar nodes form the ‘</a:t>
            </a:r>
            <a:r>
              <a:rPr b="0" lang="en-ZA" sz="2400" spc="-1" strike="noStrike">
                <a:solidFill>
                  <a:srgbClr val="31859c"/>
                </a:solidFill>
                <a:latin typeface="Calibri"/>
              </a:rPr>
              <a:t>primary complex</a:t>
            </a:r>
            <a:r>
              <a:rPr b="0" lang="en-ZA" sz="2400" spc="-1" strike="noStrike">
                <a:solidFill>
                  <a:srgbClr val="000000"/>
                </a:solidFill>
                <a:latin typeface="Calibri"/>
              </a:rPr>
              <a:t>’ or Ghon complex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0" name="Group 10"/>
          <p:cNvGrpSpPr/>
          <p:nvPr/>
        </p:nvGrpSpPr>
        <p:grpSpPr>
          <a:xfrm>
            <a:off x="6040440" y="4186080"/>
            <a:ext cx="1930320" cy="1612080"/>
            <a:chOff x="6040440" y="4186080"/>
            <a:chExt cx="1930320" cy="1612080"/>
          </a:xfrm>
        </p:grpSpPr>
        <p:sp>
          <p:nvSpPr>
            <p:cNvPr id="51" name="Freeform 8"/>
            <p:cNvSpPr/>
            <p:nvPr/>
          </p:nvSpPr>
          <p:spPr>
            <a:xfrm>
              <a:off x="6040440" y="4186080"/>
              <a:ext cx="1609560" cy="1197360"/>
            </a:xfrm>
            <a:custGeom>
              <a:avLst/>
              <a:gdLst/>
              <a:ahLst/>
              <a:rect l="l" t="t" r="r" b="b"/>
              <a:pathLst>
                <a:path w="1610810" h="1196051">
                  <a:moveTo>
                    <a:pt x="1298293" y="73307"/>
                  </a:moveTo>
                  <a:cubicBezTo>
                    <a:pt x="1419827" y="131180"/>
                    <a:pt x="1610810" y="262359"/>
                    <a:pt x="1599235" y="443696"/>
                  </a:cubicBezTo>
                  <a:cubicBezTo>
                    <a:pt x="1587660" y="625033"/>
                    <a:pt x="1485417" y="1126603"/>
                    <a:pt x="1228845" y="1161327"/>
                  </a:cubicBezTo>
                  <a:cubicBezTo>
                    <a:pt x="972273" y="1196051"/>
                    <a:pt x="119604" y="829519"/>
                    <a:pt x="59802" y="652041"/>
                  </a:cubicBezTo>
                  <a:cubicBezTo>
                    <a:pt x="0" y="474563"/>
                    <a:pt x="659757" y="192912"/>
                    <a:pt x="870030" y="96456"/>
                  </a:cubicBezTo>
                  <a:cubicBezTo>
                    <a:pt x="1080303" y="0"/>
                    <a:pt x="1176759" y="15434"/>
                    <a:pt x="1298293" y="73307"/>
                  </a:cubicBezTo>
                  <a:close/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TextBox 9"/>
            <p:cNvSpPr/>
            <p:nvPr/>
          </p:nvSpPr>
          <p:spPr>
            <a:xfrm>
              <a:off x="6720120" y="5429880"/>
              <a:ext cx="1250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ZA" sz="1800" spc="-1" strike="noStrike">
                  <a:solidFill>
                    <a:srgbClr val="ff0000"/>
                  </a:solidFill>
                  <a:latin typeface="Calibri"/>
                </a:rPr>
                <a:t>Ghon focu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Group 19"/>
          <p:cNvGrpSpPr/>
          <p:nvPr/>
        </p:nvGrpSpPr>
        <p:grpSpPr>
          <a:xfrm>
            <a:off x="4500720" y="1071720"/>
            <a:ext cx="3429000" cy="3214440"/>
            <a:chOff x="4500720" y="1071720"/>
            <a:chExt cx="3429000" cy="3214440"/>
          </a:xfrm>
        </p:grpSpPr>
        <p:grpSp>
          <p:nvGrpSpPr>
            <p:cNvPr id="54" name="Group 17"/>
            <p:cNvGrpSpPr/>
            <p:nvPr/>
          </p:nvGrpSpPr>
          <p:grpSpPr>
            <a:xfrm>
              <a:off x="5787000" y="1500120"/>
              <a:ext cx="2142720" cy="2786040"/>
              <a:chOff x="5787000" y="1500120"/>
              <a:chExt cx="2142720" cy="2786040"/>
            </a:xfrm>
          </p:grpSpPr>
          <p:sp>
            <p:nvSpPr>
              <p:cNvPr id="55" name="Oval 11"/>
              <p:cNvSpPr/>
              <p:nvPr/>
            </p:nvSpPr>
            <p:spPr>
              <a:xfrm>
                <a:off x="6001200" y="3000240"/>
                <a:ext cx="571320" cy="914400"/>
              </a:xfrm>
              <a:prstGeom prst="ellipse">
                <a:avLst/>
              </a:prstGeom>
              <a:noFill/>
              <a:ln w="25560">
                <a:solidFill>
                  <a:srgbClr val="ffc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Oval 12"/>
              <p:cNvSpPr/>
              <p:nvPr/>
            </p:nvSpPr>
            <p:spPr>
              <a:xfrm>
                <a:off x="7215480" y="1857240"/>
                <a:ext cx="714240" cy="571320"/>
              </a:xfrm>
              <a:prstGeom prst="ellipse">
                <a:avLst/>
              </a:prstGeom>
              <a:noFill/>
              <a:ln w="25560">
                <a:solidFill>
                  <a:srgbClr val="ffc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Oval 14"/>
              <p:cNvSpPr/>
              <p:nvPr/>
            </p:nvSpPr>
            <p:spPr>
              <a:xfrm>
                <a:off x="6787080" y="3714840"/>
                <a:ext cx="642600" cy="571320"/>
              </a:xfrm>
              <a:prstGeom prst="ellipse">
                <a:avLst/>
              </a:prstGeom>
              <a:noFill/>
              <a:ln w="25560">
                <a:solidFill>
                  <a:srgbClr val="ffc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Oval 16"/>
              <p:cNvSpPr/>
              <p:nvPr/>
            </p:nvSpPr>
            <p:spPr>
              <a:xfrm>
                <a:off x="5787000" y="1500120"/>
                <a:ext cx="1285560" cy="1571760"/>
              </a:xfrm>
              <a:prstGeom prst="ellipse">
                <a:avLst/>
              </a:prstGeom>
              <a:noFill/>
              <a:ln w="25560">
                <a:solidFill>
                  <a:srgbClr val="ffc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" name="TextBox 18"/>
            <p:cNvSpPr/>
            <p:nvPr/>
          </p:nvSpPr>
          <p:spPr>
            <a:xfrm>
              <a:off x="4500720" y="1071720"/>
              <a:ext cx="1500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ZA" sz="1800" spc="-1" strike="noStrike">
                  <a:solidFill>
                    <a:srgbClr val="ffc000"/>
                  </a:solidFill>
                  <a:latin typeface="Calibri"/>
                </a:rPr>
                <a:t>Caseating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ZA" sz="1800" spc="-1" strike="noStrike">
                  <a:solidFill>
                    <a:srgbClr val="ffc000"/>
                  </a:solidFill>
                  <a:latin typeface="Calibri"/>
                </a:rPr>
                <a:t>lymph nod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0" name="Picture 13" descr=""/>
          <p:cNvPicPr/>
          <p:nvPr/>
        </p:nvPicPr>
        <p:blipFill>
          <a:blip r:embed="rId2"/>
          <a:stretch/>
        </p:blipFill>
        <p:spPr>
          <a:xfrm>
            <a:off x="8263080" y="571680"/>
            <a:ext cx="630000" cy="22212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4"/>
          <p:cNvSpPr/>
          <p:nvPr/>
        </p:nvSpPr>
        <p:spPr>
          <a:xfrm>
            <a:off x="8748720" y="6308640"/>
            <a:ext cx="287280" cy="54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Calibri"/>
              </a:rPr>
              <a:t>The Ghon focus typically occurs in lower part of an upper lobe or upper part of a lower lobe, and is usually subpleural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Calibri"/>
              </a:rPr>
              <a:t>The subpleural lesion quite often causes a small pleural effusion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Calibri"/>
              </a:rPr>
              <a:t>The immune response to TB infection is primarily cell mediated and comes at the cost of “hypersensitivity” to mycobacterial antigens which causes caseating granulomas and ultimately tissue destructi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C:\Documents and Settings\Administrator\Desktop\granuloma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2"/>
          <p:cNvSpPr/>
          <p:nvPr/>
        </p:nvSpPr>
        <p:spPr>
          <a:xfrm>
            <a:off x="428760" y="500040"/>
            <a:ext cx="81439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8eb4e3"/>
                </a:solidFill>
                <a:latin typeface="Arial"/>
              </a:rPr>
              <a:t>Microscopy of a tubercle / tuberculous granuloma in l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Group 10"/>
          <p:cNvGrpSpPr/>
          <p:nvPr/>
        </p:nvGrpSpPr>
        <p:grpSpPr>
          <a:xfrm>
            <a:off x="976680" y="1785960"/>
            <a:ext cx="6667200" cy="3857760"/>
            <a:chOff x="976680" y="1785960"/>
            <a:chExt cx="6667200" cy="3857760"/>
          </a:xfrm>
        </p:grpSpPr>
        <p:sp>
          <p:nvSpPr>
            <p:cNvPr id="66" name="TextBox 5"/>
            <p:cNvSpPr/>
            <p:nvPr/>
          </p:nvSpPr>
          <p:spPr>
            <a:xfrm>
              <a:off x="976680" y="3297960"/>
              <a:ext cx="2223000" cy="916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ZA" sz="1800" spc="-1" strike="noStrike">
                  <a:solidFill>
                    <a:srgbClr val="8eb4e3"/>
                  </a:solidFill>
                  <a:latin typeface="Arial"/>
                </a:rPr>
                <a:t>A mononuclear ce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ZA" sz="1800" spc="-1" strike="noStrike">
                  <a:solidFill>
                    <a:srgbClr val="8eb4e3"/>
                  </a:solidFill>
                  <a:latin typeface="Arial"/>
                </a:rPr>
                <a:t>infiltrate defines the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ZA" sz="1800" spc="-1" strike="noStrike">
                  <a:solidFill>
                    <a:srgbClr val="8eb4e3"/>
                  </a:solidFill>
                  <a:latin typeface="Arial"/>
                </a:rPr>
                <a:t>lesion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Oval 6"/>
            <p:cNvSpPr/>
            <p:nvPr/>
          </p:nvSpPr>
          <p:spPr>
            <a:xfrm>
              <a:off x="3143160" y="1785960"/>
              <a:ext cx="4500720" cy="385776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" name="Group 11"/>
          <p:cNvGrpSpPr/>
          <p:nvPr/>
        </p:nvGrpSpPr>
        <p:grpSpPr>
          <a:xfrm>
            <a:off x="4071960" y="4071960"/>
            <a:ext cx="1139040" cy="940320"/>
            <a:chOff x="4071960" y="4071960"/>
            <a:chExt cx="1139040" cy="940320"/>
          </a:xfrm>
        </p:grpSpPr>
        <p:sp>
          <p:nvSpPr>
            <p:cNvPr id="69" name="TextBox 3"/>
            <p:cNvSpPr/>
            <p:nvPr/>
          </p:nvSpPr>
          <p:spPr>
            <a:xfrm>
              <a:off x="4079160" y="4644000"/>
              <a:ext cx="1131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ZA" sz="1800" spc="-1" strike="noStrike">
                  <a:solidFill>
                    <a:srgbClr val="c00000"/>
                  </a:solidFill>
                  <a:latin typeface="Arial"/>
                </a:rPr>
                <a:t>Giant ce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Oval 7"/>
            <p:cNvSpPr/>
            <p:nvPr/>
          </p:nvSpPr>
          <p:spPr>
            <a:xfrm>
              <a:off x="4071960" y="4071960"/>
              <a:ext cx="714600" cy="428760"/>
            </a:xfrm>
            <a:prstGeom prst="ellipse">
              <a:avLst/>
            </a:prstGeom>
            <a:noFill/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Group 12"/>
          <p:cNvGrpSpPr/>
          <p:nvPr/>
        </p:nvGrpSpPr>
        <p:grpSpPr>
          <a:xfrm>
            <a:off x="5928840" y="2286000"/>
            <a:ext cx="3215160" cy="1533960"/>
            <a:chOff x="5928840" y="2286000"/>
            <a:chExt cx="3215160" cy="1533960"/>
          </a:xfrm>
        </p:grpSpPr>
        <p:sp>
          <p:nvSpPr>
            <p:cNvPr id="72" name="TextBox 4"/>
            <p:cNvSpPr/>
            <p:nvPr/>
          </p:nvSpPr>
          <p:spPr>
            <a:xfrm>
              <a:off x="7500960" y="2286000"/>
              <a:ext cx="1643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ZA" sz="1800" spc="-1" strike="noStrike">
                  <a:solidFill>
                    <a:srgbClr val="ff0066"/>
                  </a:solidFill>
                  <a:latin typeface="Arial"/>
                </a:rPr>
                <a:t>Early central case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3" name="Straight Arrow Connector 9"/>
            <p:cNvCxnSpPr/>
            <p:nvPr/>
          </p:nvCxnSpPr>
          <p:spPr>
            <a:xfrm flipH="1">
              <a:off x="5928840" y="2714400"/>
              <a:ext cx="1572480" cy="1105920"/>
            </a:xfrm>
            <a:prstGeom prst="straightConnector1">
              <a:avLst/>
            </a:prstGeom>
            <a:ln w="25560">
              <a:solidFill>
                <a:srgbClr val="ff0066"/>
              </a:solidFill>
              <a:miter/>
              <a:tailEnd len="med" type="arrow" w="med"/>
            </a:ln>
          </p:spPr>
        </p:cxnSp>
      </p:grpSp>
      <p:sp>
        <p:nvSpPr>
          <p:cNvPr id="74" name="TextBox 13"/>
          <p:cNvSpPr/>
          <p:nvPr/>
        </p:nvSpPr>
        <p:spPr>
          <a:xfrm>
            <a:off x="435600" y="439092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800" spc="-1" strike="noStrike">
                <a:solidFill>
                  <a:srgbClr val="8eb4e3"/>
                </a:solidFill>
                <a:latin typeface="Arial"/>
              </a:rPr>
              <a:t>Alveo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800" spc="-1" strike="noStrike">
                <a:solidFill>
                  <a:srgbClr val="8eb4e3"/>
                </a:solidFill>
                <a:latin typeface="Arial"/>
              </a:rPr>
              <a:t>sp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13" descr=""/>
          <p:cNvPicPr/>
          <p:nvPr/>
        </p:nvPicPr>
        <p:blipFill>
          <a:blip r:embed="rId2"/>
          <a:stretch/>
        </p:blipFill>
        <p:spPr>
          <a:xfrm>
            <a:off x="0" y="6635880"/>
            <a:ext cx="630360" cy="22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C:\Documents and Settings\Administrator\Desktop\granuloma1.JPG"/>
          <p:cNvPicPr/>
          <p:nvPr/>
        </p:nvPicPr>
        <p:blipFill>
          <a:blip r:embed="rId1"/>
          <a:stretch/>
        </p:blipFill>
        <p:spPr>
          <a:xfrm>
            <a:off x="0" y="0"/>
            <a:ext cx="914724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TextBox 2"/>
          <p:cNvSpPr/>
          <p:nvPr/>
        </p:nvSpPr>
        <p:spPr>
          <a:xfrm>
            <a:off x="4877280" y="428760"/>
            <a:ext cx="3705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ffffff"/>
                </a:solidFill>
                <a:latin typeface="Arial"/>
              </a:rPr>
              <a:t>Two more granuloma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ffffff"/>
                </a:solidFill>
                <a:latin typeface="Arial"/>
              </a:rPr>
              <a:t>at a more advanced st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Oval 3"/>
          <p:cNvSpPr/>
          <p:nvPr/>
        </p:nvSpPr>
        <p:spPr>
          <a:xfrm>
            <a:off x="214200" y="357120"/>
            <a:ext cx="4071960" cy="364356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Oval 4"/>
          <p:cNvSpPr/>
          <p:nvPr/>
        </p:nvSpPr>
        <p:spPr>
          <a:xfrm>
            <a:off x="4071960" y="2214720"/>
            <a:ext cx="4429080" cy="392904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6" descr=""/>
          <p:cNvPicPr/>
          <p:nvPr/>
        </p:nvPicPr>
        <p:blipFill>
          <a:blip r:embed="rId2"/>
          <a:stretch/>
        </p:blipFill>
        <p:spPr>
          <a:xfrm>
            <a:off x="0" y="6635880"/>
            <a:ext cx="630360" cy="22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376092"/>
                </a:solidFill>
                <a:latin typeface="Calibri"/>
              </a:rPr>
              <a:t>Further develop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Calibri"/>
              </a:rPr>
              <a:t>Most cases of primary tuberculosis heal at this stage, leaving a small fibrocalcific scar in the lung, sometimes visible on x-ray. Viable organisms may remain dormant in this lesion for deca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Calibri"/>
              </a:rPr>
              <a:t>In children (&lt; 2 years) the primary complex may not be contained. Rupture into a bronchus can cause tuberculous bronchopneumonia or haematogenous dissemination can cause miliary tuberculosi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Calibri"/>
              </a:rPr>
              <a:t>In some persons (usually immunocompromised) primary tuberculosis may immediately progress as “progressive primary tuberculosis”;  in the lungs this may be radiologically indistinguishable from reactivation tuberculosis .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3"/>
          <p:cNvSpPr/>
          <p:nvPr/>
        </p:nvSpPr>
        <p:spPr>
          <a:xfrm>
            <a:off x="189000" y="189000"/>
            <a:ext cx="8847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2"/>
          <p:cNvSpPr/>
          <p:nvPr/>
        </p:nvSpPr>
        <p:spPr>
          <a:xfrm>
            <a:off x="363600" y="558720"/>
            <a:ext cx="8497800" cy="517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600" spc="-1" strike="noStrike">
                <a:solidFill>
                  <a:srgbClr val="000000"/>
                </a:solidFill>
                <a:latin typeface="Arial"/>
              </a:rPr>
              <a:t>A selection of cases from the Digital Pathology Collection by the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600" spc="-1" strike="noStrike">
                <a:solidFill>
                  <a:srgbClr val="000000"/>
                </a:solidFill>
                <a:latin typeface="Arial"/>
              </a:rPr>
              <a:t>Department of Clinical Laboratory Scie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600" spc="-1" strike="noStrike">
                <a:solidFill>
                  <a:srgbClr val="000000"/>
                </a:solidFill>
                <a:latin typeface="Arial"/>
              </a:rPr>
              <a:t>University of Cape Tow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6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ZA" sz="1600" spc="-1" strike="noStrike">
                <a:solidFill>
                  <a:srgbClr val="000000"/>
                </a:solidFill>
                <a:latin typeface="Arial"/>
              </a:rPr>
              <a:t>is licensed under 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6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ZA" sz="1600" spc="-1" strike="noStrike">
                <a:solidFill>
                  <a:srgbClr val="000000"/>
                </a:solidFill>
                <a:latin typeface="Arial"/>
              </a:rPr>
              <a:t>Creative Commons Attribution-NonCommercial-ShareAlike 2.5 South Africa Licenc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600" spc="-1" strike="noStrike">
                <a:solidFill>
                  <a:srgbClr val="000000"/>
                </a:solidFill>
                <a:latin typeface="Arial"/>
              </a:rPr>
              <a:t>The full Digital Pathology Collection is accessible 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"/>
              </a:rPr>
              <a:t>www.digitalpathology.uct.ac.z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ZA" sz="1600" spc="-1" strike="noStrike">
                <a:solidFill>
                  <a:srgbClr val="000000"/>
                </a:solidFill>
                <a:latin typeface="Arial"/>
              </a:rPr>
              <a:t>If you would like to use an image or other item from our site that is not labelled with the Creative Commons Licence Logo, please contact the curator for permiss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"/>
          <p:cNvPicPr/>
          <p:nvPr/>
        </p:nvPicPr>
        <p:blipFill>
          <a:blip r:embed="rId1"/>
          <a:stretch/>
        </p:blipFill>
        <p:spPr>
          <a:xfrm>
            <a:off x="3529080" y="804960"/>
            <a:ext cx="1941480" cy="67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3:17:21Z</dcterms:created>
  <dc:creator>New Win User</dc:creator>
  <dc:description/>
  <dc:language>en-US</dc:language>
  <cp:lastModifiedBy>Jurgen Geitner</cp:lastModifiedBy>
  <dcterms:modified xsi:type="dcterms:W3CDTF">2012-02-22T14:42:22Z</dcterms:modified>
  <cp:revision>63</cp:revision>
  <dc:subject/>
  <dc:title>Pathology museum  Case of the Week</dc:title>
</cp:coreProperties>
</file>