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6A2-BEED-41BB-807F-E759329E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A1B-3456-4277-A41C-B2DB2D6D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D1B-CFF0-4D71-A82A-771826B2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3D5-5832-45E4-A789-7CE4764F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2E3-3991-4F9D-B949-8E4FAA73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D20-B8B1-40C8-B48C-CA632DB8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59F-16CE-482C-9B49-34894F02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D41-C579-4DF8-9911-74196F7D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B51-F263-44D8-8896-F5473B6C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AEB-D146-4FA0-BE9C-47CAC80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FEB-3C35-49C2-A0AA-59D43C09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674-55F1-4EB0-89A3-3393CEE0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1080-47E4-4B67-86CA-A51E0647D7A0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rc.ahajournals.org/cgi/content/full/112/23/3608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Tuberculous pericard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4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 II:vii: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4" descr="COW 005.jpg"/>
          <p:cNvPicPr/>
          <p:nvPr/>
        </p:nvPicPr>
        <p:blipFill>
          <a:blip r:embed="rId1"/>
          <a:srcRect l="8491" t="2076" r="0" b="0"/>
          <a:stretch/>
        </p:blipFill>
        <p:spPr>
          <a:xfrm>
            <a:off x="3203640" y="2481120"/>
            <a:ext cx="232884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3924360" y="2519280"/>
            <a:ext cx="7016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4" descr=""/>
          <p:cNvPicPr/>
          <p:nvPr/>
        </p:nvPicPr>
        <p:blipFill>
          <a:blip r:embed="rId1"/>
          <a:stretch/>
        </p:blipFill>
        <p:spPr>
          <a:xfrm>
            <a:off x="214200" y="339840"/>
            <a:ext cx="4675320" cy="624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071680" y="285480"/>
            <a:ext cx="36147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re we have two transverse sections through a hear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lower section cuts through the left and right ventri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upper section has been made near the base of the heart where the great vessels enter and ex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931040" y="4429080"/>
            <a:ext cx="1328400" cy="797040"/>
            <a:chOff x="1931040" y="4429080"/>
            <a:chExt cx="1328400" cy="797040"/>
          </a:xfrm>
        </p:grpSpPr>
        <p:sp>
          <p:nvSpPr>
            <p:cNvPr id="50" name="TextBox 5"/>
            <p:cNvSpPr/>
            <p:nvPr/>
          </p:nvSpPr>
          <p:spPr>
            <a:xfrm>
              <a:off x="2853000" y="442908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Calibri"/>
                </a:rPr>
                <a:t>L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6"/>
            <p:cNvSpPr/>
            <p:nvPr/>
          </p:nvSpPr>
          <p:spPr>
            <a:xfrm>
              <a:off x="1931040" y="4857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Calibri"/>
                </a:rPr>
                <a:t>R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ericardium is a double walled membranous sac that encloses the hear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Between the parietal (outer) and visceral (inner) pericardial layers lies the pericardial cavity, a slim, fluid-filled sp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6840" y="571320"/>
            <a:ext cx="35434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re the pericardial cavity is grossly widened by large areas of caseation in a shell of organised fibros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the late stage of tuberculous pericardit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obably at an earlier stage there would have been an exudative effusion, amenable to aspi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4" descr=""/>
          <p:cNvPicPr/>
          <p:nvPr/>
        </p:nvPicPr>
        <p:blipFill>
          <a:blip r:embed="rId1"/>
          <a:stretch/>
        </p:blipFill>
        <p:spPr>
          <a:xfrm>
            <a:off x="4356000" y="357120"/>
            <a:ext cx="4618080" cy="616608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9"/>
          <p:cNvGrpSpPr/>
          <p:nvPr/>
        </p:nvGrpSpPr>
        <p:grpSpPr>
          <a:xfrm>
            <a:off x="5035680" y="176040"/>
            <a:ext cx="3741480" cy="3043440"/>
            <a:chOff x="5035680" y="176040"/>
            <a:chExt cx="3741480" cy="3043440"/>
          </a:xfrm>
        </p:grpSpPr>
        <p:sp>
          <p:nvSpPr>
            <p:cNvPr id="56" name="Freeform 7"/>
            <p:cNvSpPr/>
            <p:nvPr/>
          </p:nvSpPr>
          <p:spPr>
            <a:xfrm>
              <a:off x="5035680" y="176040"/>
              <a:ext cx="3741480" cy="3043440"/>
            </a:xfrm>
            <a:custGeom>
              <a:avLst/>
              <a:gdLst/>
              <a:ahLst/>
              <a:rect l="l" t="t" r="r" b="b"/>
              <a:pathLst>
                <a:path w="3740727" h="3043382">
                  <a:moveTo>
                    <a:pt x="242455" y="1057564"/>
                  </a:moveTo>
                  <a:cubicBezTo>
                    <a:pt x="138546" y="1200728"/>
                    <a:pt x="46182" y="1260764"/>
                    <a:pt x="34637" y="1473200"/>
                  </a:cubicBezTo>
                  <a:cubicBezTo>
                    <a:pt x="23092" y="1685636"/>
                    <a:pt x="0" y="2087418"/>
                    <a:pt x="173182" y="2332182"/>
                  </a:cubicBezTo>
                  <a:cubicBezTo>
                    <a:pt x="346364" y="2576946"/>
                    <a:pt x="886692" y="2840182"/>
                    <a:pt x="1073728" y="2941782"/>
                  </a:cubicBezTo>
                  <a:cubicBezTo>
                    <a:pt x="1260764" y="3043382"/>
                    <a:pt x="1219200" y="2944091"/>
                    <a:pt x="1295400" y="2941782"/>
                  </a:cubicBezTo>
                  <a:cubicBezTo>
                    <a:pt x="1371600" y="2939473"/>
                    <a:pt x="1530928" y="2927927"/>
                    <a:pt x="1530928" y="2927927"/>
                  </a:cubicBezTo>
                  <a:cubicBezTo>
                    <a:pt x="1764146" y="2921000"/>
                    <a:pt x="2389909" y="2969491"/>
                    <a:pt x="2694709" y="2900218"/>
                  </a:cubicBezTo>
                  <a:cubicBezTo>
                    <a:pt x="2999509" y="2830945"/>
                    <a:pt x="3191164" y="2685473"/>
                    <a:pt x="3359728" y="2512291"/>
                  </a:cubicBezTo>
                  <a:cubicBezTo>
                    <a:pt x="3528292" y="2339109"/>
                    <a:pt x="3671455" y="2018145"/>
                    <a:pt x="3706091" y="1861127"/>
                  </a:cubicBezTo>
                  <a:cubicBezTo>
                    <a:pt x="3740727" y="1704109"/>
                    <a:pt x="3581400" y="1667164"/>
                    <a:pt x="3567546" y="1570182"/>
                  </a:cubicBezTo>
                  <a:cubicBezTo>
                    <a:pt x="3553692" y="1473200"/>
                    <a:pt x="3659909" y="1394691"/>
                    <a:pt x="3622964" y="1279236"/>
                  </a:cubicBezTo>
                  <a:cubicBezTo>
                    <a:pt x="3586019" y="1163781"/>
                    <a:pt x="3401291" y="992908"/>
                    <a:pt x="3345873" y="877454"/>
                  </a:cubicBezTo>
                  <a:cubicBezTo>
                    <a:pt x="3290455" y="762000"/>
                    <a:pt x="3392055" y="718127"/>
                    <a:pt x="3290455" y="586509"/>
                  </a:cubicBezTo>
                  <a:cubicBezTo>
                    <a:pt x="3188855" y="454891"/>
                    <a:pt x="3082637" y="170872"/>
                    <a:pt x="2736273" y="87745"/>
                  </a:cubicBezTo>
                  <a:cubicBezTo>
                    <a:pt x="2389909" y="4618"/>
                    <a:pt x="1558637" y="0"/>
                    <a:pt x="1212273" y="87745"/>
                  </a:cubicBezTo>
                  <a:cubicBezTo>
                    <a:pt x="865909" y="175490"/>
                    <a:pt x="822036" y="450273"/>
                    <a:pt x="658091" y="614218"/>
                  </a:cubicBezTo>
                  <a:cubicBezTo>
                    <a:pt x="494146" y="778163"/>
                    <a:pt x="346364" y="914400"/>
                    <a:pt x="242455" y="1057564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5527800" y="444240"/>
              <a:ext cx="2801880" cy="2222640"/>
            </a:xfrm>
            <a:custGeom>
              <a:avLst/>
              <a:gdLst/>
              <a:ahLst/>
              <a:rect l="l" t="t" r="r" b="b"/>
              <a:pathLst>
                <a:path w="2800927" h="2223655">
                  <a:moveTo>
                    <a:pt x="207818" y="748146"/>
                  </a:moveTo>
                  <a:cubicBezTo>
                    <a:pt x="0" y="893619"/>
                    <a:pt x="62345" y="868219"/>
                    <a:pt x="55418" y="942110"/>
                  </a:cubicBezTo>
                  <a:cubicBezTo>
                    <a:pt x="48491" y="1016001"/>
                    <a:pt x="150090" y="1108364"/>
                    <a:pt x="166254" y="1191491"/>
                  </a:cubicBezTo>
                  <a:cubicBezTo>
                    <a:pt x="182418" y="1274618"/>
                    <a:pt x="136236" y="1327728"/>
                    <a:pt x="152400" y="1440873"/>
                  </a:cubicBezTo>
                  <a:cubicBezTo>
                    <a:pt x="168564" y="1554018"/>
                    <a:pt x="244763" y="1766455"/>
                    <a:pt x="263236" y="1870364"/>
                  </a:cubicBezTo>
                  <a:cubicBezTo>
                    <a:pt x="281709" y="1974273"/>
                    <a:pt x="163945" y="2006601"/>
                    <a:pt x="263236" y="2064328"/>
                  </a:cubicBezTo>
                  <a:cubicBezTo>
                    <a:pt x="362527" y="2122055"/>
                    <a:pt x="738908" y="2209801"/>
                    <a:pt x="858981" y="2216728"/>
                  </a:cubicBezTo>
                  <a:cubicBezTo>
                    <a:pt x="979054" y="2223655"/>
                    <a:pt x="808181" y="2117437"/>
                    <a:pt x="983672" y="2105891"/>
                  </a:cubicBezTo>
                  <a:cubicBezTo>
                    <a:pt x="1159163" y="2094345"/>
                    <a:pt x="1641763" y="2205182"/>
                    <a:pt x="1911927" y="2147455"/>
                  </a:cubicBezTo>
                  <a:cubicBezTo>
                    <a:pt x="2182091" y="2089728"/>
                    <a:pt x="2456872" y="1888837"/>
                    <a:pt x="2604654" y="1759528"/>
                  </a:cubicBezTo>
                  <a:cubicBezTo>
                    <a:pt x="2752436" y="1630219"/>
                    <a:pt x="2796309" y="1466273"/>
                    <a:pt x="2798618" y="1371600"/>
                  </a:cubicBezTo>
                  <a:cubicBezTo>
                    <a:pt x="2800927" y="1276927"/>
                    <a:pt x="2653145" y="1263073"/>
                    <a:pt x="2618509" y="1191491"/>
                  </a:cubicBezTo>
                  <a:cubicBezTo>
                    <a:pt x="2583873" y="1119909"/>
                    <a:pt x="2613891" y="1011383"/>
                    <a:pt x="2590800" y="942110"/>
                  </a:cubicBezTo>
                  <a:cubicBezTo>
                    <a:pt x="2567709" y="872837"/>
                    <a:pt x="2565400" y="824346"/>
                    <a:pt x="2479963" y="775855"/>
                  </a:cubicBezTo>
                  <a:cubicBezTo>
                    <a:pt x="2394526" y="727364"/>
                    <a:pt x="2205181" y="720437"/>
                    <a:pt x="2078181" y="651164"/>
                  </a:cubicBezTo>
                  <a:cubicBezTo>
                    <a:pt x="1951181" y="581891"/>
                    <a:pt x="1847272" y="457201"/>
                    <a:pt x="1717963" y="360219"/>
                  </a:cubicBezTo>
                  <a:cubicBezTo>
                    <a:pt x="1588654" y="263237"/>
                    <a:pt x="1556327" y="0"/>
                    <a:pt x="1302327" y="69273"/>
                  </a:cubicBezTo>
                  <a:cubicBezTo>
                    <a:pt x="1048327" y="138546"/>
                    <a:pt x="415636" y="602673"/>
                    <a:pt x="207818" y="748146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2"/>
          <p:cNvGrpSpPr/>
          <p:nvPr/>
        </p:nvGrpSpPr>
        <p:grpSpPr>
          <a:xfrm>
            <a:off x="5052960" y="3094200"/>
            <a:ext cx="3733920" cy="3057480"/>
            <a:chOff x="5052960" y="3094200"/>
            <a:chExt cx="3733920" cy="3057480"/>
          </a:xfrm>
        </p:grpSpPr>
        <p:sp>
          <p:nvSpPr>
            <p:cNvPr id="59" name="Freeform 10"/>
            <p:cNvSpPr/>
            <p:nvPr/>
          </p:nvSpPr>
          <p:spPr>
            <a:xfrm>
              <a:off x="5052960" y="3094200"/>
              <a:ext cx="3733920" cy="3057480"/>
            </a:xfrm>
            <a:custGeom>
              <a:avLst/>
              <a:gdLst/>
              <a:ahLst/>
              <a:rect l="l" t="t" r="r" b="b"/>
              <a:pathLst>
                <a:path w="3733800" h="3057236">
                  <a:moveTo>
                    <a:pt x="1209964" y="383309"/>
                  </a:moveTo>
                  <a:cubicBezTo>
                    <a:pt x="1101437" y="489527"/>
                    <a:pt x="1004454" y="577273"/>
                    <a:pt x="891309" y="743527"/>
                  </a:cubicBezTo>
                  <a:cubicBezTo>
                    <a:pt x="778164" y="909781"/>
                    <a:pt x="625764" y="1233054"/>
                    <a:pt x="531091" y="1380836"/>
                  </a:cubicBezTo>
                  <a:cubicBezTo>
                    <a:pt x="436418" y="1528618"/>
                    <a:pt x="399473" y="1528618"/>
                    <a:pt x="323273" y="1630218"/>
                  </a:cubicBezTo>
                  <a:cubicBezTo>
                    <a:pt x="247073" y="1731818"/>
                    <a:pt x="127000" y="1851891"/>
                    <a:pt x="73891" y="1990436"/>
                  </a:cubicBezTo>
                  <a:cubicBezTo>
                    <a:pt x="20782" y="2128981"/>
                    <a:pt x="9236" y="2359891"/>
                    <a:pt x="4618" y="2461491"/>
                  </a:cubicBezTo>
                  <a:cubicBezTo>
                    <a:pt x="0" y="2563091"/>
                    <a:pt x="36946" y="2551545"/>
                    <a:pt x="46182" y="2600036"/>
                  </a:cubicBezTo>
                  <a:cubicBezTo>
                    <a:pt x="55418" y="2648527"/>
                    <a:pt x="36945" y="2699327"/>
                    <a:pt x="60036" y="2752436"/>
                  </a:cubicBezTo>
                  <a:cubicBezTo>
                    <a:pt x="83127" y="2805545"/>
                    <a:pt x="110836" y="2870200"/>
                    <a:pt x="184727" y="2918691"/>
                  </a:cubicBezTo>
                  <a:cubicBezTo>
                    <a:pt x="258618" y="2967182"/>
                    <a:pt x="411018" y="3029528"/>
                    <a:pt x="503382" y="3043382"/>
                  </a:cubicBezTo>
                  <a:cubicBezTo>
                    <a:pt x="595746" y="3057236"/>
                    <a:pt x="609600" y="3031836"/>
                    <a:pt x="738909" y="3001818"/>
                  </a:cubicBezTo>
                  <a:cubicBezTo>
                    <a:pt x="868218" y="2971800"/>
                    <a:pt x="1050636" y="2904837"/>
                    <a:pt x="1279236" y="2863273"/>
                  </a:cubicBezTo>
                  <a:cubicBezTo>
                    <a:pt x="1507836" y="2821709"/>
                    <a:pt x="1916545" y="2814782"/>
                    <a:pt x="2110509" y="2752436"/>
                  </a:cubicBezTo>
                  <a:cubicBezTo>
                    <a:pt x="2304473" y="2690091"/>
                    <a:pt x="2313709" y="2530764"/>
                    <a:pt x="2443018" y="2489200"/>
                  </a:cubicBezTo>
                  <a:cubicBezTo>
                    <a:pt x="2572327" y="2447636"/>
                    <a:pt x="2745510" y="2507672"/>
                    <a:pt x="2886364" y="2503054"/>
                  </a:cubicBezTo>
                  <a:cubicBezTo>
                    <a:pt x="3027218" y="2498436"/>
                    <a:pt x="3165763" y="2514600"/>
                    <a:pt x="3288145" y="2461491"/>
                  </a:cubicBezTo>
                  <a:cubicBezTo>
                    <a:pt x="3410527" y="2408382"/>
                    <a:pt x="3551381" y="2309091"/>
                    <a:pt x="3620654" y="2184400"/>
                  </a:cubicBezTo>
                  <a:cubicBezTo>
                    <a:pt x="3689927" y="2059709"/>
                    <a:pt x="3733800" y="1909618"/>
                    <a:pt x="3703782" y="1713345"/>
                  </a:cubicBezTo>
                  <a:cubicBezTo>
                    <a:pt x="3673764" y="1517072"/>
                    <a:pt x="3565236" y="1209963"/>
                    <a:pt x="3440545" y="1006763"/>
                  </a:cubicBezTo>
                  <a:cubicBezTo>
                    <a:pt x="3315854" y="803563"/>
                    <a:pt x="3138054" y="651163"/>
                    <a:pt x="2955636" y="494145"/>
                  </a:cubicBezTo>
                  <a:cubicBezTo>
                    <a:pt x="2773218" y="337127"/>
                    <a:pt x="2581563" y="129308"/>
                    <a:pt x="2346036" y="64654"/>
                  </a:cubicBezTo>
                  <a:cubicBezTo>
                    <a:pt x="2110509" y="0"/>
                    <a:pt x="1736437" y="50800"/>
                    <a:pt x="1542473" y="106218"/>
                  </a:cubicBezTo>
                  <a:cubicBezTo>
                    <a:pt x="1348509" y="161636"/>
                    <a:pt x="1318491" y="277091"/>
                    <a:pt x="1209964" y="383309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516280" y="3722760"/>
              <a:ext cx="2675160" cy="1952640"/>
            </a:xfrm>
            <a:custGeom>
              <a:avLst/>
              <a:gdLst/>
              <a:ahLst/>
              <a:rect l="l" t="t" r="r" b="b"/>
              <a:pathLst>
                <a:path w="2673927" h="1953490">
                  <a:moveTo>
                    <a:pt x="925946" y="18472"/>
                  </a:moveTo>
                  <a:cubicBezTo>
                    <a:pt x="1004455" y="9236"/>
                    <a:pt x="1062182" y="41563"/>
                    <a:pt x="1216891" y="46181"/>
                  </a:cubicBezTo>
                  <a:cubicBezTo>
                    <a:pt x="1371600" y="50799"/>
                    <a:pt x="1681018" y="2308"/>
                    <a:pt x="1854200" y="46181"/>
                  </a:cubicBezTo>
                  <a:cubicBezTo>
                    <a:pt x="2027382" y="90054"/>
                    <a:pt x="2147455" y="242454"/>
                    <a:pt x="2255982" y="309418"/>
                  </a:cubicBezTo>
                  <a:cubicBezTo>
                    <a:pt x="2364509" y="376382"/>
                    <a:pt x="2440710" y="295563"/>
                    <a:pt x="2505364" y="447963"/>
                  </a:cubicBezTo>
                  <a:cubicBezTo>
                    <a:pt x="2570019" y="600363"/>
                    <a:pt x="2673927" y="1018309"/>
                    <a:pt x="2643909" y="1223818"/>
                  </a:cubicBezTo>
                  <a:cubicBezTo>
                    <a:pt x="2613891" y="1429327"/>
                    <a:pt x="2456873" y="1607127"/>
                    <a:pt x="2325255" y="1681018"/>
                  </a:cubicBezTo>
                  <a:cubicBezTo>
                    <a:pt x="2193637" y="1754909"/>
                    <a:pt x="2022764" y="1630218"/>
                    <a:pt x="1854200" y="1667163"/>
                  </a:cubicBezTo>
                  <a:cubicBezTo>
                    <a:pt x="1685636" y="1704108"/>
                    <a:pt x="1459346" y="1865745"/>
                    <a:pt x="1313873" y="1902690"/>
                  </a:cubicBezTo>
                  <a:cubicBezTo>
                    <a:pt x="1168400" y="1939635"/>
                    <a:pt x="1122219" y="1881909"/>
                    <a:pt x="981364" y="1888836"/>
                  </a:cubicBezTo>
                  <a:cubicBezTo>
                    <a:pt x="840510" y="1895763"/>
                    <a:pt x="591128" y="1953490"/>
                    <a:pt x="468746" y="1944254"/>
                  </a:cubicBezTo>
                  <a:cubicBezTo>
                    <a:pt x="346364" y="1935018"/>
                    <a:pt x="314037" y="1870363"/>
                    <a:pt x="247073" y="1833418"/>
                  </a:cubicBezTo>
                  <a:cubicBezTo>
                    <a:pt x="180109" y="1796473"/>
                    <a:pt x="94673" y="1814945"/>
                    <a:pt x="66964" y="1722581"/>
                  </a:cubicBezTo>
                  <a:cubicBezTo>
                    <a:pt x="39255" y="1630217"/>
                    <a:pt x="0" y="1457036"/>
                    <a:pt x="80818" y="1279236"/>
                  </a:cubicBezTo>
                  <a:cubicBezTo>
                    <a:pt x="161636" y="1101436"/>
                    <a:pt x="441037" y="852054"/>
                    <a:pt x="551873" y="655781"/>
                  </a:cubicBezTo>
                  <a:cubicBezTo>
                    <a:pt x="662710" y="459508"/>
                    <a:pt x="681183" y="203200"/>
                    <a:pt x="745837" y="101600"/>
                  </a:cubicBezTo>
                  <a:cubicBezTo>
                    <a:pt x="810491" y="0"/>
                    <a:pt x="847437" y="27708"/>
                    <a:pt x="925946" y="18472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3"/>
          <p:cNvGrpSpPr/>
          <p:nvPr/>
        </p:nvGrpSpPr>
        <p:grpSpPr>
          <a:xfrm>
            <a:off x="4647240" y="2714760"/>
            <a:ext cx="1424520" cy="368280"/>
            <a:chOff x="4647240" y="2714760"/>
            <a:chExt cx="1424520" cy="368280"/>
          </a:xfrm>
        </p:grpSpPr>
        <p:sp>
          <p:nvSpPr>
            <p:cNvPr id="62" name="TextBox 14"/>
            <p:cNvSpPr/>
            <p:nvPr/>
          </p:nvSpPr>
          <p:spPr>
            <a:xfrm>
              <a:off x="4647240" y="27147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Calibri"/>
                </a:rPr>
                <a:t>fibr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Straight Arrow Connector 16"/>
            <p:cNvCxnSpPr>
              <a:stCxn id="62" idx="3"/>
            </p:cNvCxnSpPr>
            <p:nvPr/>
          </p:nvCxnSpPr>
          <p:spPr>
            <a:xfrm flipV="1">
              <a:off x="5503320" y="2856960"/>
              <a:ext cx="568800" cy="435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64" name="Group 22"/>
          <p:cNvGrpSpPr/>
          <p:nvPr/>
        </p:nvGrpSpPr>
        <p:grpSpPr>
          <a:xfrm>
            <a:off x="4722120" y="1357200"/>
            <a:ext cx="1774800" cy="572040"/>
            <a:chOff x="4722120" y="1357200"/>
            <a:chExt cx="1774800" cy="572040"/>
          </a:xfrm>
        </p:grpSpPr>
        <p:sp>
          <p:nvSpPr>
            <p:cNvPr id="65" name="TextBox 13"/>
            <p:cNvSpPr/>
            <p:nvPr/>
          </p:nvSpPr>
          <p:spPr>
            <a:xfrm>
              <a:off x="4722120" y="135720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Calibri"/>
                </a:rPr>
                <a:t>Caseous 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Straight Arrow Connector 18"/>
            <p:cNvCxnSpPr/>
            <p:nvPr/>
          </p:nvCxnSpPr>
          <p:spPr>
            <a:xfrm flipH="1">
              <a:off x="5357160" y="1644480"/>
              <a:ext cx="1080" cy="2851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2946240" y="549360"/>
            <a:ext cx="4071960" cy="5999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61440" y="785880"/>
            <a:ext cx="21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bottle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been rever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7143840" y="2143080"/>
            <a:ext cx="178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dherent  caseous lymph nodes at base of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7"/>
          <p:cNvCxnSpPr/>
          <p:nvPr/>
        </p:nvCxnSpPr>
        <p:spPr>
          <a:xfrm flipH="1" flipV="1">
            <a:off x="4785840" y="2499480"/>
            <a:ext cx="228672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2876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Unfortunately no clinical data was recorded for this pati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would undoubtedly have had symptoms and signs of a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constrictive pericarditis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, such as dyspnoea and venous cong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is heart has gradually been compressed and cardiac output reduc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n ausculation the heart sounds would be muffled. A ‘pericardial knock’ might be heard; this is a early diastolic sound caused when the rigid pericardium abruptly halts ventricular fi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would be ECG and echographic changes, and the pericardial thickening would best be seen on CT or MRI sc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57120" y="1071720"/>
            <a:ext cx="83296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uberculosis is a rare cause of pericarditis and constrictive pericarditis in the developed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owever, tuberculous pericarditis is common in Africa and is increasing due to the HIV epidem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reatment is anti-tuberculous therapy and sometimes pericardiectomy is requir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 in-depth review by Professor Bongani Mayosi  is available at </a:t>
            </a:r>
            <a:r>
              <a:rPr b="0" lang="en-ZA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irc.ahajournals.org/cgi/content/full/112/23/36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3:39:17Z</dcterms:created>
  <dc:creator>New Win User</dc:creator>
  <dc:description/>
  <dc:language>en-US</dc:language>
  <cp:lastModifiedBy>Sam</cp:lastModifiedBy>
  <dcterms:modified xsi:type="dcterms:W3CDTF">2011-09-10T22:48:58Z</dcterms:modified>
  <cp:revision>60</cp:revision>
  <dc:subject/>
  <dc:title>Pathology museum  Case of the Week</dc:title>
</cp:coreProperties>
</file>