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301-5196-4FE3-A1C9-6DAEFF30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293-2DE4-4705-922F-FD766633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B7B-2450-4CB7-86C7-9F08FF98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6E8-01AF-402B-9414-367CA64C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D3F-15BB-4368-9FAF-AA80D1C5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C46-3B07-475B-B6E8-339B5972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7F6-55D0-4722-B44F-56431319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D85-7D56-40BA-8CBD-4B17F469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C21-70E4-42EE-8C67-B8C8C554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9C6-9F4E-4522-A46F-B92B553A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DDD-9517-4260-9A61-72347760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4E5-1C80-4A61-8910-C8A91501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4A40-6FE2-49EE-BBE6-51734AE39D54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peir.path.uab.edu/" TargetMode="External"/><Relationship Id="rId3" Type="http://schemas.openxmlformats.org/officeDocument/2006/relationships/hyperlink" Target="http://peir.path.uab.edu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y.med.utah.edu/WebPath/FEMHTML/FEMIDX.html#From this      ...to thi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Carcinoma of the cerv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15  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  XXVI:vi: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635280" y="1681200"/>
            <a:ext cx="162900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755640" y="1052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Calibri"/>
              </a:rPr>
              <a:t>is entirely preve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From this      ...to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4" descr="acdis.tiff"/>
          <p:cNvPicPr/>
          <p:nvPr/>
        </p:nvPicPr>
        <p:blipFill>
          <a:blip r:embed="rId1"/>
          <a:stretch/>
        </p:blipFill>
        <p:spPr>
          <a:xfrm>
            <a:off x="971640" y="242100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971640" y="486900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800" spc="-1" strike="noStrike">
                <a:solidFill>
                  <a:srgbClr val="000000"/>
                </a:solidFill>
                <a:latin typeface="Arial"/>
              </a:rPr>
              <a:t>Image used with 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Slide3.TIF"/>
          <p:cNvPicPr/>
          <p:nvPr/>
        </p:nvPicPr>
        <p:blipFill>
          <a:blip r:embed="rId2"/>
          <a:stretch/>
        </p:blipFill>
        <p:spPr>
          <a:xfrm>
            <a:off x="5433840" y="2421000"/>
            <a:ext cx="21625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4040280" cy="13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Early invasive cervical squamous carcino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- removed by hysterect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4720" y="765000"/>
            <a:ext cx="4041720" cy="14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dvanced cervical carcinoma with urinary obstru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- removed at auto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acdis.tiff"/>
          <p:cNvPicPr/>
          <p:nvPr/>
        </p:nvPicPr>
        <p:blipFill>
          <a:blip r:embed="rId1"/>
          <a:stretch/>
        </p:blipFill>
        <p:spPr>
          <a:xfrm>
            <a:off x="539640" y="2276640"/>
            <a:ext cx="4040280" cy="2693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561600" y="5084640"/>
            <a:ext cx="366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Calibri"/>
              </a:rPr>
              <a:t>Image 1350 from Peir Digital Library – public access image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en-ZA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eir.path.uab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Calibri"/>
              </a:rPr>
              <a:t>University of Alabama at Birmingham, Department of Path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519880" y="6021360"/>
            <a:ext cx="193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Calibri"/>
              </a:rPr>
              <a:t>UCT pathology teaching col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539640" y="4724280"/>
            <a:ext cx="16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800" spc="-1" strike="noStrike">
                <a:solidFill>
                  <a:srgbClr val="000000"/>
                </a:solidFill>
                <a:latin typeface="Arial"/>
              </a:rPr>
              <a:t>Image used with  per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Slide3.TIF"/>
          <p:cNvPicPr/>
          <p:nvPr/>
        </p:nvPicPr>
        <p:blipFill>
          <a:blip r:embed="rId4"/>
          <a:stretch/>
        </p:blipFill>
        <p:spPr>
          <a:xfrm>
            <a:off x="5433840" y="2276640"/>
            <a:ext cx="21625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Clinic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patient was an elderly woman who presented with post-menopausal bleeding, a foul smelling vaginal discharge, pain in the lower abdomen, dysuria and urinary frequ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n vaginal examination a large fungating growth of the cervix was f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She was given radiotherapy (palliative) but two weeks later she became mentally confused, then comatose, and d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143000" y="1577880"/>
            <a:ext cx="2681280" cy="46594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At auto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specimen shows, in the lower half, the bisected uterus and cervix (flapped open)                                  and base of bladd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118880" y="155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494520" y="155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ction Button: Information 11">
            <a:hlinkClick r:id="rId2" action="ppaction://hlinksldjump"/>
          </p:cNvPr>
          <p:cNvSpPr/>
          <p:nvPr/>
        </p:nvSpPr>
        <p:spPr>
          <a:xfrm>
            <a:off x="5867280" y="278136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1086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735" h="21600">
                <a:moveTo>
                  <a:pt x="1086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735" h="21600">
                <a:moveTo>
                  <a:pt x="8291" y="8224"/>
                </a:moveTo>
                <a:lnTo>
                  <a:pt x="12156" y="8224"/>
                </a:lnTo>
                <a:lnTo>
                  <a:pt x="12156" y="15221"/>
                </a:lnTo>
                <a:lnTo>
                  <a:pt x="13444" y="15221"/>
                </a:lnTo>
                <a:lnTo>
                  <a:pt x="13444" y="16144"/>
                </a:lnTo>
                <a:lnTo>
                  <a:pt x="8291" y="16144"/>
                </a:lnTo>
                <a:lnTo>
                  <a:pt x="8291" y="15221"/>
                </a:lnTo>
                <a:lnTo>
                  <a:pt x="9579" y="15221"/>
                </a:lnTo>
                <a:lnTo>
                  <a:pt x="9579" y="9129"/>
                </a:lnTo>
                <a:lnTo>
                  <a:pt x="8291" y="912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43000" y="1577880"/>
            <a:ext cx="2681280" cy="46594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At auto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specimen shows, in the lower half, the bisected uterus and cervix (flapped open)                                  and base of bladd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ll these are extensively infiltrated by tumour tiss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1118880" y="155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494520" y="155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9"/>
          <p:cNvGrpSpPr/>
          <p:nvPr/>
        </p:nvGrpSpPr>
        <p:grpSpPr>
          <a:xfrm>
            <a:off x="1131840" y="3666960"/>
            <a:ext cx="2546280" cy="1819440"/>
            <a:chOff x="1131840" y="3666960"/>
            <a:chExt cx="2546280" cy="1819440"/>
          </a:xfrm>
        </p:grpSpPr>
        <p:sp>
          <p:nvSpPr>
            <p:cNvPr id="72" name="Freeform 7"/>
            <p:cNvSpPr/>
            <p:nvPr/>
          </p:nvSpPr>
          <p:spPr>
            <a:xfrm>
              <a:off x="2458800" y="3666960"/>
              <a:ext cx="1219320" cy="1686240"/>
            </a:xfrm>
            <a:custGeom>
              <a:avLst/>
              <a:gdLst/>
              <a:ahLst/>
              <a:rect l="l" t="t" r="r" b="b"/>
              <a:pathLst>
                <a:path w="1219200" h="1686757">
                  <a:moveTo>
                    <a:pt x="204186" y="1686757"/>
                  </a:moveTo>
                  <a:cubicBezTo>
                    <a:pt x="119848" y="1443360"/>
                    <a:pt x="35510" y="1199964"/>
                    <a:pt x="17755" y="976543"/>
                  </a:cubicBezTo>
                  <a:cubicBezTo>
                    <a:pt x="0" y="753122"/>
                    <a:pt x="34031" y="495670"/>
                    <a:pt x="97654" y="346229"/>
                  </a:cubicBezTo>
                  <a:cubicBezTo>
                    <a:pt x="161277" y="196788"/>
                    <a:pt x="292963" y="133165"/>
                    <a:pt x="399495" y="79899"/>
                  </a:cubicBezTo>
                  <a:cubicBezTo>
                    <a:pt x="506027" y="26633"/>
                    <a:pt x="627355" y="0"/>
                    <a:pt x="736846" y="26633"/>
                  </a:cubicBezTo>
                  <a:cubicBezTo>
                    <a:pt x="846337" y="53266"/>
                    <a:pt x="979502" y="168676"/>
                    <a:pt x="1056442" y="239697"/>
                  </a:cubicBezTo>
                  <a:cubicBezTo>
                    <a:pt x="1133382" y="310718"/>
                    <a:pt x="1177770" y="332913"/>
                    <a:pt x="1198485" y="452761"/>
                  </a:cubicBezTo>
                  <a:cubicBezTo>
                    <a:pt x="1219200" y="572609"/>
                    <a:pt x="1199965" y="833021"/>
                    <a:pt x="1180730" y="958788"/>
                  </a:cubicBezTo>
                  <a:cubicBezTo>
                    <a:pt x="1161495" y="1084555"/>
                    <a:pt x="1099351" y="1164454"/>
                    <a:pt x="1083075" y="1207363"/>
                  </a:cubicBezTo>
                  <a:cubicBezTo>
                    <a:pt x="1066799" y="1250272"/>
                    <a:pt x="1074937" y="1233256"/>
                    <a:pt x="1083075" y="121624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"/>
            <p:cNvSpPr/>
            <p:nvPr/>
          </p:nvSpPr>
          <p:spPr>
            <a:xfrm>
              <a:off x="1131840" y="4092480"/>
              <a:ext cx="1512720" cy="1393920"/>
            </a:xfrm>
            <a:custGeom>
              <a:avLst/>
              <a:gdLst/>
              <a:ahLst/>
              <a:rect l="l" t="t" r="r" b="b"/>
              <a:pathLst>
                <a:path w="1513643" h="1393794">
                  <a:moveTo>
                    <a:pt x="1513643" y="1233996"/>
                  </a:moveTo>
                  <a:cubicBezTo>
                    <a:pt x="1456678" y="1006135"/>
                    <a:pt x="1399713" y="778275"/>
                    <a:pt x="1291701" y="585926"/>
                  </a:cubicBezTo>
                  <a:cubicBezTo>
                    <a:pt x="1183689" y="393577"/>
                    <a:pt x="1032769" y="159798"/>
                    <a:pt x="865573" y="79899"/>
                  </a:cubicBezTo>
                  <a:cubicBezTo>
                    <a:pt x="698377" y="0"/>
                    <a:pt x="423168" y="44388"/>
                    <a:pt x="288524" y="106532"/>
                  </a:cubicBezTo>
                  <a:cubicBezTo>
                    <a:pt x="153880" y="168676"/>
                    <a:pt x="99134" y="325515"/>
                    <a:pt x="57705" y="452761"/>
                  </a:cubicBezTo>
                  <a:cubicBezTo>
                    <a:pt x="16276" y="580008"/>
                    <a:pt x="0" y="736846"/>
                    <a:pt x="39949" y="870011"/>
                  </a:cubicBezTo>
                  <a:cubicBezTo>
                    <a:pt x="79899" y="1003176"/>
                    <a:pt x="226381" y="1164454"/>
                    <a:pt x="297402" y="1251751"/>
                  </a:cubicBezTo>
                  <a:cubicBezTo>
                    <a:pt x="368423" y="1339048"/>
                    <a:pt x="417250" y="1366421"/>
                    <a:pt x="466078" y="1393794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81200" y="1916280"/>
            <a:ext cx="1954440" cy="338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788000" y="549360"/>
            <a:ext cx="3898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Just above the bladder the right ureter disappears into tumo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Both ureters are dilated, the right more 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right kidney is atrophied while the left kidney is enlarg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ndicates that obstruction of the right ureter preceded that of the left by a long enough interval to allow some compensatory hypertrophy of the left kidne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15880" y="1916280"/>
            <a:ext cx="1949400" cy="3384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470880" y="19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215240" y="19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Com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Most patients with stage IV carcinoma of the cervix die in uraemia (renal failure)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– this is explained by the anatomical proximity of the ureters to the cervix, just before they enter the bladd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dvanced cervical carcinomas extend directly into contiguous tissues – vagina, rectum, bladder, ureters, paracervical tiss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bstruction of the ureters by tumour extension causes back pressure on the kidney, with dilatation of the renal pelvis and calyx, and atrophy of the functional renal parenchyma (=hydronephrosi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fection (pyelonephritis) often superve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Calibri"/>
              </a:rPr>
              <a:t>A useful li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Run through images 1 – 15 (covering cervix and vagina) on this WebPath page </a:t>
            </a:r>
            <a:r>
              <a:rPr b="0" lang="en-ZA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ibrary.med.utah.edu/WebPath/FEMHTML/FEMIDX.html#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01:37Z</dcterms:created>
  <dc:creator>01406484</dc:creator>
  <dc:description/>
  <dc:language>en-US</dc:language>
  <cp:lastModifiedBy>Jurgen Geitner</cp:lastModifiedBy>
  <dcterms:modified xsi:type="dcterms:W3CDTF">2012-02-23T10:07:43Z</dcterms:modified>
  <cp:revision>59</cp:revision>
  <dc:subject/>
  <dc:title>Carcinoma of the cervix</dc:title>
</cp:coreProperties>
</file>