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9543-601F-4DAE-85E8-B1595B9B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FFF2-EFBC-4DC0-A0EE-D7AF67D9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5986-A6B1-4808-8309-ED73AF7D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B75D-C27B-4807-9637-818C8C04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125C-B1D3-421E-9D0F-2E251712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E45-E730-4B9F-9DDC-9F68C3B2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FD5C-C27F-4875-B1F9-7AF723D5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6F88-372E-4992-8BD6-ECCD4108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1DBD-143E-4F7A-B214-13A6AF0A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24E-C510-4D4D-BC24-B92A4B5F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5C4C-1896-4E1E-97C3-B034AFC5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7994-9B90-4E07-B752-D3754AEF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22C0-3C4B-48C2-903D-954CC61681B5}" type="slidenum">
              <a:rPr b="0" lang="en-Z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740720" y="6130800"/>
            <a:ext cx="1117440" cy="393840"/>
          </a:xfrm>
          <a:prstGeom prst="rect">
            <a:avLst/>
          </a:prstGeom>
          <a:ln w="0">
            <a:noFill/>
          </a:ln>
        </p:spPr>
      </p:pic>
      <p:sp>
        <p:nvSpPr>
          <p:cNvPr id="6" name="TextBox 2"/>
          <p:cNvSpPr/>
          <p:nvPr/>
        </p:nvSpPr>
        <p:spPr>
          <a:xfrm>
            <a:off x="7192080" y="652464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Spina Bifi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58920" y="4741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Digital Pathology Col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Case 7 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Ref.  XII:i: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4" descr="IMG_0008.tif"/>
          <p:cNvPicPr/>
          <p:nvPr/>
        </p:nvPicPr>
        <p:blipFill>
          <a:blip r:embed="rId1"/>
          <a:srcRect l="60278" t="20940" r="0" b="10336"/>
          <a:stretch/>
        </p:blipFill>
        <p:spPr>
          <a:xfrm>
            <a:off x="3635280" y="2421000"/>
            <a:ext cx="1893960" cy="2044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4195800" y="4465800"/>
            <a:ext cx="77472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Clinical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n eighteen day old infant was admitted with a ruptured spina bifida and signs of meningitis, </a:t>
            </a:r>
            <a:r>
              <a:rPr b="0" i="1" lang="en-ZA" sz="2400" spc="-1" strike="noStrike">
                <a:solidFill>
                  <a:srgbClr val="000000"/>
                </a:solidFill>
                <a:latin typeface="Calibri"/>
              </a:rPr>
              <a:t>viz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. neck rigidity and convuls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5580000" y="5157720"/>
            <a:ext cx="3529080" cy="16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Content Placeholder 3" descr=""/>
          <p:cNvPicPr/>
          <p:nvPr/>
        </p:nvPicPr>
        <p:blipFill>
          <a:blip r:embed="rId1"/>
          <a:stretch/>
        </p:blipFill>
        <p:spPr>
          <a:xfrm>
            <a:off x="1042920" y="1987560"/>
            <a:ext cx="7694640" cy="4714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357120" y="428760"/>
            <a:ext cx="857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t post mortem there was a large cystic mass over the sacrum, covered in part by skin and in part by necrotic sloughing tiss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specimen shows this lesion (excised) alongside the child’s b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5580000" y="5157720"/>
            <a:ext cx="3529080" cy="16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99720"/>
            <a:ext cx="31860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This is a section through the baby’s pelv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Anteriorly lie the pelvic orga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Posteriorly, the spinal membranes and spinal cord bulge out through the unfused spinal vertebra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4" descr=""/>
          <p:cNvPicPr/>
          <p:nvPr/>
        </p:nvPicPr>
        <p:blipFill>
          <a:blip r:embed="rId1"/>
          <a:stretch/>
        </p:blipFill>
        <p:spPr>
          <a:xfrm>
            <a:off x="3929040" y="1197000"/>
            <a:ext cx="4435560" cy="487512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19"/>
          <p:cNvGrpSpPr/>
          <p:nvPr/>
        </p:nvGrpSpPr>
        <p:grpSpPr>
          <a:xfrm>
            <a:off x="4871520" y="642960"/>
            <a:ext cx="2093400" cy="1285560"/>
            <a:chOff x="4871520" y="642960"/>
            <a:chExt cx="2093400" cy="1285560"/>
          </a:xfrm>
        </p:grpSpPr>
        <p:sp>
          <p:nvSpPr>
            <p:cNvPr id="56" name="TextBox 10"/>
            <p:cNvSpPr/>
            <p:nvPr/>
          </p:nvSpPr>
          <p:spPr>
            <a:xfrm>
              <a:off x="4871520" y="642960"/>
              <a:ext cx="20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Arial"/>
                </a:rPr>
                <a:t>Lumbosacral sp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Down Arrow 11"/>
            <p:cNvSpPr/>
            <p:nvPr/>
          </p:nvSpPr>
          <p:spPr>
            <a:xfrm>
              <a:off x="5786280" y="1071360"/>
              <a:ext cx="45720" cy="857160"/>
            </a:xfrm>
            <a:prstGeom prst="downArrow">
              <a:avLst>
                <a:gd name="adj1" fmla="val 50000"/>
                <a:gd name="adj2" fmla="val 50342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5"/>
          <p:cNvSpPr/>
          <p:nvPr/>
        </p:nvSpPr>
        <p:spPr>
          <a:xfrm>
            <a:off x="4293000" y="607212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724080" y="610380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OSTER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8"/>
          <p:cNvSpPr/>
          <p:nvPr/>
        </p:nvSpPr>
        <p:spPr>
          <a:xfrm>
            <a:off x="6143760" y="1500120"/>
            <a:ext cx="2062080" cy="4481640"/>
          </a:xfrm>
          <a:custGeom>
            <a:avLst/>
            <a:gdLst/>
            <a:ahLst/>
            <a:rect l="l" t="t" r="r" b="b"/>
            <a:pathLst>
              <a:path w="2062018" h="4481945">
                <a:moveTo>
                  <a:pt x="882073" y="0"/>
                </a:moveTo>
                <a:cubicBezTo>
                  <a:pt x="883227" y="196273"/>
                  <a:pt x="884381" y="392546"/>
                  <a:pt x="798945" y="609600"/>
                </a:cubicBezTo>
                <a:cubicBezTo>
                  <a:pt x="713509" y="826654"/>
                  <a:pt x="318654" y="1263073"/>
                  <a:pt x="369454" y="1302327"/>
                </a:cubicBezTo>
                <a:cubicBezTo>
                  <a:pt x="420254" y="1341581"/>
                  <a:pt x="907472" y="949036"/>
                  <a:pt x="1103745" y="845127"/>
                </a:cubicBezTo>
                <a:cubicBezTo>
                  <a:pt x="1300018" y="741218"/>
                  <a:pt x="1399309" y="648855"/>
                  <a:pt x="1547091" y="678873"/>
                </a:cubicBezTo>
                <a:cubicBezTo>
                  <a:pt x="1694873" y="708891"/>
                  <a:pt x="1918854" y="870527"/>
                  <a:pt x="1990436" y="1025236"/>
                </a:cubicBezTo>
                <a:cubicBezTo>
                  <a:pt x="2062018" y="1179945"/>
                  <a:pt x="1995055" y="1209963"/>
                  <a:pt x="1976582" y="1607127"/>
                </a:cubicBezTo>
                <a:cubicBezTo>
                  <a:pt x="1958109" y="2004291"/>
                  <a:pt x="2001982" y="2955636"/>
                  <a:pt x="1879600" y="3408218"/>
                </a:cubicBezTo>
                <a:cubicBezTo>
                  <a:pt x="1757218" y="3860800"/>
                  <a:pt x="1440873" y="4163291"/>
                  <a:pt x="1242291" y="4322618"/>
                </a:cubicBezTo>
                <a:cubicBezTo>
                  <a:pt x="1043709" y="4481945"/>
                  <a:pt x="835891" y="4414982"/>
                  <a:pt x="688109" y="4364182"/>
                </a:cubicBezTo>
                <a:cubicBezTo>
                  <a:pt x="540327" y="4313382"/>
                  <a:pt x="401782" y="4184073"/>
                  <a:pt x="355600" y="4017818"/>
                </a:cubicBezTo>
                <a:cubicBezTo>
                  <a:pt x="309418" y="3851563"/>
                  <a:pt x="443345" y="3692236"/>
                  <a:pt x="411018" y="3366654"/>
                </a:cubicBezTo>
                <a:cubicBezTo>
                  <a:pt x="378691" y="3041072"/>
                  <a:pt x="226291" y="2295236"/>
                  <a:pt x="161636" y="2064327"/>
                </a:cubicBezTo>
                <a:cubicBezTo>
                  <a:pt x="96982" y="1833418"/>
                  <a:pt x="46182" y="1992746"/>
                  <a:pt x="23091" y="1981200"/>
                </a:cubicBezTo>
                <a:cubicBezTo>
                  <a:pt x="0" y="1969655"/>
                  <a:pt x="11545" y="1982354"/>
                  <a:pt x="23091" y="199505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Up-Down Arrow 14"/>
          <p:cNvSpPr/>
          <p:nvPr/>
        </p:nvSpPr>
        <p:spPr>
          <a:xfrm>
            <a:off x="8501040" y="1143000"/>
            <a:ext cx="46080" cy="4857840"/>
          </a:xfrm>
          <a:prstGeom prst="upDownArrow">
            <a:avLst>
              <a:gd name="adj1" fmla="val 50000"/>
              <a:gd name="adj2" fmla="val 497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8527320" y="35719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2"/>
          <p:cNvSpPr/>
          <p:nvPr/>
        </p:nvSpPr>
        <p:spPr>
          <a:xfrm>
            <a:off x="3978360" y="1558800"/>
            <a:ext cx="1938240" cy="4044960"/>
          </a:xfrm>
          <a:custGeom>
            <a:avLst/>
            <a:gdLst/>
            <a:ahLst/>
            <a:rect l="l" t="t" r="r" b="b"/>
            <a:pathLst>
              <a:path w="1937326" h="4045527">
                <a:moveTo>
                  <a:pt x="1313872" y="990600"/>
                </a:moveTo>
                <a:cubicBezTo>
                  <a:pt x="1348509" y="1200727"/>
                  <a:pt x="1438564" y="1491673"/>
                  <a:pt x="1521691" y="1669473"/>
                </a:cubicBezTo>
                <a:cubicBezTo>
                  <a:pt x="1604818" y="1847273"/>
                  <a:pt x="1745673" y="1905000"/>
                  <a:pt x="1812636" y="2057400"/>
                </a:cubicBezTo>
                <a:cubicBezTo>
                  <a:pt x="1879599" y="2209800"/>
                  <a:pt x="1937326" y="2410691"/>
                  <a:pt x="1923472" y="2583873"/>
                </a:cubicBezTo>
                <a:cubicBezTo>
                  <a:pt x="1909618" y="2757055"/>
                  <a:pt x="1782618" y="2960255"/>
                  <a:pt x="1729509" y="3096491"/>
                </a:cubicBezTo>
                <a:cubicBezTo>
                  <a:pt x="1676400" y="3232727"/>
                  <a:pt x="1623291" y="3269673"/>
                  <a:pt x="1604818" y="3401291"/>
                </a:cubicBezTo>
                <a:cubicBezTo>
                  <a:pt x="1586345" y="3532909"/>
                  <a:pt x="1618672" y="3791527"/>
                  <a:pt x="1618672" y="3886200"/>
                </a:cubicBezTo>
                <a:cubicBezTo>
                  <a:pt x="1618672" y="3980873"/>
                  <a:pt x="1644073" y="3943928"/>
                  <a:pt x="1604818" y="3969328"/>
                </a:cubicBezTo>
                <a:cubicBezTo>
                  <a:pt x="1565564" y="3994728"/>
                  <a:pt x="1443181" y="4036291"/>
                  <a:pt x="1383145" y="4038600"/>
                </a:cubicBezTo>
                <a:cubicBezTo>
                  <a:pt x="1323109" y="4040909"/>
                  <a:pt x="1339273" y="4045527"/>
                  <a:pt x="1244600" y="3983182"/>
                </a:cubicBezTo>
                <a:cubicBezTo>
                  <a:pt x="1149927" y="3920837"/>
                  <a:pt x="900546" y="3759201"/>
                  <a:pt x="815109" y="3664528"/>
                </a:cubicBezTo>
                <a:cubicBezTo>
                  <a:pt x="729673" y="3569855"/>
                  <a:pt x="768926" y="3477491"/>
                  <a:pt x="731981" y="3415146"/>
                </a:cubicBezTo>
                <a:cubicBezTo>
                  <a:pt x="695036" y="3352801"/>
                  <a:pt x="706581" y="3489037"/>
                  <a:pt x="593436" y="3290455"/>
                </a:cubicBezTo>
                <a:cubicBezTo>
                  <a:pt x="480291" y="3091873"/>
                  <a:pt x="106218" y="2523837"/>
                  <a:pt x="53109" y="2223655"/>
                </a:cubicBezTo>
                <a:cubicBezTo>
                  <a:pt x="0" y="1923473"/>
                  <a:pt x="265545" y="1674091"/>
                  <a:pt x="274781" y="1489364"/>
                </a:cubicBezTo>
                <a:cubicBezTo>
                  <a:pt x="284017" y="1304637"/>
                  <a:pt x="117763" y="1279236"/>
                  <a:pt x="108527" y="1115291"/>
                </a:cubicBezTo>
                <a:cubicBezTo>
                  <a:pt x="99291" y="951346"/>
                  <a:pt x="136236" y="678873"/>
                  <a:pt x="219363" y="505691"/>
                </a:cubicBezTo>
                <a:cubicBezTo>
                  <a:pt x="302490" y="332509"/>
                  <a:pt x="510309" y="152400"/>
                  <a:pt x="607291" y="76200"/>
                </a:cubicBezTo>
                <a:cubicBezTo>
                  <a:pt x="704273" y="0"/>
                  <a:pt x="711200" y="36946"/>
                  <a:pt x="801254" y="48491"/>
                </a:cubicBezTo>
                <a:cubicBezTo>
                  <a:pt x="891309" y="60037"/>
                  <a:pt x="1062182" y="85437"/>
                  <a:pt x="1147618" y="145473"/>
                </a:cubicBezTo>
                <a:cubicBezTo>
                  <a:pt x="1233054" y="205509"/>
                  <a:pt x="1286163" y="272473"/>
                  <a:pt x="1313872" y="408709"/>
                </a:cubicBezTo>
                <a:cubicBezTo>
                  <a:pt x="1341581" y="544945"/>
                  <a:pt x="1279236" y="780473"/>
                  <a:pt x="1313872" y="990600"/>
                </a:cubicBez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4" descr=""/>
          <p:cNvPicPr/>
          <p:nvPr/>
        </p:nvPicPr>
        <p:blipFill>
          <a:blip r:embed="rId1"/>
          <a:stretch/>
        </p:blipFill>
        <p:spPr>
          <a:xfrm>
            <a:off x="500040" y="987480"/>
            <a:ext cx="5657760" cy="441468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23"/>
          <p:cNvGrpSpPr/>
          <p:nvPr/>
        </p:nvGrpSpPr>
        <p:grpSpPr>
          <a:xfrm>
            <a:off x="3710160" y="1917720"/>
            <a:ext cx="5148000" cy="4349880"/>
            <a:chOff x="3710160" y="1917720"/>
            <a:chExt cx="5148000" cy="4349880"/>
          </a:xfrm>
        </p:grpSpPr>
        <p:grpSp>
          <p:nvGrpSpPr>
            <p:cNvPr id="66" name="Group 16"/>
            <p:cNvGrpSpPr/>
            <p:nvPr/>
          </p:nvGrpSpPr>
          <p:grpSpPr>
            <a:xfrm>
              <a:off x="3710160" y="1917720"/>
              <a:ext cx="1801440" cy="4349880"/>
              <a:chOff x="3710160" y="1917720"/>
              <a:chExt cx="1801440" cy="4349880"/>
            </a:xfrm>
          </p:grpSpPr>
          <p:sp>
            <p:nvSpPr>
              <p:cNvPr id="67" name="Freeform 11"/>
              <p:cNvSpPr/>
              <p:nvPr/>
            </p:nvSpPr>
            <p:spPr>
              <a:xfrm>
                <a:off x="4462560" y="1917720"/>
                <a:ext cx="1049040" cy="1623960"/>
              </a:xfrm>
              <a:custGeom>
                <a:avLst/>
                <a:gdLst/>
                <a:ahLst/>
                <a:rect l="l" t="t" r="r" b="b"/>
                <a:pathLst>
                  <a:path w="1049593" h="1624781">
                    <a:moveTo>
                      <a:pt x="671052" y="0"/>
                    </a:moveTo>
                    <a:cubicBezTo>
                      <a:pt x="538317" y="0"/>
                      <a:pt x="304800" y="76200"/>
                      <a:pt x="199103" y="176981"/>
                    </a:cubicBezTo>
                    <a:cubicBezTo>
                      <a:pt x="93406" y="277762"/>
                      <a:pt x="0" y="439994"/>
                      <a:pt x="36871" y="604684"/>
                    </a:cubicBezTo>
                    <a:cubicBezTo>
                      <a:pt x="73742" y="769374"/>
                      <a:pt x="349045" y="1022555"/>
                      <a:pt x="420329" y="1165123"/>
                    </a:cubicBezTo>
                    <a:cubicBezTo>
                      <a:pt x="491613" y="1307691"/>
                      <a:pt x="454742" y="1388807"/>
                      <a:pt x="464574" y="1460091"/>
                    </a:cubicBezTo>
                    <a:cubicBezTo>
                      <a:pt x="474406" y="1531375"/>
                      <a:pt x="457200" y="1568245"/>
                      <a:pt x="479323" y="1592826"/>
                    </a:cubicBezTo>
                    <a:cubicBezTo>
                      <a:pt x="501446" y="1617407"/>
                      <a:pt x="530942" y="1624781"/>
                      <a:pt x="597310" y="1607575"/>
                    </a:cubicBezTo>
                    <a:cubicBezTo>
                      <a:pt x="663678" y="1590369"/>
                      <a:pt x="808703" y="1511710"/>
                      <a:pt x="877529" y="1489587"/>
                    </a:cubicBezTo>
                    <a:cubicBezTo>
                      <a:pt x="946355" y="1467464"/>
                      <a:pt x="1002891" y="1526458"/>
                      <a:pt x="1010265" y="1474839"/>
                    </a:cubicBezTo>
                    <a:cubicBezTo>
                      <a:pt x="1017639" y="1423220"/>
                      <a:pt x="926690" y="1315064"/>
                      <a:pt x="921774" y="1179871"/>
                    </a:cubicBezTo>
                    <a:cubicBezTo>
                      <a:pt x="916858" y="1044678"/>
                      <a:pt x="968478" y="830826"/>
                      <a:pt x="980768" y="663678"/>
                    </a:cubicBezTo>
                    <a:cubicBezTo>
                      <a:pt x="993058" y="496530"/>
                      <a:pt x="1049593" y="290052"/>
                      <a:pt x="995516" y="176981"/>
                    </a:cubicBezTo>
                    <a:cubicBezTo>
                      <a:pt x="941439" y="63910"/>
                      <a:pt x="803787" y="0"/>
                      <a:pt x="671052" y="0"/>
                    </a:cubicBez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4"/>
              <p:cNvSpPr/>
              <p:nvPr/>
            </p:nvSpPr>
            <p:spPr>
              <a:xfrm>
                <a:off x="3710160" y="3706920"/>
                <a:ext cx="1434960" cy="2560680"/>
              </a:xfrm>
              <a:custGeom>
                <a:avLst/>
                <a:gdLst/>
                <a:ahLst/>
                <a:rect l="l" t="t" r="r" b="b"/>
                <a:pathLst>
                  <a:path w="1435510" h="2561303">
                    <a:moveTo>
                      <a:pt x="184355" y="127820"/>
                    </a:moveTo>
                    <a:cubicBezTo>
                      <a:pt x="117987" y="181898"/>
                      <a:pt x="44246" y="277762"/>
                      <a:pt x="22123" y="393291"/>
                    </a:cubicBezTo>
                    <a:cubicBezTo>
                      <a:pt x="0" y="508820"/>
                      <a:pt x="4917" y="678426"/>
                      <a:pt x="51620" y="820994"/>
                    </a:cubicBezTo>
                    <a:cubicBezTo>
                      <a:pt x="98323" y="963562"/>
                      <a:pt x="280220" y="1071716"/>
                      <a:pt x="302342" y="1248697"/>
                    </a:cubicBezTo>
                    <a:cubicBezTo>
                      <a:pt x="324464" y="1425678"/>
                      <a:pt x="206477" y="1728020"/>
                      <a:pt x="184355" y="1882878"/>
                    </a:cubicBezTo>
                    <a:cubicBezTo>
                      <a:pt x="162233" y="2037736"/>
                      <a:pt x="68826" y="2067232"/>
                      <a:pt x="169607" y="2177845"/>
                    </a:cubicBezTo>
                    <a:cubicBezTo>
                      <a:pt x="270388" y="2288458"/>
                      <a:pt x="599768" y="2531807"/>
                      <a:pt x="789039" y="2546555"/>
                    </a:cubicBezTo>
                    <a:cubicBezTo>
                      <a:pt x="978310" y="2561303"/>
                      <a:pt x="1201994" y="2413820"/>
                      <a:pt x="1305233" y="2266336"/>
                    </a:cubicBezTo>
                    <a:cubicBezTo>
                      <a:pt x="1408472" y="2118852"/>
                      <a:pt x="1401097" y="1858297"/>
                      <a:pt x="1408471" y="1661652"/>
                    </a:cubicBezTo>
                    <a:cubicBezTo>
                      <a:pt x="1415845" y="1465007"/>
                      <a:pt x="1435510" y="1273278"/>
                      <a:pt x="1349478" y="1086465"/>
                    </a:cubicBezTo>
                    <a:cubicBezTo>
                      <a:pt x="1263446" y="899652"/>
                      <a:pt x="1047136" y="710381"/>
                      <a:pt x="892278" y="540774"/>
                    </a:cubicBezTo>
                    <a:cubicBezTo>
                      <a:pt x="737420" y="371168"/>
                      <a:pt x="540774" y="137652"/>
                      <a:pt x="420329" y="68826"/>
                    </a:cubicBezTo>
                    <a:cubicBezTo>
                      <a:pt x="299884" y="0"/>
                      <a:pt x="250723" y="73742"/>
                      <a:pt x="184355" y="127820"/>
                    </a:cubicBez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Box 21"/>
            <p:cNvSpPr/>
            <p:nvPr/>
          </p:nvSpPr>
          <p:spPr>
            <a:xfrm>
              <a:off x="6501240" y="2643480"/>
              <a:ext cx="23569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2000" spc="-1" strike="noStrike">
                  <a:solidFill>
                    <a:srgbClr val="000000"/>
                  </a:solidFill>
                  <a:latin typeface="Arial"/>
                </a:rPr>
                <a:t>A pyogenic membrane lines the surrounding cys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5"/>
          <p:cNvGrpSpPr/>
          <p:nvPr/>
        </p:nvGrpSpPr>
        <p:grpSpPr>
          <a:xfrm>
            <a:off x="3360600" y="714240"/>
            <a:ext cx="5569200" cy="4596120"/>
            <a:chOff x="3360600" y="714240"/>
            <a:chExt cx="5569200" cy="4596120"/>
          </a:xfrm>
        </p:grpSpPr>
        <p:grpSp>
          <p:nvGrpSpPr>
            <p:cNvPr id="71" name="Group 22"/>
            <p:cNvGrpSpPr/>
            <p:nvPr/>
          </p:nvGrpSpPr>
          <p:grpSpPr>
            <a:xfrm>
              <a:off x="3360600" y="714240"/>
              <a:ext cx="5569200" cy="4596120"/>
              <a:chOff x="3360600" y="714240"/>
              <a:chExt cx="5569200" cy="4596120"/>
            </a:xfrm>
          </p:grpSpPr>
          <p:sp>
            <p:nvSpPr>
              <p:cNvPr id="72" name="TextBox 2"/>
              <p:cNvSpPr/>
              <p:nvPr/>
            </p:nvSpPr>
            <p:spPr>
              <a:xfrm>
                <a:off x="6429600" y="714240"/>
                <a:ext cx="250020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ZA" sz="2000" spc="-1" strike="noStrike">
                    <a:solidFill>
                      <a:srgbClr val="000000"/>
                    </a:solidFill>
                    <a:latin typeface="Arial"/>
                  </a:rPr>
                  <a:t>The greatly thickened cauda equina passes out to be incorporated in the posterior wall of the cyst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360600" y="722160"/>
                <a:ext cx="2102040" cy="458820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ZA" sz="1800" spc="-1" strike="noStrike">
                    <a:solidFill>
                      <a:srgbClr val="000000"/>
                    </a:solidFill>
                    <a:latin typeface="Calibri"/>
                  </a:rPr>
                  <a:t>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Freeform 12"/>
            <p:cNvSpPr/>
            <p:nvPr/>
          </p:nvSpPr>
          <p:spPr>
            <a:xfrm>
              <a:off x="3485880" y="987120"/>
              <a:ext cx="2162160" cy="2846520"/>
            </a:xfrm>
            <a:custGeom>
              <a:avLst/>
              <a:gdLst/>
              <a:ahLst/>
              <a:rect l="l" t="t" r="r" b="b"/>
              <a:pathLst>
                <a:path w="2163096" h="2846439">
                  <a:moveTo>
                    <a:pt x="585019" y="0"/>
                  </a:moveTo>
                  <a:cubicBezTo>
                    <a:pt x="376083" y="502674"/>
                    <a:pt x="167148" y="1005349"/>
                    <a:pt x="83574" y="1253613"/>
                  </a:cubicBezTo>
                  <a:cubicBezTo>
                    <a:pt x="0" y="1501878"/>
                    <a:pt x="49161" y="1425677"/>
                    <a:pt x="83574" y="1489587"/>
                  </a:cubicBezTo>
                  <a:cubicBezTo>
                    <a:pt x="117987" y="1553497"/>
                    <a:pt x="231058" y="1600200"/>
                    <a:pt x="290051" y="1637071"/>
                  </a:cubicBezTo>
                  <a:cubicBezTo>
                    <a:pt x="349044" y="1673942"/>
                    <a:pt x="353961" y="1715729"/>
                    <a:pt x="437535" y="1710813"/>
                  </a:cubicBezTo>
                  <a:cubicBezTo>
                    <a:pt x="521109" y="1705897"/>
                    <a:pt x="666135" y="1605116"/>
                    <a:pt x="791496" y="1607574"/>
                  </a:cubicBezTo>
                  <a:cubicBezTo>
                    <a:pt x="916857" y="1610032"/>
                    <a:pt x="1086464" y="1629697"/>
                    <a:pt x="1189703" y="1725561"/>
                  </a:cubicBezTo>
                  <a:cubicBezTo>
                    <a:pt x="1292942" y="1821426"/>
                    <a:pt x="1371600" y="2074606"/>
                    <a:pt x="1410929" y="2182761"/>
                  </a:cubicBezTo>
                  <a:cubicBezTo>
                    <a:pt x="1450258" y="2290916"/>
                    <a:pt x="1433051" y="2315496"/>
                    <a:pt x="1425677" y="2374490"/>
                  </a:cubicBezTo>
                  <a:cubicBezTo>
                    <a:pt x="1418303" y="2433484"/>
                    <a:pt x="1339644" y="2499852"/>
                    <a:pt x="1366683" y="2536723"/>
                  </a:cubicBezTo>
                  <a:cubicBezTo>
                    <a:pt x="1393722" y="2573594"/>
                    <a:pt x="1511709" y="2578510"/>
                    <a:pt x="1587909" y="2595716"/>
                  </a:cubicBezTo>
                  <a:cubicBezTo>
                    <a:pt x="1664109" y="2612922"/>
                    <a:pt x="1728018" y="2598174"/>
                    <a:pt x="1823883" y="2639961"/>
                  </a:cubicBezTo>
                  <a:cubicBezTo>
                    <a:pt x="1919748" y="2681748"/>
                    <a:pt x="2163096" y="2846439"/>
                    <a:pt x="2163096" y="2846439"/>
                  </a:cubicBezTo>
                  <a:lnTo>
                    <a:pt x="2163096" y="2846439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5580000" y="5157720"/>
            <a:ext cx="3529080" cy="16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4314960" y="847800"/>
            <a:ext cx="4209840" cy="5118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6840" y="857160"/>
            <a:ext cx="32576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 suppurative exudate is present in the subarachnoid space of the brain, especially around the midbrain and p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is is a myelomeningocoele (or meningomyelocoele) since both meninges and neural tissue have extended though the defect in the spinal colum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major complications are neurological deficit in the lower limbs and in bowel and bladder control, as well as infection, which in this case has ascended to cause a fatal meningiti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376092"/>
                </a:solidFill>
                <a:latin typeface="Calibri"/>
              </a:rPr>
              <a:t>Related specime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XII:i:1  Anencepha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0000"/>
                </a:solidFill>
                <a:latin typeface="Calibri"/>
              </a:rPr>
              <a:t>Click here for 3D 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XII:i:5  Meningocoele</a:t>
            </a: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XII:i:8  Encephalocoe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27367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89000" y="189000"/>
            <a:ext cx="8847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363600" y="558720"/>
            <a:ext cx="849780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 selection of cases from the Digital Pathology Collection by the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Department of Clinical Laboratory 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s licensed under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reative Commons Attribution-NonCommercial-ShareAlike 2.5 South Africa Lic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 full Digital Pathology Collection is accessible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www.digitalpathology.uct.ac.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f you would like to use an image or other item from our site that is not labelled with the Creative Commons Licence Logo, please contact the curator for permi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3529080" y="804960"/>
            <a:ext cx="194148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4:01:30Z</dcterms:created>
  <dc:creator>New Win User</dc:creator>
  <dc:description/>
  <dc:language>en-US</dc:language>
  <cp:lastModifiedBy>Sam</cp:lastModifiedBy>
  <dcterms:modified xsi:type="dcterms:W3CDTF">2011-09-10T23:04:02Z</dcterms:modified>
  <cp:revision>62</cp:revision>
  <dc:subject/>
  <dc:title>Slide 1</dc:title>
</cp:coreProperties>
</file>